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0C63B-F1D9-4D96-97A1-9022D7938C5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g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oplasty (also known as percutaneous coronary intervention or PCI). In this operation a collapsed balloon is threaded through the blood vessels until it reaches the arteries of the heart. The balloon is inflated to widen the narrowed coronary artery. A stent (flexible mesh tube) is sometimes inserted to help keep the artery open afterwards. The stent sometimes releases a drug that helps to keep the blood vessel open. You should be able to go home the day after the oper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artery bypass graft (CABG). In this operation, the surgeon takes a piece of blood vessel from your leg or chest and uses it to bypass the narrowed coronary arteries. The bypass provides the heart with more blood. This is open-heart surgery and requires a longer stay in hospit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g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oplasty (also known as percutaneous coronary intervention or PCI). In this operation a collapsed balloon is threaded through the blood vessels until it reaches the arteries of the heart. The balloon is inflated to widen the narrowed coronary artery. A stent (flexible mesh tube) is sometimes inserted to help keep the artery open afterwards. The stent sometimes releases a drug that helps to keep the blood vessel open. You should be able to go home the day after the ope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artery bypass graft (CABG). In this operation, the surgeon takes a piece of blood vessel from your leg or chest and uses it to bypass the narrowed coronary arteries. The bypass provides the heart with more blood. This is open-heart surgery and requires a longer stay in hospi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CHD) is a narrowing of the small blood vessels that supply blood and oxygen to the hear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is usually caused by a condition called atherosclerosis, which occurs when fatty material and a substance called plaque build up on the walls of your arteries. This causes them to get narrow. As the coronary arteries narrow, blood flow to the heart can slow down or stop. This can cause chest pain (stable angina), shortness of breath, heart attack, and other symp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CHD) is the leading cause of 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CHD) is a narrowing of the small blood vessels that supply blood and oxygen to the he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is usually caused by a condition called atherosclerosis, which occurs when fatty material and a substance called plaque build up on the walls of your arteries. This causes them to get narrow. As the coronary arteries narrow, blood flow to the heart can slow down or stop. This can cause chest pain (stable angina), shortness of breath, heart attack, and other 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CHD) is the leading cause of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herosclerosis, fat and cholesterol in your blood builds up on an artery wall, forming a plaque or atheroma. The plaque can prevent the heart muscle from getting the blood supply (and therefore oxygen) that it needs. If you have atherosclerosis, physical exertion or emotional stress can bring on chest pain called angina (see What can coronary heart disease cau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reduced blood flow and the rough edges of the plaque, a blood clot sometimes forms. This can block the artery. Or the plaque may rupture, which also causes the blood to clot. This is called atherothromb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rothrombosis stops an area of the heart muscle receiving blood and oxygen, leading to permanent damage. This is called a myocardial infarction (MI), or heart attack. If a lot of your heart muscle is damaged your heart may stop beating regularly, or stop beating at all. This is fatal (see What can coronary heart disease ca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herosclerosis, fat and cholesterol in your blood builds up on an artery wall, forming a plaque or atheroma. The plaque can prevent the heart muscle from getting the blood supply (and therefore oxygen) that it needs. If you have atherosclerosis, physical exertion or emotional stress can bring on chest pain called angina (see What can coronary heart disease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reduced blood flow and the rough edges of the plaque, a blood clot sometimes forms. This can block the artery. Or the plaque may rupture, which also causes the blood to clot. This is called atherothromb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rothrombosis stops an area of the heart muscle receiving blood and oxygen, leading to permanent damage. This is called a myocardial infarction (MI), or heart attack. If a lot of your heart muscle is damaged your heart may stop beating regularly, or stop beating at all. This is fatal (see What can coronary heart disease c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d genes (heredity) can increase your risk. You are more likely to develop the condition if someone in your family has had a history of heart disease -- especially if they had it before age 50. Your risk for CHD goes up the older you ge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es is a strong risk factor for heart dise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blood pressure increases your risk of coronary artery disease and heart fail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normal cholesterol levels: your LDL ("bad") cholesterol should be as low as possible, and your HDL ("good") cholesterol should be as high as possi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syndrome refers to high triglyceride levels, high blood pressure, excess body fat around the waist, and increased insulin levels. People with this group of problems have an increased chance of getting heart dise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ers have a much higher risk of heart disease than nonsmok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kidney disease can increase your ris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ready having atherosclerosis or hardening of the arteries in another part of your body (examples are stroke and abdominal aortic aneurysm) increases your risk of having coronary heart dise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risk factors including alcohol abuse, not getting enough exercise, and excessive amounts of stre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d genes (heredity) can increase your risk. You are more likely to develop the condition if someone in your family has had a history of heart disease -- especially if they had it before age 50. Your risk for CHD goes up the older you g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es is a strong risk factor for heart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blood pressure increases your risk of coronary artery disease and heart fail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normal cholesterol levels: your LDL ("bad") cholesterol should be as low as possible, and your HDL ("good") cholesterol should be as high as pos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syndrome refers to high triglyceride levels, high blood pressure, excess body fat around the waist, and increased insulin levels. People with this group of problems have an increased chance of getting heart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ers have a much higher risk of heart disease than nonsmok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kidney disease can increase your ris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ready having atherosclerosis or hardening of the arteries in another part of your body (examples are stroke and abdominal aortic aneurysm) increases your risk of having coronary heart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risk factors including alcohol abuse, not getting enough exercise, and excessive amounts of str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st pain or discomfort (angina) is the most common symptom. You feel this pain when the heart is not getting enough blood or oxygen. How bad the pain is varies from person to p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y feel heavy or like someone is squeezing your heart. You feel it under your breast bone (sternum), but also in your neck, arms, stomach, or upper bac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in usually occurs with activity or emotion, and goes away with rest or a medicine called nitroglyceri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symptoms include shortness of breath and fatigue with activity (exer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st pain or discomfort (angina) is the most common symptom. You feel this pain when the heart is not getting enough blood or oxygen. How bad the pain is varies from person to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y feel heavy or like someone is squeezing your heart. You feel it under your breast bone (sternum), but also in your neck, arms, stomach, or upper b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in usually occurs with activity or emotion, and goes away with rest or a medicine called nitroglycer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symptoms include shortness of breath and fatigue with activity (exer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ests help diagnose CHD. Usually, your doctor will order more than one test before making a definite diagn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cardiogram (EC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stress tes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ocardiogra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sc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beam computed tomography (EBCT) to look for calcium in the lining of the arteries -- the more calcium, the higher your chance for CH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T angiography -- a noninvasive way to perform coronary angiograph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ic resonance angiograph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angiography/arteriography -- an invasive procedure designed to evaluate the heart arteries under x-r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ests help diagnose CHD. Usually, your doctor will order more than one test before making a definite diagn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cardiogram (EC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stress t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ocardi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sc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beam computed tomography (EBCT) to look for calcium in the lining of the arteries -- the more calcium, the higher your chance for CH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T angiography -- a noninvasive way to perform coronary angiograph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ic resonance angiograph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angiography/arteriography -- an invasive procedure designed to evaluate the heart arteries under x-r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or reduce stress as best as you c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smo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well-balanced meals that are low in fat and cholesterol and include several daily servings of fruits and vegetab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egular exercise. If your weight is considered normal, get at least 30 minutes of exercise every day. If you are overweight or obese, experts say you should get 60 - 90 minutes of exercise every d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blood pressure below 130/80 mmHg if you have diabetes or chronic kidney disease, and below 140/90 otherwi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cholesterol and blood sugar under contro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ate amounts of alcohol (one glass a day for women, two for men) may reduce your risk of cardiovascular problems. However, drinking larger amounts does more harm than g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or reduce stress as best as you c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smo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well-balanced meals that are low in fat and cholesterol and include several daily servings of fruits and vegeta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egular exercise. If your weight is considered normal, get at least 30 minutes of exercise every day. If you are overweight or obese, experts say you should get 60 - 90 minutes of exercise every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blood pressure below 130/80 mmHg if you have diabetes or chronic kidney disease, and below 140/90 otherw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cholesterol and blood sugar under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ate amounts of alcohol (one glass a day for women, two for men) may reduce your risk of cardiovascular problems. However, drinking larger amounts does more harm than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na is a type of chest discomfort caused by poor blood flow through the blood vessels (coronary vessels) of the heart muscle (myocardi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na is a type of chest discomfort caused by poor blood flow through the blood vessels (coronary vessels) of the heart muscle (myocard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having a heart attack, or if you develop angina, you will usually be prescribed heart medicines to help stop your heart disease getting worse or to prevent further heart attacks. Some examples are listed below. Always read the patient information that comes with your medicine, and follow your doctor's advi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pirin. Taking a small (75 mg) daily dose of aspirin makes your blood less likely to form clots in your coronary arteries and reduces your risk of having a heart attac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ns. These drugs help to lower your cholesterol levels and so slow down the process of atheroscleros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a-blockers. These drugs slow your heart rate and reduce the pumping power of the heart. This reduces your heart's demand for oxygen. Beta-blockers also widen blood vessels helping to lower blood press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E inhibitors. These drugs are often used in people with heart failure or after a heart attack. They lower your blood press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having a heart attack, or if you develop angina, you will usually be prescribed heart medicines to help stop your heart disease getting worse or to prevent further heart attacks. Some examples are listed below. Always read the patient information that comes with your medicine, and follow your doctor's ad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pirin. Taking a small (75 mg) daily dose of aspirin makes your blood less likely to form clots in your coronary arteries and reduces your risk of having a heart att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ns. These drugs help to lower your cholesterol levels and so slow down the process of atherosclero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a-blockers. These drugs slow your heart rate and reduce the pumping power of the heart. This reduces your heart's demand for oxygen. Beta-blockers also widen blood vessels helping to lower blood pres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E inhibitors. These drugs are often used in people with heart failure or after a heart attack. They lower your blood pres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928136-3CF8-4C5C-A352-7F236C2A6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784D8-9A97-4E64-A141-5E09A4E34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19F26-9E53-46C1-8309-E0F3083C0F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198FB7-B138-482A-85F3-D2E30CF4A1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E367C-B7E0-40E8-867C-C00766F41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5E341-137B-41E6-893C-38102B501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58DA5-2C72-484B-9827-DE4253794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37A64-AEBD-490E-8D95-10D796603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F1D23-6A5E-48B0-9FC6-D12E48C09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0C1B9-03D1-4888-BB51-4BF9B7D83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A84A7-FA82-41D8-A751-E55A15DAD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957D8-190B-4293-954D-952F0E2D24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E8F71-EC03-41B0-AD61-E142C3E2070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hyperlink" Target="http://www.nlm.nih.gov/medlineplus/ency/article/000171.htm" TargetMode="External"/><Relationship Id="rId2" Type="http://schemas.openxmlformats.org/officeDocument/2006/relationships/hyperlink" Target="http://www.nlm.nih.gov/medlineplus/ency/article/001107.htm" TargetMode="External"/><Relationship Id="rId3" Type="http://schemas.openxmlformats.org/officeDocument/2006/relationships/hyperlink" Target="http://www.nlm.nih.gov/medlineplus/ency/article/000195.htm"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nlm.nih.gov/medlineplus/ency/article/001214.htm" TargetMode="External"/><Relationship Id="rId2" Type="http://schemas.openxmlformats.org/officeDocument/2006/relationships/hyperlink" Target="http://www.nlm.nih.gov/medlineplus/ency/article/000468.htm" TargetMode="External"/><Relationship Id="rId3" Type="http://schemas.openxmlformats.org/officeDocument/2006/relationships/hyperlink" Target="http://www.nlm.nih.gov/medlineplus/ency/article/003495.htm" TargetMode="External"/><Relationship Id="rId4" Type="http://schemas.openxmlformats.org/officeDocument/2006/relationships/hyperlink" Target="http://www.nlm.nih.gov/medlineplus/ency/article/003496.htm" TargetMode="External"/><Relationship Id="rId5" Type="http://schemas.openxmlformats.org/officeDocument/2006/relationships/hyperlink" Target="http://www.nlm.nih.gov/medlineplus/ency/article/007290.htm" TargetMode="External"/><Relationship Id="rId6" Type="http://schemas.openxmlformats.org/officeDocument/2006/relationships/hyperlink" Target="http://www.nlm.nih.gov/medlineplus/ency/article/003493.htm" TargetMode="External"/><Relationship Id="rId7" Type="http://schemas.openxmlformats.org/officeDocument/2006/relationships/hyperlink" Target="http://www.nlm.nih.gov/medlineplus/ency/article/000457.htm" TargetMode="External"/><Relationship Id="rId8" Type="http://schemas.openxmlformats.org/officeDocument/2006/relationships/hyperlink" Target="http://www.nlm.nih.gov/medlineplus/ency/article/000726.htm" TargetMode="External"/><Relationship Id="rId9" Type="http://schemas.openxmlformats.org/officeDocument/2006/relationships/hyperlink" Target="http://www.nlm.nih.gov/medlineplus/ency/article/000162.htm" TargetMode="External"/><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nlm.nih.gov/medlineplus/ency/article/001107.htm"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nlm.nih.gov/medlineplus/ency/article/003868.htm"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49" name="Picture 5" descr=""/>
          <p:cNvPicPr/>
          <p:nvPr/>
        </p:nvPicPr>
        <p:blipFill>
          <a:blip r:embed="rId1"/>
          <a:stretch/>
        </p:blipFill>
        <p:spPr>
          <a:xfrm>
            <a:off x="0" y="3789360"/>
            <a:ext cx="4722840" cy="2556000"/>
          </a:xfrm>
          <a:prstGeom prst="rect">
            <a:avLst/>
          </a:prstGeom>
          <a:ln w="0">
            <a:noFill/>
          </a:ln>
        </p:spPr>
      </p:pic>
      <p:pic>
        <p:nvPicPr>
          <p:cNvPr id="50" name="Picture 6" descr=""/>
          <p:cNvPicPr/>
          <p:nvPr/>
        </p:nvPicPr>
        <p:blipFill>
          <a:blip r:embed="rId2"/>
          <a:stretch/>
        </p:blipFill>
        <p:spPr>
          <a:xfrm>
            <a:off x="4211640" y="476280"/>
            <a:ext cx="4500720" cy="2736720"/>
          </a:xfrm>
          <a:prstGeom prst="rect">
            <a:avLst/>
          </a:prstGeom>
          <a:ln w="0">
            <a:noFill/>
          </a:ln>
        </p:spPr>
      </p:pic>
      <p:pic>
        <p:nvPicPr>
          <p:cNvPr id="51" name="Picture 7" descr=""/>
          <p:cNvPicPr/>
          <p:nvPr/>
        </p:nvPicPr>
        <p:blipFill>
          <a:blip r:embed="rId3"/>
          <a:stretch/>
        </p:blipFill>
        <p:spPr>
          <a:xfrm>
            <a:off x="179280" y="620640"/>
            <a:ext cx="4183200" cy="2835360"/>
          </a:xfrm>
          <a:prstGeom prst="rect">
            <a:avLst/>
          </a:prstGeom>
          <a:ln w="0">
            <a:noFill/>
          </a:ln>
        </p:spPr>
      </p:pic>
      <p:pic>
        <p:nvPicPr>
          <p:cNvPr id="52" name="Picture 8" descr=""/>
          <p:cNvPicPr/>
          <p:nvPr/>
        </p:nvPicPr>
        <p:blipFill>
          <a:blip r:embed="rId4"/>
          <a:stretch/>
        </p:blipFill>
        <p:spPr>
          <a:xfrm>
            <a:off x="4648320" y="3938760"/>
            <a:ext cx="4495680" cy="2435040"/>
          </a:xfrm>
          <a:prstGeom prst="rect">
            <a:avLst/>
          </a:prstGeom>
          <a:ln w="0">
            <a:noFill/>
          </a:ln>
        </p:spPr>
      </p:pic>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rgery</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gioplasty (also known as percutaneous coronary intervention or PCI). In this operation a collapsed balloon is threaded through the blood vessels until it reaches the arteries of the heart. The balloon is inflated to widen the narrowed coronary artery. A stent (flexible mesh tube) is sometimes inserted to help keep the artery open afterwards. The stent sometimes releases a drug that helps to keep the blood vessel open. You should be able to go home the day after the opera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ronary artery bypass graft (CABG). In this operation, the surgeon takes a piece of blood vessel from your leg or chest and uses it to bypass the narrowed coronary arteries. The bypass provides the heart with more blood. This is open-heart surgery and requires a longer stay in hospital. </a:t>
            </a:r>
            <a:endParaRPr b="0" lang="en-US" sz="2000" spc="-1" strike="noStrike">
              <a:solidFill>
                <a:srgbClr val="000000"/>
              </a:solidFill>
              <a:latin typeface="Arial"/>
            </a:endParaRPr>
          </a:p>
        </p:txBody>
      </p:sp>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60280"/>
            <a:ext cx="814716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onary heart disease</a:t>
            </a:r>
            <a:r>
              <a:rPr b="0" lang="en-GB" sz="4000" spc="-1" strike="noStrike">
                <a:solidFill>
                  <a:srgbClr val="000000"/>
                </a:solidFill>
                <a:latin typeface="Arial"/>
              </a:rPr>
              <a:t> </a:t>
            </a:r>
            <a:r>
              <a:rPr b="0" lang="en-GB" sz="1800" spc="-1" strike="noStrike">
                <a:solidFill>
                  <a:srgbClr val="000000"/>
                </a:solidFill>
                <a:latin typeface="Arial"/>
              </a:rPr>
              <a:t>(CHD) is a narrowing of the small blood vessels that supply blood and oxygen to the heart. </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ronary heart disease is usually caused by a condition called </a:t>
            </a:r>
            <a:r>
              <a:rPr b="0" lang="en-GB" sz="2800" spc="-1" strike="noStrike" u="sng">
                <a:solidFill>
                  <a:srgbClr val="009999"/>
                </a:solidFill>
                <a:uFillTx/>
                <a:latin typeface="Arial"/>
                <a:hlinkClick r:id="rId1"/>
              </a:rPr>
              <a:t>atherosclerosis</a:t>
            </a:r>
            <a:r>
              <a:rPr b="0" lang="en-GB" sz="2800" spc="-1" strike="noStrike">
                <a:solidFill>
                  <a:srgbClr val="000000"/>
                </a:solidFill>
                <a:latin typeface="Arial"/>
              </a:rPr>
              <a:t>, which occurs when fatty material and a substance called plaque build up on the walls of your arteries. This causes them to get narrow. As the coronary arteries narrow, blood flow to the heart can slow down or stop. This can cause chest pain (</a:t>
            </a:r>
            <a:r>
              <a:rPr b="0" lang="en-GB" sz="2800" spc="-1" strike="noStrike" u="sng">
                <a:solidFill>
                  <a:srgbClr val="009999"/>
                </a:solidFill>
                <a:uFillTx/>
                <a:latin typeface="Arial"/>
                <a:hlinkClick r:id="rId2"/>
              </a:rPr>
              <a:t>stable angina</a:t>
            </a:r>
            <a:r>
              <a:rPr b="0" lang="en-GB" sz="2800" spc="-1" strike="noStrike">
                <a:solidFill>
                  <a:srgbClr val="000000"/>
                </a:solidFill>
                <a:latin typeface="Arial"/>
              </a:rPr>
              <a:t>), shortness of breath, </a:t>
            </a:r>
            <a:r>
              <a:rPr b="0" lang="en-GB" sz="2800" spc="-1" strike="noStrike" u="sng">
                <a:solidFill>
                  <a:srgbClr val="009999"/>
                </a:solidFill>
                <a:uFillTx/>
                <a:latin typeface="Arial"/>
                <a:hlinkClick r:id="rId3"/>
              </a:rPr>
              <a:t>heart attack</a:t>
            </a:r>
            <a:r>
              <a:rPr b="0" lang="en-GB" sz="2800" spc="-1" strike="noStrike">
                <a:solidFill>
                  <a:srgbClr val="000000"/>
                </a:solidFill>
                <a:latin typeface="Arial"/>
              </a:rPr>
              <a:t>, and other sympto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ronary heart disease (CHD) is the leading cause of death</a:t>
            </a:r>
            <a:endParaRPr b="0" lang="en-US" sz="28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58" name="PlaceHolder 2"/>
          <p:cNvSpPr>
            <a:spLocks noGrp="1"/>
          </p:cNvSpPr>
          <p:nvPr>
            <p:ph/>
          </p:nvPr>
        </p:nvSpPr>
        <p:spPr>
          <a:xfrm>
            <a:off x="0" y="765000"/>
            <a:ext cx="4495680" cy="5832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therosclerosis, fat and cholesterol in your blood builds up on an artery wall, forming a plaque or atheroma. The plaque can prevent the heart muscle from getting the blood supply (and therefore oxygen) that it needs. If you have atherosclerosis, physical exertion or emotional stress can bring on chest pain called angina (see What can coronary heart disease caus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cause of the reduced blood flow and the rough edges of the plaque, a blood clot sometimes forms. This can block the artery. Or the plaque may rupture, which also causes the blood to clot. This is called atherothrombosi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herothrombosis stops an area of the heart muscle receiving blood and oxygen, leading to permanent damage. This is called a myocardial infarction (MI), or heart attack. If a lot of your heart muscle is damaged your heart may stop beating regularly, or stop beating at all. This is fatal (see What can coronary heart disease cause).</a:t>
            </a:r>
            <a:endParaRPr b="0" lang="en-US" sz="1800" spc="-1" strike="noStrike">
              <a:solidFill>
                <a:srgbClr val="000000"/>
              </a:solidFill>
              <a:latin typeface="Arial"/>
            </a:endParaRPr>
          </a:p>
        </p:txBody>
      </p:sp>
      <p:pic>
        <p:nvPicPr>
          <p:cNvPr id="59" name="Picture 6" descr=""/>
          <p:cNvPicPr/>
          <p:nvPr/>
        </p:nvPicPr>
        <p:blipFill>
          <a:blip r:embed="rId1"/>
          <a:stretch/>
        </p:blipFill>
        <p:spPr>
          <a:xfrm>
            <a:off x="4648320" y="692280"/>
            <a:ext cx="4244760" cy="5433840"/>
          </a:xfrm>
          <a:prstGeom prst="rect">
            <a:avLst/>
          </a:prstGeom>
          <a:ln w="0">
            <a:noFill/>
          </a:ln>
        </p:spPr>
      </p:pic>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aus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d genes (heredity) can increase your risk. You are more likely to develop the condition if someone in your family has had a history of heart disease -- especially if they had it before age 50. Your risk for CHD goes up the older you ge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1"/>
              </a:rPr>
              <a:t>Diabetes</a:t>
            </a:r>
            <a:r>
              <a:rPr b="0" lang="en-GB" sz="1800" spc="-1" strike="noStrike">
                <a:solidFill>
                  <a:srgbClr val="000000"/>
                </a:solidFill>
                <a:latin typeface="Arial"/>
              </a:rPr>
              <a:t> is a strong risk factor for heart diseas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2"/>
              </a:rPr>
              <a:t>High blood pressure</a:t>
            </a:r>
            <a:r>
              <a:rPr b="0" lang="en-GB" sz="1800" spc="-1" strike="noStrike">
                <a:solidFill>
                  <a:srgbClr val="000000"/>
                </a:solidFill>
                <a:latin typeface="Arial"/>
              </a:rPr>
              <a:t> increases your risk of coronary artery disease and heart failur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bnormal cholesterol levels: your </a:t>
            </a:r>
            <a:r>
              <a:rPr b="0" lang="en-GB" sz="1800" spc="-1" strike="noStrike" u="sng">
                <a:solidFill>
                  <a:srgbClr val="009999"/>
                </a:solidFill>
                <a:uFillTx/>
                <a:latin typeface="Arial"/>
                <a:hlinkClick r:id="rId3"/>
              </a:rPr>
              <a:t>LDL</a:t>
            </a:r>
            <a:r>
              <a:rPr b="0" lang="en-GB" sz="1800" spc="-1" strike="noStrike">
                <a:solidFill>
                  <a:srgbClr val="000000"/>
                </a:solidFill>
                <a:latin typeface="Arial"/>
              </a:rPr>
              <a:t> ("bad") cholesterol should be as low as possible, and your </a:t>
            </a:r>
            <a:r>
              <a:rPr b="0" lang="en-GB" sz="1800" spc="-1" strike="noStrike" u="sng">
                <a:solidFill>
                  <a:srgbClr val="009999"/>
                </a:solidFill>
                <a:uFillTx/>
                <a:latin typeface="Arial"/>
                <a:hlinkClick r:id="rId4"/>
              </a:rPr>
              <a:t>HDL</a:t>
            </a:r>
            <a:r>
              <a:rPr b="0" lang="en-GB" sz="1800" spc="-1" strike="noStrike">
                <a:solidFill>
                  <a:srgbClr val="000000"/>
                </a:solidFill>
                <a:latin typeface="Arial"/>
              </a:rPr>
              <a:t> ("good") cholesterol should be as high as possibl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5"/>
              </a:rPr>
              <a:t>Metabolic syndrome</a:t>
            </a:r>
            <a:r>
              <a:rPr b="0" lang="en-GB" sz="1800" spc="-1" strike="noStrike">
                <a:solidFill>
                  <a:srgbClr val="000000"/>
                </a:solidFill>
                <a:latin typeface="Arial"/>
              </a:rPr>
              <a:t> refers to </a:t>
            </a:r>
            <a:r>
              <a:rPr b="0" lang="en-GB" sz="1800" spc="-1" strike="noStrike" u="sng">
                <a:solidFill>
                  <a:srgbClr val="009999"/>
                </a:solidFill>
                <a:uFillTx/>
                <a:latin typeface="Arial"/>
                <a:hlinkClick r:id="rId6"/>
              </a:rPr>
              <a:t>high triglyceride levels</a:t>
            </a:r>
            <a:r>
              <a:rPr b="0" lang="en-GB" sz="1800" spc="-1" strike="noStrike">
                <a:solidFill>
                  <a:srgbClr val="000000"/>
                </a:solidFill>
                <a:latin typeface="Arial"/>
              </a:rPr>
              <a:t>, high blood pressure, excess body fat around the waist, and increased insulin levels. People with this group of problems have an increased chance of getting heart diseas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mokers have a much higher risk of heart disease than nonsmoker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ronic </a:t>
            </a:r>
            <a:r>
              <a:rPr b="0" lang="en-GB" sz="1800" spc="-1" strike="noStrike" u="sng">
                <a:solidFill>
                  <a:srgbClr val="009999"/>
                </a:solidFill>
                <a:uFillTx/>
                <a:latin typeface="Arial"/>
                <a:hlinkClick r:id="rId7"/>
              </a:rPr>
              <a:t>kidney disease</a:t>
            </a:r>
            <a:r>
              <a:rPr b="0" lang="en-GB" sz="1800" spc="-1" strike="noStrike">
                <a:solidFill>
                  <a:srgbClr val="000000"/>
                </a:solidFill>
                <a:latin typeface="Arial"/>
              </a:rPr>
              <a:t> can increase your risk.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ready having atherosclerosis or hardening of the arteries in another part of your body (examples are </a:t>
            </a:r>
            <a:r>
              <a:rPr b="0" lang="en-GB" sz="1800" spc="-1" strike="noStrike" u="sng">
                <a:solidFill>
                  <a:srgbClr val="009999"/>
                </a:solidFill>
                <a:uFillTx/>
                <a:latin typeface="Arial"/>
                <a:hlinkClick r:id="rId8"/>
              </a:rPr>
              <a:t>stroke</a:t>
            </a:r>
            <a:r>
              <a:rPr b="0" lang="en-GB" sz="1800" spc="-1" strike="noStrike">
                <a:solidFill>
                  <a:srgbClr val="000000"/>
                </a:solidFill>
                <a:latin typeface="Arial"/>
              </a:rPr>
              <a:t> and </a:t>
            </a:r>
            <a:r>
              <a:rPr b="0" lang="en-GB" sz="1800" spc="-1" strike="noStrike" u="sng">
                <a:solidFill>
                  <a:srgbClr val="009999"/>
                </a:solidFill>
                <a:uFillTx/>
                <a:latin typeface="Arial"/>
                <a:hlinkClick r:id="rId9"/>
              </a:rPr>
              <a:t>abdominal aortic aneurysm</a:t>
            </a:r>
            <a:r>
              <a:rPr b="0" lang="en-GB" sz="1800" spc="-1" strike="noStrike">
                <a:solidFill>
                  <a:srgbClr val="000000"/>
                </a:solidFill>
                <a:latin typeface="Arial"/>
              </a:rPr>
              <a:t>) increases your risk of having coronary heart diseas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 risk factors including alcohol abuse, not getting enough exercise, and excessive amounts of stress. </a:t>
            </a:r>
            <a:endParaRPr b="0" lang="en-US" sz="18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ymptom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est pain or discomfort (</a:t>
            </a:r>
            <a:r>
              <a:rPr b="0" lang="en-GB" sz="2400" spc="-1" strike="noStrike" u="sng">
                <a:solidFill>
                  <a:srgbClr val="009999"/>
                </a:solidFill>
                <a:uFillTx/>
                <a:latin typeface="Arial"/>
                <a:hlinkClick r:id="rId1"/>
              </a:rPr>
              <a:t>angina</a:t>
            </a:r>
            <a:r>
              <a:rPr b="0" lang="en-GB" sz="2400" spc="-1" strike="noStrike">
                <a:solidFill>
                  <a:srgbClr val="000000"/>
                </a:solidFill>
                <a:latin typeface="Arial"/>
              </a:rPr>
              <a:t>) is the most common symptom. You feel this pain when the heart is not getting enough blood or oxygen. How bad the pain is varies from person to pers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may feel heavy or like someone is squeezing your heart. You feel it under your breast bone (sternum), but also in your neck, arms, stomach, or upper back.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ain usually occurs with activity or emotion, and goes away with rest or a medicine called nitroglyceri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 symptoms include shortness of breath and fatigue with activity (exertion).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st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y tests help diagnose CHD. Usually, your doctor will order more than one test before making a definite diagnos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a:hlinkClick r:id="rId1"/>
              </a:rPr>
              <a:t>Electrocardiogram (ECG)</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ercise stress tes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hocardiogram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uclear sca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ctron-beam computed tomography (EBCT) to look for calcium in the lining of the arteries -- the more calcium, the higher your chance for CH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T angiography -- a noninvasive way to perform coronary angiograph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gnetic resonance angiograph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ronary angiography/arteriography -- an invasive procedure designed to evaluate the heart arteries under x-ray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ventio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oid or reduce stress as best as you ca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smok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t well-balanced meals that are low in fat and cholesterol and include several daily servings of fruits and vegetabl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t regular exercise. If your weight is considered normal, get at least 30 minutes of exercise every day. If you are overweight or obese, experts say you should get 60 - 90 minutes of exercise every da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your blood pressure below 130/80 mmHg if you have diabetes or chronic kidney disease, and below 140/90 otherwis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your cholesterol and blood sugar under contro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derate amounts of alcohol (one glass a day for women, two for men) may reduce your risk of cardiovascular problems. However, drinking larger amounts does more harm than good.</a:t>
            </a:r>
            <a:endParaRPr b="0" lang="en-US" sz="2000" spc="-1" strike="noStrike">
              <a:solidFill>
                <a:srgbClr val="000000"/>
              </a:solidFill>
              <a:latin typeface="Arial"/>
            </a:endParaRPr>
          </a:p>
        </p:txBody>
      </p:sp>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ngina</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gina is a type of chest discomfort caused by poor blood flow through the blood vessels (coronary vessels) of the heart muscle (myocardium). </a:t>
            </a:r>
            <a:endParaRPr b="0" lang="en-US" sz="2800" spc="-1" strike="noStrike">
              <a:solidFill>
                <a:srgbClr val="000000"/>
              </a:solidFill>
              <a:latin typeface="Arial"/>
            </a:endParaRPr>
          </a:p>
        </p:txBody>
      </p:sp>
      <p:pic>
        <p:nvPicPr>
          <p:cNvPr id="75" name="Picture 6" descr=""/>
          <p:cNvPicPr/>
          <p:nvPr/>
        </p:nvPicPr>
        <p:blipFill>
          <a:blip r:embed="rId1"/>
          <a:stretch/>
        </p:blipFill>
        <p:spPr>
          <a:xfrm>
            <a:off x="4427640" y="2492280"/>
            <a:ext cx="4475160" cy="3097440"/>
          </a:xfrm>
          <a:prstGeom prst="rect">
            <a:avLst/>
          </a:prstGeom>
          <a:ln w="0">
            <a:noFill/>
          </a:ln>
        </p:spPr>
      </p:pic>
      <p:sp>
        <p:nvSpPr>
          <p:cNvPr id="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reatment</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fter having a heart attack, or if you develop angina, you will usually be prescribed heart medicines to help stop your heart disease getting worse or to prevent further heart attacks. Some examples are listed below. Always read the patient information that comes with your medicine, and follow your doctor's advic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irin. Taking a small (75 mg) daily dose of aspirin makes your blood less likely to form clots in your coronary arteries and reduces your risk of having a heart attack.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tins. These drugs help to lower your cholesterol levels and so slow down the process of atherosclerosi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ta-blockers. These drugs slow your heart rate and reduce the pumping power of the heart. This reduces your heart's demand for oxygen. Beta-blockers also widen blood vessels helping to lower blood pressur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E inhibitors. These drugs are often used in people with heart failure or after a heart attack. They lower your blood pressure.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5T21:07:49Z</dcterms:created>
  <dc:creator>Haimanti</dc:creator>
  <dc:description/>
  <dc:language>en-US</dc:language>
  <cp:lastModifiedBy>LEGION2</cp:lastModifiedBy>
  <dcterms:modified xsi:type="dcterms:W3CDTF">2016-01-14T08:51:11Z</dcterms:modified>
  <cp:revision>6</cp:revision>
  <dc:subject/>
  <dc:title>Coronary Heart Disease</dc:title>
</cp:coreProperties>
</file>