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25.png" ContentType="image/pn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3.jpeg" ContentType="image/jpeg"/>
  <Override PartName="/ppt/media/image15.png" ContentType="image/png"/>
  <Override PartName="/ppt/media/image24.jpeg" ContentType="image/jpeg"/>
  <Override PartName="/ppt/media/image30.jpeg" ContentType="image/jpeg"/>
  <Override PartName="/ppt/media/image12.gif" ContentType="image/gif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9.gif" ContentType="image/gif"/>
  <Override PartName="/ppt/media/image39.gif" ContentType="image/gif"/>
  <Override PartName="/ppt/media/image3.jpeg" ContentType="image/jpeg"/>
  <Override PartName="/ppt/media/image37.jpeg" ContentType="image/jpeg"/>
  <Override PartName="/ppt/media/image42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5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F9FF-E4DE-4A57-A2AD-B3A877D47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aecum and appendix are enlarged to store the cellulase 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82D-8E17-411B-82AF-5BDB5ED7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67C-F62C-4AAB-B261-954A4F70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D01-6020-45D5-9D4D-FB554132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146-F1AE-4222-9029-FCFC4A0F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E7D-5A2D-4E93-BB67-0FE4AAB0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57D-EBE4-4262-9E4A-7B436C9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28F-CA40-47A5-B361-5852EE6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BCAE-AA95-4817-9E16-58C81ECC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F3B-C6A2-4E13-8ED7-61D63EC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FEC4-AE9E-4A6B-B825-7DC8FB2C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FFB9-71B6-482A-B0F7-FFDE1980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E3-636D-4112-BA83-EF530257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819-E64A-436F-9A3D-BB0EB2AB0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4hgarden.msu.edu/kidstour/zoo/zac0278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4hgarden.msu.edu/kidstour/zoo/zac0281.jpg" TargetMode="External"/><Relationship Id="rId4" Type="http://schemas.openxmlformats.org/officeDocument/2006/relationships/image" Target="../media/image16.png"/><Relationship Id="rId5" Type="http://schemas.openxmlformats.org/officeDocument/2006/relationships/hyperlink" Target="http://4hgarden.msu.edu/kidstour/zoo/zac0293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4hgarden.msu.edu/kidstour/zoo/zac0290.jpg" TargetMode="External"/><Relationship Id="rId8" Type="http://schemas.openxmlformats.org/officeDocument/2006/relationships/image" Target="../media/image18.png"/><Relationship Id="rId9" Type="http://schemas.openxmlformats.org/officeDocument/2006/relationships/hyperlink" Target="http://4hgarden.msu.edu/kidstour/zoo/zac0288.jpg" TargetMode="External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igestion in Ruminants &amp; Rod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mouse1"/>
          <p:cNvPicPr/>
          <p:nvPr/>
        </p:nvPicPr>
        <p:blipFill>
          <a:blip r:embed="rId1"/>
          <a:stretch/>
        </p:blipFill>
        <p:spPr>
          <a:xfrm>
            <a:off x="6095880" y="2590920"/>
            <a:ext cx="1009800" cy="1066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mouse1"/>
          <p:cNvPicPr/>
          <p:nvPr/>
        </p:nvPicPr>
        <p:blipFill>
          <a:blip r:embed="rId2"/>
          <a:stretch/>
        </p:blipFill>
        <p:spPr>
          <a:xfrm>
            <a:off x="5867280" y="1295280"/>
            <a:ext cx="1063800" cy="112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mouse1"/>
          <p:cNvPicPr/>
          <p:nvPr/>
        </p:nvPicPr>
        <p:blipFill>
          <a:blip r:embed="rId3"/>
          <a:stretch/>
        </p:blipFill>
        <p:spPr>
          <a:xfrm>
            <a:off x="7238880" y="1676520"/>
            <a:ext cx="1224000" cy="129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ow_family"/>
          <p:cNvPicPr/>
          <p:nvPr/>
        </p:nvPicPr>
        <p:blipFill>
          <a:blip r:embed="rId4"/>
          <a:stretch/>
        </p:blipFill>
        <p:spPr>
          <a:xfrm>
            <a:off x="1295280" y="3581280"/>
            <a:ext cx="6172200" cy="29275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irst &amp; largest com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ain bacteria that produc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ellulase for the cellulos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function as the fermenta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ow_chews"/>
          <p:cNvPicPr/>
          <p:nvPr/>
        </p:nvPicPr>
        <p:blipFill>
          <a:blip r:embed="rId1"/>
          <a:stretch/>
        </p:blipFill>
        <p:spPr>
          <a:xfrm>
            <a:off x="685800" y="38088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ow_rumen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5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rumen_pap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88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sms in r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295280"/>
            <a:ext cx="3276720" cy="24577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104" name="Picture 8" descr=" 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29000" y="2362320"/>
            <a:ext cx="3429000" cy="257148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105" name="Picture 10" descr=" 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1320" y="4343400"/>
            <a:ext cx="3200400" cy="24004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06" name="Picture 12" descr=" 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4172040"/>
            <a:ext cx="3276720" cy="2457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7" name="Picture 14" descr=" 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791320" y="228600"/>
            <a:ext cx="3047760" cy="2286000"/>
          </a:xfrm>
          <a:prstGeom prst="rect">
            <a:avLst/>
          </a:prstGeom>
          <a:ln w="57240">
            <a:solidFill>
              <a:srgbClr val="cc0099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also contains bacteria for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content of reticulum called c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gurgitation occ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as a ‘honeycomb’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ow_chews"/>
          <p:cNvPicPr/>
          <p:nvPr/>
        </p:nvPicPr>
        <p:blipFill>
          <a:blip r:embed="rId1"/>
          <a:stretch/>
        </p:blipFill>
        <p:spPr>
          <a:xfrm>
            <a:off x="838080" y="457200"/>
            <a:ext cx="1290600" cy="9208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w_reticulum"/>
          <p:cNvPicPr/>
          <p:nvPr/>
        </p:nvPicPr>
        <p:blipFill>
          <a:blip r:embed="rId1"/>
          <a:stretch/>
        </p:blipFill>
        <p:spPr>
          <a:xfrm>
            <a:off x="304920" y="380880"/>
            <a:ext cx="8458200" cy="6058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retic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reswallowed cud will be sen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large particle are broke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own by peristal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water is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Cow_chews"/>
          <p:cNvPicPr/>
          <p:nvPr/>
        </p:nvPicPr>
        <p:blipFill>
          <a:blip r:embed="rId1"/>
          <a:stretch/>
        </p:blipFill>
        <p:spPr>
          <a:xfrm>
            <a:off x="990720" y="457200"/>
            <a:ext cx="136656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ow_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1153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omasum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rbivore mam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g. Cow, goat, giraffe, 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-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RUMINANT"/>
          <p:cNvPicPr/>
          <p:nvPr/>
        </p:nvPicPr>
        <p:blipFill>
          <a:blip r:embed="rId1"/>
          <a:stretch/>
        </p:blipFill>
        <p:spPr>
          <a:xfrm>
            <a:off x="4114800" y="380880"/>
            <a:ext cx="472428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true stomach of the rumin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gastric juice containing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digestive 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 HCl and pep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Cow_chews"/>
          <p:cNvPicPr/>
          <p:nvPr/>
        </p:nvPicPr>
        <p:blipFill>
          <a:blip r:embed="rId1"/>
          <a:stretch/>
        </p:blipFill>
        <p:spPr>
          <a:xfrm>
            <a:off x="685800" y="457200"/>
            <a:ext cx="160164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cow_abomasum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umi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w_chews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16322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066680" y="5257800"/>
            <a:ext cx="15242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6858000" y="5257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6324480" y="3505320"/>
            <a:ext cx="213372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3657600" y="5334120"/>
            <a:ext cx="21337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943600" y="1752480"/>
            <a:ext cx="266688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7391520" y="41911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 flipV="1">
            <a:off x="7315200" y="2438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4864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rg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762120" y="5943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411480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7391520" y="4495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324480" y="30481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238880" y="1295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y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Figure 1.7 - Ruminant GI tract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L-B09"/>
          <p:cNvPicPr/>
          <p:nvPr/>
        </p:nvPicPr>
        <p:blipFill>
          <a:blip r:embed="rId1"/>
          <a:stretch/>
        </p:blipFill>
        <p:spPr>
          <a:xfrm>
            <a:off x="380880" y="533520"/>
            <a:ext cx="8763120" cy="5715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7"/>
          <p:cNvSpPr/>
          <p:nvPr/>
        </p:nvSpPr>
        <p:spPr>
          <a:xfrm>
            <a:off x="304920" y="53341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685800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505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693432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 flipV="1">
            <a:off x="1066680" y="2743200"/>
            <a:ext cx="152424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4724280"/>
            <a:ext cx="228600" cy="1067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 flipH="1" flipV="1">
            <a:off x="5105520" y="4114800"/>
            <a:ext cx="182880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 flipH="1">
            <a:off x="6324480" y="266688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9" descr="Cow_chews"/>
          <p:cNvPicPr/>
          <p:nvPr/>
        </p:nvPicPr>
        <p:blipFill>
          <a:blip r:embed="rId2"/>
          <a:stretch/>
        </p:blipFill>
        <p:spPr>
          <a:xfrm>
            <a:off x="228600" y="304920"/>
            <a:ext cx="1600200" cy="11412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olon%20crasum%20%20equi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48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Cow_chews"/>
          <p:cNvPicPr/>
          <p:nvPr/>
        </p:nvPicPr>
        <p:blipFill>
          <a:blip r:embed="rId2"/>
          <a:stretch/>
        </p:blipFill>
        <p:spPr>
          <a:xfrm>
            <a:off x="609480" y="4876920"/>
            <a:ext cx="2210040" cy="157644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43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aecu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endix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re enlarged to store the cellulase producing bac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od pass the alimentary canal tw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first as f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then as soft fae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OB-0401-MUURLING"/>
          <p:cNvPicPr/>
          <p:nvPr/>
        </p:nvPicPr>
        <p:blipFill>
          <a:blip r:embed="rId1"/>
          <a:stretch/>
        </p:blipFill>
        <p:spPr>
          <a:xfrm>
            <a:off x="4495680" y="2514600"/>
            <a:ext cx="4648320" cy="3352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ft and watery faeces usually produced at nig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aten agai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s out as hard and dry faeces during the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BL-B10"/>
          <p:cNvPicPr/>
          <p:nvPr/>
        </p:nvPicPr>
        <p:blipFill>
          <a:blip r:embed="rId1"/>
          <a:stretch/>
        </p:blipFill>
        <p:spPr>
          <a:xfrm>
            <a:off x="4876920" y="1752480"/>
            <a:ext cx="364788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Line 9"/>
          <p:cNvSpPr/>
          <p:nvPr/>
        </p:nvSpPr>
        <p:spPr>
          <a:xfrm>
            <a:off x="2514600" y="1828800"/>
            <a:ext cx="0" cy="10666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2438280" y="3429000"/>
            <a:ext cx="0" cy="1143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7" descr="RODENT4"/>
          <p:cNvPicPr/>
          <p:nvPr/>
        </p:nvPicPr>
        <p:blipFill>
          <a:blip r:embed="rId2"/>
          <a:stretch/>
        </p:blipFill>
        <p:spPr>
          <a:xfrm>
            <a:off x="5791320" y="609480"/>
            <a:ext cx="1790640" cy="1309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 digest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at-DigestiveTract"/>
          <p:cNvPicPr/>
          <p:nvPr/>
        </p:nvPicPr>
        <p:blipFill>
          <a:blip r:embed="rId1"/>
          <a:stretch/>
        </p:blipFill>
        <p:spPr>
          <a:xfrm>
            <a:off x="1447920" y="1447920"/>
            <a:ext cx="6858000" cy="5029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mouse1"/>
          <p:cNvPicPr/>
          <p:nvPr/>
        </p:nvPicPr>
        <p:blipFill>
          <a:blip r:embed="rId2"/>
          <a:stretch/>
        </p:blipFill>
        <p:spPr>
          <a:xfrm>
            <a:off x="577800" y="380880"/>
            <a:ext cx="1079640" cy="1143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mouse_diaphrag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Milkshake%20w%20tripletts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at_abdominal_cavi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rat_proximal_digestive_tract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rat_intestinal_system_new"/>
          <p:cNvPicPr/>
          <p:nvPr/>
        </p:nvPicPr>
        <p:blipFill>
          <a:blip r:embed="rId1">
            <a:lum contrast="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t’s caec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rabbit_cecum"/>
          <p:cNvPicPr/>
          <p:nvPr/>
        </p:nvPicPr>
        <p:blipFill>
          <a:blip r:embed="rId1"/>
          <a:stretch/>
        </p:blipFill>
        <p:spPr>
          <a:xfrm>
            <a:off x="1447920" y="114300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of food in ro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1828800"/>
            <a:ext cx="16002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33520" y="3581280"/>
            <a:ext cx="2743200" cy="581400"/>
          </a:xfrm>
          <a:prstGeom prst="rect">
            <a:avLst/>
          </a:prstGeom>
          <a:solidFill>
            <a:srgbClr val="ff00ff"/>
          </a:soli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609480" y="5257800"/>
            <a:ext cx="1981440" cy="581400"/>
          </a:xfrm>
          <a:prstGeom prst="rect">
            <a:avLst/>
          </a:prstGeom>
          <a:solidFill>
            <a:srgbClr val="ffcc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858000" y="5334120"/>
            <a:ext cx="1828800" cy="5814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ec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6858000" y="3657600"/>
            <a:ext cx="1371600" cy="581400"/>
          </a:xfrm>
          <a:prstGeom prst="rect">
            <a:avLst/>
          </a:prstGeom>
          <a:solidFill>
            <a:srgbClr val="00ff00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3657600" y="5334120"/>
            <a:ext cx="2133720" cy="106884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1752480" y="259092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1752480" y="4343400"/>
            <a:ext cx="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5867280" y="563868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 flipV="1">
            <a:off x="7620120" y="43434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7543800" y="2133360"/>
            <a:ext cx="0" cy="1447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380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5" descr="mouse1"/>
          <p:cNvPicPr/>
          <p:nvPr/>
        </p:nvPicPr>
        <p:blipFill>
          <a:blip r:embed="rId1"/>
          <a:stretch/>
        </p:blipFill>
        <p:spPr>
          <a:xfrm>
            <a:off x="3657600" y="2666880"/>
            <a:ext cx="1684440" cy="1782720"/>
          </a:xfrm>
          <a:prstGeom prst="rect">
            <a:avLst/>
          </a:prstGeom>
          <a:ln w="0">
            <a:noFill/>
          </a:ln>
        </p:spPr>
      </p:pic>
      <p:sp>
        <p:nvSpPr>
          <p:cNvPr id="233" name="Line 26"/>
          <p:cNvSpPr/>
          <p:nvPr/>
        </p:nvSpPr>
        <p:spPr>
          <a:xfrm flipH="1">
            <a:off x="2819160" y="2133720"/>
            <a:ext cx="4724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3124080" y="16002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eat the faeces to absorb more nutr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7086600" y="603576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est cellu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enable the animals to absorb the products of bacterial break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ow rodent to recover the nutrients initially lost with the fa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hamste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029200" y="2286000"/>
            <a:ext cx="3733920" cy="2805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mouse1"/>
          <p:cNvPicPr/>
          <p:nvPr/>
        </p:nvPicPr>
        <p:blipFill>
          <a:blip r:embed="rId2"/>
          <a:stretch/>
        </p:blipFill>
        <p:spPr>
          <a:xfrm>
            <a:off x="838080" y="380880"/>
            <a:ext cx="936720" cy="9907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mouse1"/>
          <p:cNvPicPr/>
          <p:nvPr/>
        </p:nvPicPr>
        <p:blipFill>
          <a:blip r:embed="rId1"/>
          <a:stretch/>
        </p:blipFill>
        <p:spPr>
          <a:xfrm>
            <a:off x="685800" y="380880"/>
            <a:ext cx="1108080" cy="11732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ten again? Wh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3000" y="14479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 is absorb in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in rats, the microorganism that help to digest cellulose is in the caecum, the food must pass the small intestine before entering the cae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 the faeces eliminate is actually soft and rich in nutr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’s why they have to re-eat the faeces in order to absorb all the 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ruminandigest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228600" y="6172200"/>
            <a:ext cx="43434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0" y="6477120"/>
            <a:ext cx="44956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ode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41148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bbits and rats 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RODENT5"/>
          <p:cNvPicPr/>
          <p:nvPr/>
        </p:nvPicPr>
        <p:blipFill>
          <a:blip r:embed="rId1"/>
          <a:stretch/>
        </p:blipFill>
        <p:spPr>
          <a:xfrm>
            <a:off x="4114800" y="3657600"/>
            <a:ext cx="4743360" cy="3200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RODENT1"/>
          <p:cNvPicPr/>
          <p:nvPr/>
        </p:nvPicPr>
        <p:blipFill>
          <a:blip r:embed="rId2"/>
          <a:stretch/>
        </p:blipFill>
        <p:spPr>
          <a:xfrm>
            <a:off x="0" y="380880"/>
            <a:ext cx="5943600" cy="3525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gestive System of Rumin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 on plant – cellu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ed cellulase to digest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ruminants do not produce cellu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ever their digestive system are specially adapted to carry out cellulose dig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Cow_chews"/>
          <p:cNvPicPr/>
          <p:nvPr/>
        </p:nvPicPr>
        <p:blipFill>
          <a:blip r:embed="rId1"/>
          <a:stretch/>
        </p:blipFill>
        <p:spPr>
          <a:xfrm>
            <a:off x="457200" y="533520"/>
            <a:ext cx="1442880" cy="1030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s a stomach with 4 chamb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r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ret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aboma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rry out rumination – process of regurgitating food and rechewing i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ow_chews"/>
          <p:cNvPicPr/>
          <p:nvPr/>
        </p:nvPicPr>
        <p:blipFill>
          <a:blip r:embed="rId1"/>
          <a:stretch/>
        </p:blipFill>
        <p:spPr>
          <a:xfrm>
            <a:off x="4419720" y="2286000"/>
            <a:ext cx="3809880" cy="26748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umen_right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533520"/>
            <a:ext cx="9144000" cy="55623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ow_stomach2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2485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minant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ow_chews"/>
          <p:cNvPicPr/>
          <p:nvPr/>
        </p:nvPicPr>
        <p:blipFill>
          <a:blip r:embed="rId1"/>
          <a:stretch/>
        </p:blipFill>
        <p:spPr>
          <a:xfrm>
            <a:off x="457200" y="304920"/>
            <a:ext cx="1666800" cy="118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Bacteria"/>
          <p:cNvPicPr/>
          <p:nvPr/>
        </p:nvPicPr>
        <p:blipFill>
          <a:blip r:embed="rId2"/>
          <a:stretch/>
        </p:blipFill>
        <p:spPr>
          <a:xfrm>
            <a:off x="7543800" y="518148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914400" y="1752480"/>
            <a:ext cx="73915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aliva of a cow contains no salivary amyl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digest the plant material, herbivores need to depend on the cellulase-secreting microorganism in its digestive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Bacteria"/>
          <p:cNvPicPr/>
          <p:nvPr/>
        </p:nvPicPr>
        <p:blipFill>
          <a:blip r:embed="rId3"/>
          <a:stretch/>
        </p:blipFill>
        <p:spPr>
          <a:xfrm rot="16719600">
            <a:off x="6210360" y="5371560"/>
            <a:ext cx="1228680" cy="130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00:11Z</dcterms:created>
  <dc:creator>diyana</dc:creator>
  <dc:description/>
  <dc:language>en-US</dc:language>
  <cp:lastModifiedBy>LEGION2</cp:lastModifiedBy>
  <dcterms:modified xsi:type="dcterms:W3CDTF">2016-01-14T09:00:11Z</dcterms:modified>
  <cp:revision>43</cp:revision>
  <dc:subject/>
  <dc:title>Digestion in Ruminants &amp; Rodents</dc:title>
</cp:coreProperties>
</file>