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51BB-1DA4-49E9-A5C9-20B51887F2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(in pasta, bread      (a form of sugar that can b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     (eg. In meat, nuts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act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4F7F-68C0-4ED0-BC80-88E5C7FB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4C46-C5FA-4110-84EA-5F3DC23A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EAFB-E30A-4CB4-8EB6-43AF2A477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AF8-F808-4C6E-97BA-115D1BFA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1BC4-F26D-4A85-A09E-4A94C2141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674F-1ECA-4834-9643-B963AB72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28A1-2575-4FBC-8C21-1D38A793E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15D2-A47C-4438-9EA1-B23D767D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3CAA-8865-4B39-A96F-E3D4804B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D096-EB48-4314-801F-B68D9FBA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027-B0CF-43C1-ADD4-7D30DCF9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728D-A765-4357-BB57-E33ADDD3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FE5F-5D36-46D3-9F9D-C7A0E94788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hem.purdue.edu/courses/chm333/enzymaticreaction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r food is made up of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bohydrates: Bread, Pasta, Pot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: Meat, Nuts, Lent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s: Butter, Mi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r body needs to digest them – turn them into a form that can be absorbed into the blood and used by cells. Enzymes make thi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ook closely at the 3 digestion equation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carbohydr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ylase + St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Malt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pasta, bread      (a form of sugar that can b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n saliva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bohydrat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absorbed by the body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572000" y="3429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Prote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ease   +  Protein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Amino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zyme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eg. In meat, nuts)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the body can absorb (in stomach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m and use th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788000" y="35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s that work on Fa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pase enzyme  +  Fats                Fatty Acids + Glyce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secreted by pancrea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(Butter, Milk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(can be absorbed into bo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nzyme action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4427640" y="364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2T11:56:25Z</dcterms:created>
  <dc:creator>CEC</dc:creator>
  <dc:description/>
  <dc:language>en-US</dc:language>
  <cp:lastModifiedBy>LEGION2</cp:lastModifiedBy>
  <dcterms:modified xsi:type="dcterms:W3CDTF">2016-01-14T09:04:29Z</dcterms:modified>
  <cp:revision>7</cp:revision>
  <dc:subject/>
  <dc:title>Digestive Enzymes</dc:title>
</cp:coreProperties>
</file>