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D794-17FB-457E-B39C-A20E6076A9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69B-61DC-40E8-825D-27754711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C5F-FF4B-4AE3-95F1-80D570DD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882C-DEE9-489A-B961-632367B0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7FA-72FB-450F-987F-B61E5D88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0784-9FFF-4E60-8DBE-F9A31E90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037E-DD8F-4DDF-A69D-647C216F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CF1-D687-4B7A-9F85-CCD12AEE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F2D-2BC1-4393-8688-B86F28E4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EE7-5243-4A90-8576-64A59EEE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E33-D426-4EE4-8258-8BACC046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346-6978-4065-9E6A-C1F9E89C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1A1-0FB4-4617-84F1-F7D4008D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3790-1839-499F-AD75-03FC3AA0CA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.purdue.edu/courses/chm333/enzymaticreaction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asta, bread      (a form of sugar that can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342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. In meat, nut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788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zyme actio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42764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56:25Z</dcterms:created>
  <dc:creator>CEC</dc:creator>
  <dc:description/>
  <dc:language>en-US</dc:language>
  <cp:lastModifiedBy>LEGION2</cp:lastModifiedBy>
  <dcterms:modified xsi:type="dcterms:W3CDTF">2016-01-14T09:04:29Z</dcterms:modified>
  <cp:revision>7</cp:revision>
  <dc:subject/>
  <dc:title>Digestive Enzymes</dc:title>
</cp:coreProperties>
</file>