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E7BA-BC16-461E-B294-9870A72DBA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754-50F6-43D6-9241-34F50EE2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DEF2-E40E-4BF3-96B7-1F2A1039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81C0-3A57-4D7E-B4FF-0A4872B9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D00A-5735-4827-B89F-B1DF0AD8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48D-A300-4B67-A3B3-C0CEB6EB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867-056A-422A-998F-073CFD37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9C7-9A73-43BF-8B59-93B8C852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987-183D-46F6-9F70-83A3C7F6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475-CF89-4DA8-9736-6EE2683A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42D-2FE4-4896-857B-60034D89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8B4-F4CE-4D13-8231-88FE9FF6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BA86-ECCE-453C-9D7D-73811C34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5184-27B0-47A2-A694-19ABFC78BA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em.purdue.edu/courses/chm333/enzymaticreaction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pasta, bread      (a form of sugar that can b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572000" y="342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g. In meat, nut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78800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zyme action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427640" y="364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56:25Z</dcterms:created>
  <dc:creator>CEC</dc:creator>
  <dc:description/>
  <dc:language>en-US</dc:language>
  <cp:lastModifiedBy>LEGION2</cp:lastModifiedBy>
  <dcterms:modified xsi:type="dcterms:W3CDTF">2016-01-14T09:04:29Z</dcterms:modified>
  <cp:revision>7</cp:revision>
  <dc:subject/>
  <dc:title>Digestive Enzymes</dc:title>
</cp:coreProperties>
</file>