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D5C2-BCE5-4745-91F1-4668D5A659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30C-6BE9-43B2-9082-17EE24E1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3A5-E0E7-47C1-8EBC-E652AF4B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40C-DC71-497B-A6C7-718B077D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223-C728-4EC2-B5EE-CB775777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48B8-0AB2-4823-848C-68DB6133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3F8A-9A74-4B5E-974B-6D6391F8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4C33-2184-4F1E-BEE3-EB6C1C7F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B68D-DAF0-4118-8F04-5CE37C9D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7418-70CD-403A-A599-E6BAF6B5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21A3-7F5E-48B5-AD59-5D6792A2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F024-65BB-40C4-831D-99C48FB7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550-CF21-47FD-BF7C-ADDCE680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74B0-170E-4C9C-A824-9D9F1B5E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F29F-2710-4FF4-960E-68A7E463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007F-FCA3-4516-AAB1-028381DA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3330-250A-4E96-B27F-FEB5F853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2E81-8F31-4AD2-B073-E5568D20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8C2-C12A-42FD-B3FB-549387F0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22B-296D-47E7-BED5-88A20BDC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14C-1C75-4584-92A2-8A8A3C4D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E49-3149-42E4-A356-602B33F3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3D4-F145-47FF-B13D-86E58457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D5F-793B-4D28-A8B5-765DF6A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0F7-CD8F-49B0-A101-87F60850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AFA4-5003-4F7B-9830-14028A7DCF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2CCD-51A4-49A4-AAF2-7AA15CCE46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Drugs Effects on Our Bod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787640" y="3962520"/>
            <a:ext cx="3746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ystems"/>
          <p:cNvPicPr/>
          <p:nvPr/>
        </p:nvPicPr>
        <p:blipFill>
          <a:blip r:embed="rId1"/>
          <a:stretch/>
        </p:blipFill>
        <p:spPr>
          <a:xfrm>
            <a:off x="971640" y="314172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ims – To have the information 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Sol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obac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he effects of these on the health of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olv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pr-sbs-sealer-gallon"/>
          <p:cNvPicPr/>
          <p:nvPr/>
        </p:nvPicPr>
        <p:blipFill>
          <a:blip r:embed="rId1"/>
          <a:stretch/>
        </p:blipFill>
        <p:spPr>
          <a:xfrm>
            <a:off x="1962000" y="1844640"/>
            <a:ext cx="2335320" cy="2592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lcoh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rink"/>
          <p:cNvPicPr/>
          <p:nvPr/>
        </p:nvPicPr>
        <p:blipFill>
          <a:blip r:embed="rId1"/>
          <a:stretch/>
        </p:blipFill>
        <p:spPr>
          <a:xfrm>
            <a:off x="457200" y="2282760"/>
            <a:ext cx="40384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7" descr="emphy"/>
          <p:cNvPicPr/>
          <p:nvPr/>
        </p:nvPicPr>
        <p:blipFill>
          <a:blip r:embed="rId1"/>
          <a:stretch/>
        </p:blipFill>
        <p:spPr>
          <a:xfrm>
            <a:off x="4932360" y="1989000"/>
            <a:ext cx="3343320" cy="26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mphysema_what"/>
          <p:cNvPicPr/>
          <p:nvPr/>
        </p:nvPicPr>
        <p:blipFill>
          <a:blip r:embed="rId2"/>
          <a:stretch/>
        </p:blipFill>
        <p:spPr>
          <a:xfrm>
            <a:off x="801720" y="1052640"/>
            <a:ext cx="2698560" cy="4532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/>
          <p:cNvSpPr/>
          <p:nvPr/>
        </p:nvSpPr>
        <p:spPr>
          <a:xfrm>
            <a:off x="3708360" y="3213000"/>
            <a:ext cx="936720" cy="649440"/>
          </a:xfrm>
          <a:prstGeom prst="rightArrow">
            <a:avLst>
              <a:gd name="adj1" fmla="val 50000"/>
              <a:gd name="adj2" fmla="val 360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heart_attack"/>
          <p:cNvPicPr/>
          <p:nvPr/>
        </p:nvPicPr>
        <p:blipFill>
          <a:blip r:embed="rId1"/>
          <a:stretch/>
        </p:blipFill>
        <p:spPr>
          <a:xfrm>
            <a:off x="1919160" y="1125360"/>
            <a:ext cx="4824720" cy="4983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6" descr="ortho-WH-Cigarette"/>
          <p:cNvPicPr/>
          <p:nvPr/>
        </p:nvPicPr>
        <p:blipFill>
          <a:blip r:embed="rId1"/>
          <a:stretch/>
        </p:blipFill>
        <p:spPr>
          <a:xfrm>
            <a:off x="826920" y="1197000"/>
            <a:ext cx="3656160" cy="49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rem%20baby%20230x150"/>
          <p:cNvPicPr/>
          <p:nvPr/>
        </p:nvPicPr>
        <p:blipFill>
          <a:blip r:embed="rId2"/>
          <a:stretch/>
        </p:blipFill>
        <p:spPr>
          <a:xfrm>
            <a:off x="5796000" y="2781360"/>
            <a:ext cx="292104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4716360" y="3860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Lung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bronchit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emphys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Heart dise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damage to blood vess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gnant smokers often have low weight babies due to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carbon monoxi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blood reducing the oxygen supply to the ba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1:34Z</dcterms:created>
  <dc:creator>John</dc:creator>
  <dc:description/>
  <dc:language>en-US</dc:language>
  <cp:lastModifiedBy>LEGION2</cp:lastModifiedBy>
  <dcterms:modified xsi:type="dcterms:W3CDTF">2016-01-14T09:07:35Z</dcterms:modified>
  <cp:revision>6</cp:revision>
  <dc:subject/>
  <dc:title>Drugs Effects on Our Bodies</dc:title>
</cp:coreProperties>
</file>