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E374-546B-4FD4-8CAC-D065B999D6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4E9-B341-48AF-9C44-D45559A0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7D4-3E39-4BAE-8EE5-7A4FF03A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D45-8D75-422A-BC19-5906C7FF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F64-4524-417E-BC8A-E76F5185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25A0-CCB8-4C04-9BFD-044F1384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48A5-E750-4E12-852F-05316678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D492-68C9-41C1-9541-07BFE7A9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4A6B-97E7-4ABE-A52B-31DA92FC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4C25-BAB2-48BA-BABD-5BA9EA3A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A2FD-D43B-4898-924D-5F938CEB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AB1D-E119-40FE-9F29-F8D3BF73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8CD-03E2-459C-83A2-1AB0E7C3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2351-CBE0-4A30-9DCE-C8246534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1B18-1098-4B53-9C38-4B145382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0672-A221-4F7E-AE64-F6139125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AC7C-05B7-4FA8-9AA6-E945051A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22E2-53B0-4030-8EAA-87AB90F1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EF6-A160-4043-806A-F9448F26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A60-3B69-4DA0-A9BC-F5BE4DF3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F96-9C17-4D9F-99B4-87B428CF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88A-5895-4157-A90F-536BCDE5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B29-B56D-40C5-9B9D-64CD99B5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7E4-CD1B-4B97-8BD0-18128C5B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6DB-6DAA-4175-803D-B3116896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CAB1-DD62-4FD6-8B12-09CD64582B8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CABB-2393-4EB7-B7A0-0D81BDAB9F7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Drugs Effects on Our Bod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787640" y="3962520"/>
            <a:ext cx="3746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ystems"/>
          <p:cNvPicPr/>
          <p:nvPr/>
        </p:nvPicPr>
        <p:blipFill>
          <a:blip r:embed="rId1"/>
          <a:stretch/>
        </p:blipFill>
        <p:spPr>
          <a:xfrm>
            <a:off x="971640" y="3141720"/>
            <a:ext cx="3095640" cy="2916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ims – To have the information on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Sol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obac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he effects of these on the health of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olv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pr-sbs-sealer-gallon"/>
          <p:cNvPicPr/>
          <p:nvPr/>
        </p:nvPicPr>
        <p:blipFill>
          <a:blip r:embed="rId1"/>
          <a:stretch/>
        </p:blipFill>
        <p:spPr>
          <a:xfrm>
            <a:off x="1962000" y="1844640"/>
            <a:ext cx="2335320" cy="2592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lcoh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rink"/>
          <p:cNvPicPr/>
          <p:nvPr/>
        </p:nvPicPr>
        <p:blipFill>
          <a:blip r:embed="rId1"/>
          <a:stretch/>
        </p:blipFill>
        <p:spPr>
          <a:xfrm>
            <a:off x="457200" y="2282760"/>
            <a:ext cx="40384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7" descr="emphy"/>
          <p:cNvPicPr/>
          <p:nvPr/>
        </p:nvPicPr>
        <p:blipFill>
          <a:blip r:embed="rId1"/>
          <a:stretch/>
        </p:blipFill>
        <p:spPr>
          <a:xfrm>
            <a:off x="4932360" y="1989000"/>
            <a:ext cx="3343320" cy="267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emphysema_what"/>
          <p:cNvPicPr/>
          <p:nvPr/>
        </p:nvPicPr>
        <p:blipFill>
          <a:blip r:embed="rId2"/>
          <a:stretch/>
        </p:blipFill>
        <p:spPr>
          <a:xfrm>
            <a:off x="801720" y="1052640"/>
            <a:ext cx="2698560" cy="45320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1"/>
          <p:cNvSpPr/>
          <p:nvPr/>
        </p:nvSpPr>
        <p:spPr>
          <a:xfrm>
            <a:off x="3708360" y="3213000"/>
            <a:ext cx="936720" cy="649440"/>
          </a:xfrm>
          <a:prstGeom prst="rightArrow">
            <a:avLst>
              <a:gd name="adj1" fmla="val 50000"/>
              <a:gd name="adj2" fmla="val 360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heart_attack"/>
          <p:cNvPicPr/>
          <p:nvPr/>
        </p:nvPicPr>
        <p:blipFill>
          <a:blip r:embed="rId1"/>
          <a:stretch/>
        </p:blipFill>
        <p:spPr>
          <a:xfrm>
            <a:off x="1919160" y="1125360"/>
            <a:ext cx="4824720" cy="4983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6" descr="ortho-WH-Cigarette"/>
          <p:cNvPicPr/>
          <p:nvPr/>
        </p:nvPicPr>
        <p:blipFill>
          <a:blip r:embed="rId1"/>
          <a:stretch/>
        </p:blipFill>
        <p:spPr>
          <a:xfrm>
            <a:off x="826920" y="1197000"/>
            <a:ext cx="3656160" cy="49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Prem%20baby%20230x150"/>
          <p:cNvPicPr/>
          <p:nvPr/>
        </p:nvPicPr>
        <p:blipFill>
          <a:blip r:embed="rId2"/>
          <a:stretch/>
        </p:blipFill>
        <p:spPr>
          <a:xfrm>
            <a:off x="5796000" y="2781360"/>
            <a:ext cx="292104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4716360" y="3860640"/>
            <a:ext cx="935280" cy="720720"/>
          </a:xfrm>
          <a:prstGeom prst="rightArrow">
            <a:avLst>
              <a:gd name="adj1" fmla="val 50000"/>
              <a:gd name="adj2" fmla="val 3244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Lung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bronchiti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emphys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Heart diseas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damage to blood vess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gnant smokers often have low weight babies due to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carbon monoxi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blood reducing the oxygen supply to the ba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1:34Z</dcterms:created>
  <dc:creator>John</dc:creator>
  <dc:description/>
  <dc:language>en-US</dc:language>
  <cp:lastModifiedBy>LEGION2</cp:lastModifiedBy>
  <dcterms:modified xsi:type="dcterms:W3CDTF">2016-01-14T09:07:35Z</dcterms:modified>
  <cp:revision>6</cp:revision>
  <dc:subject/>
  <dc:title>Drugs Effects on Our Bodies</dc:title>
</cp:coreProperties>
</file>