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Book Antiqua"/>
              </a:rPr>
              <a:t>Click to move the slide</a:t>
            </a:r>
            <a:endParaRPr b="0" lang="en-US" sz="44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43B88-FAF5-438E-A5DE-3EE99D22B91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rug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termediate 1 Biology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nit 1 – Health and Technology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u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mediate 1 Bi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t 1 – Health and Techn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ypes of Drugs – Anabolic Steroid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rugs that promote muscle growth and increase lean body mass. 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se drugs mostly have legitimate medical use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y are often misused by those wishing to enhance their athletic performance or strength. 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Drugs – Anabolic Stero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ugs that promote muscle growth and increase lean body mas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drugs mostly have legitimate medical u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are often misused by those wishing to enhance their athletic performance or strength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atistic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following statistics are from the results of a major national survey of secondary schoolchildren aged 11-15 published by the Department of Health (DH) in 2002. 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i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ollowing statistics are from the results of a major national survey of secondary schoolchildren aged 11-15 published by the Department of Health (DH) in 2002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2% of pupils had used illegal drugs in the last month and 20% had used illegal drugs in the last year 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3% of boys reported taking drugs in the last month compared to 11% of girls 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se increased with age. Six percent of 11-year-olds had used drugs in the last year compared to 39% of 15-year-olds 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% of pupils had used illegal drugs in the last month and 20% had used illegal drugs in the last yea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3% of boys reported taking drugs in the last month compared to 11% of girl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increased with age. Six percent of 11-year-olds had used drugs in the last year compared to 39% of 15-year-old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annabis is the most likely drug to have been used, with 13% of pupils reporting use in the last year. 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annabis use also increases sharply with age with 1% of 11-year-olds having used the drug in past year compared with 31% of 15-year-olds 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lass A drugs had been used by 4% of 11-15 year olds. One percent say they used heroin or cocaine 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nabis is the most likely drug to have been used, with 13% of pupils reporting use in the last yea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nabis use also increases sharply with age with 1% of 11-year-olds having used the drug in past year compared with 31% of 15-year-old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ss A drugs had been used by 4% of 11-15 year olds. One percent say they used heroin or cocain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isks of Using Drug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isks vary according to: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circumstances of the use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the motivation and knowledge level of the user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their mood and expectation at the time of use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the manner of use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size of dose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purity of the sample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sks of Using Dru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sks vary according to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circumstances of the 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the motivation and knowledge level of the us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their mood and expectation at the time of 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the manner of 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size of d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purity of the s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isks Factors Involved in Drug Taking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sers can never be sure of exactly what they are taking 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t knowing the strength of what has been bought could lead to an accidental overdose (which may be life-threatening) 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sers can't be precisely sure of the effect the drug will have, even if they have taken it before. 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sks Factors Involved in Drug Ta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rs can never be sure of exactly what they are tak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knowing the strength of what has been bought could lead to an accidental overdose (which may be life-threatening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rs can't be precisely sure of the effect the drug will have, even if they have taken it befor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haring dirty needles or syringes carries a risk of serious infections 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ixing drugs, or drugs with alcohol 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etting a criminal record. 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ffects on relationships, financial pressures, reducing judgement or performance etc. 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aring dirty needles or syringes carries a risk of serious infecti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xing drugs, or drugs with alcoho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tting a criminal recor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ffects on relationships, financial pressures, reducing judgement or performance etc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lass A Drug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mphetamines (speed) - if prepared for injection 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caine and crack 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cstasy 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eroin 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SD (acid) 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gic mushrooms - if prepared for use. 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ss A Dru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phetamines (speed) - if prepared for injec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caine and crac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cstas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o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SD (acid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gic mushrooms - if prepared for us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ssession of Class A Drug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ssession: 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seven years prison and/or a fine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ssession with intent to supply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life imprisonment and/or a fine 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session of Class A Dru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session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seven years prison and/or a f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session with intent to supp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life imprisonment and/or a fin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lass B Drug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mphetamines (speed)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ssession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five years prison and/or a fine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ssession with intent to supply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14 years prison and/or a fine 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ss B Dru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phetamines (spe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s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five years prison and/or a f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session with intent to supp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4 years prison and/or a fin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umans have used drugs of one sort or another for thousands of year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wine was used at least from the time of the early Egyptians 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narcotics from 4000 BC 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medicinal use of marijuana has been dated to 2737BC  in China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umans have used drugs of one sort or another for thousands of ye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wine was used at least from the time of the early Egyptia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narcotics from 4000 BC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medicinal use of marijuana has been dated to 2737BC  in Chi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lass C Drug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Anabolic steroids 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annabis 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Mild amphetamines 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GBH 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Tranquillisers DF 118 (painkillers) 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ss C Dru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abolic steroid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nabi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ld amphetamin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B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quillisers DF 118 (painkillers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ssession of Class C Drug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ssession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two years prison and/or a fine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ssession with intent to supply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14 years prison and/or a fine 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session of Class C Dru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s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two years prison and/or a f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session with intent to supp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4 years prison and/or a fin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http://www.mindbodysoul.gov.uk/drugs/drugmenu.html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http://www.sorted4.info/html/400/430.html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http://www.stonerlemmings.com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http://www.lifebytes.gov.uk/drugs/drugs_facts.html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Useful Website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mindbodysoul.gov.uk/drugs/drugmenu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sorted4.info/html/400/430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stonerlemmings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lifebytes.gov.uk/drugs/drugs_fact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ful Websi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ypes of Drugs-Stimulant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rugs that act on the central nervou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ystem and increase brain activity. 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me give feelings of alertness, greater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nergy and confidence. 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y may also reduce appetite 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Drugs-Stimul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ugs that act on the central nervo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and increase brain activit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give feelings of alertness, gre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 and confidenc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may also reduce appeti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Examples of Stimulant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ocaine 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rack 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Ecstasy 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Alkyl Nitrites e.g. popper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Amphetamines 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Nicotine 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s of Stimul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cain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ac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cstas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kyl Nitrites e.g. popp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phetamin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icotin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ypes of Drugs-Depressant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rugs that act on the central nervous system and slow down brain activity.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mpaired co-ordination, balance and judgement are common. 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igher doses can lead progressively to drowsiness, vomiting, coma and even death.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Drugs-Depress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ugs that act on the central nervous system and slow down brain activ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aired co-ordination, balance and judgement are comm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er doses can lead progressively to drowsiness, vomiting, coma and even dea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Examples of Depressant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Volatile substances or sniffable substances (eg glues, gases, aerosols) 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Alcohol 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Tranquillisers 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GHB (Gamma hydroxy-butyrate) 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s of Depress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latile substances or sniffable substances (eg glues, gases, aerosols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coho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quilliser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B (Gamma hydroxy-butyrate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ypes of Drugs-Hallucinogen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rugs that act to change the way users experience the world through the five senses. 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metimes this involves seeing, and hearing things which aren't there.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Drugs-Hallucinog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ugs that act to change the way users experience the world through the five sens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times this involves seeing, and hearing things which aren't t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amples of Hallucinogen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annabis 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SD 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gic mushrooms 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Ketamine 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s of Hallucinog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nabi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S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gic mushroom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tamin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Types of Drugs - Analgesic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Drugs that have a painkilling effect.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e.g.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-heroin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-opium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-morphine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Drugs - Analges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ugs that have a painkilling effec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hero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op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morph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3B3B8-A8E9-4003-9EA5-3CF382C31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094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6D14C-6DA4-4FA0-823A-51A4BCE2B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4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314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FD1A9-973F-416C-BBC7-7F6956A44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6340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1732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0948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6340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1732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01807-75A2-41E9-8C9D-FE8D7EB4D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18E32-2C56-473E-B353-DC49EB33F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9E5F8-A591-4650-A3D0-161E65827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F62E9-BD04-4DB9-BADC-65E7CED3B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770FA-326E-49C5-8E12-1E053EFEA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3171E-FDB2-4A63-9F47-23C58D707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480" y="228240"/>
            <a:ext cx="7848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052A8-C297-4F45-9AA1-5D32C8A08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094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E9BDE-F6C8-4B8D-BD88-FB46287E7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3C866-C8B5-4565-8B28-D7D44DF99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314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4EB69-0F06-4806-A1D3-FBA2EA593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94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F43D8-45CA-4056-A28B-C43A816EF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094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22C0C-72F6-47D3-B9B3-36F483F3A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94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314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D9669-B0DC-4F15-AEB4-DFF9EB3B0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6340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1732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0948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6340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1732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19860-C816-420B-BC27-367D0BAFF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F83CC-80D8-4902-BD33-C6279E516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58B78-D1D0-4900-BF4B-8B01BED8C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B39D4-94C9-4C1F-9817-D6C40D3F4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480" y="228240"/>
            <a:ext cx="7848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4D005-EAEA-448E-8BEB-7F3568DAF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094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1D4E4-84D3-4B26-AA29-D624F1AD9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314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5B5A4-45D4-4640-8224-6D20183A0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4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B44A5-3223-4F63-AC25-7493A4559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9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428840"/>
            <a:ext cx="9142560" cy="152280"/>
            <a:chOff x="0" y="1428840"/>
            <a:chExt cx="9142560" cy="152280"/>
          </a:xfrm>
        </p:grpSpPr>
        <p:sp>
          <p:nvSpPr>
            <p:cNvPr id="1" name="Rectangle 3"/>
            <p:cNvSpPr/>
            <p:nvPr/>
          </p:nvSpPr>
          <p:spPr>
            <a:xfrm>
              <a:off x="0" y="1428840"/>
              <a:ext cx="9142560" cy="745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cccc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1542960"/>
              <a:ext cx="9142560" cy="38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cc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B28F3-7E73-4A7B-AA1A-CB16DFDCAA63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9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7"/>
          <p:cNvGrpSpPr/>
          <p:nvPr/>
        </p:nvGrpSpPr>
        <p:grpSpPr>
          <a:xfrm>
            <a:off x="4680" y="3276720"/>
            <a:ext cx="9137880" cy="152280"/>
            <a:chOff x="4680" y="3276720"/>
            <a:chExt cx="9137880" cy="152280"/>
          </a:xfrm>
        </p:grpSpPr>
        <p:sp>
          <p:nvSpPr>
            <p:cNvPr id="45" name="Rectangle 8"/>
            <p:cNvSpPr/>
            <p:nvPr/>
          </p:nvSpPr>
          <p:spPr>
            <a:xfrm>
              <a:off x="4680" y="3276720"/>
              <a:ext cx="9137880" cy="745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cccc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6" name="Rectangle 9"/>
            <p:cNvSpPr/>
            <p:nvPr/>
          </p:nvSpPr>
          <p:spPr>
            <a:xfrm>
              <a:off x="4680" y="3390840"/>
              <a:ext cx="9137880" cy="38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cc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56CA8-E885-4A12-9D57-8D5E0DD6D752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wiredforhealth.gov.uk/cat.php?catid=894&amp;docid=7282" TargetMode="External"/><Relationship Id="rId2" Type="http://schemas.openxmlformats.org/officeDocument/2006/relationships/hyperlink" Target="http://www.wiredforhealth.gov.uk/cat.php?catid=894&amp;docid=7283" TargetMode="External"/><Relationship Id="rId3" Type="http://schemas.openxmlformats.org/officeDocument/2006/relationships/hyperlink" Target="http://www.wiredforhealth.gov.uk/cat.php?catid=894&amp;docid=7284" TargetMode="External"/><Relationship Id="rId4" Type="http://schemas.openxmlformats.org/officeDocument/2006/relationships/hyperlink" Target="http://www.wiredforhealth.gov.uk/cat.php?catid=894&amp;docid=7285" TargetMode="External"/><Relationship Id="rId5" Type="http://schemas.openxmlformats.org/officeDocument/2006/relationships/hyperlink" Target="http://www.wiredforhealth.gov.uk/cat.php?catid=894&amp;docid=7286" TargetMode="External"/><Relationship Id="rId6" Type="http://schemas.openxmlformats.org/officeDocument/2006/relationships/hyperlink" Target="http://www.wiredforhealth.gov.uk/cat.php?catid=911&amp;docid=7326" TargetMode="Externa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wiredforhealth.gov.uk/cat.php?catid=894&amp;docid=7287" TargetMode="External"/><Relationship Id="rId2" Type="http://schemas.openxmlformats.org/officeDocument/2006/relationships/hyperlink" Target="http://www.wiredforhealth.gov.uk/cat.php?catid=894&amp;docid=7226" TargetMode="External"/><Relationship Id="rId3" Type="http://schemas.openxmlformats.org/officeDocument/2006/relationships/hyperlink" Target="http://www.wiredforhealth.gov.uk/cat.php?catid=894&amp;docid=7289" TargetMode="External"/><Relationship Id="rId4" Type="http://schemas.openxmlformats.org/officeDocument/2006/relationships/hyperlink" Target="http://www.wiredforhealth.gov.uk/cat.php?catid=894&amp;docid=7288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00cccc"/>
                </a:solidFill>
                <a:uFillTx/>
                <a:latin typeface="Comic Sans MS"/>
              </a:rPr>
              <a:t>Drugs</a:t>
            </a:r>
            <a:endParaRPr b="0" lang="en-US" sz="44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Intermediate 1 B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Unit 1 – Health and Techn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 u="sng">
                <a:solidFill>
                  <a:srgbClr val="00cccc"/>
                </a:solidFill>
                <a:uFillTx/>
                <a:latin typeface="Comic Sans MS"/>
              </a:rPr>
              <a:t>Types of Drugs – Anabolic Steroids</a:t>
            </a:r>
            <a:endParaRPr b="0" lang="en-US" sz="40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Comic Sans MS"/>
              </a:rPr>
              <a:t>Drugs that promote muscle growth and increase lean body mas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Comic Sans MS"/>
              </a:rPr>
              <a:t>These drugs mostly have legitimate medical 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Comic Sans MS"/>
              </a:rPr>
              <a:t>They are often misused by those wishing to enhance their athletic performance or strength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00cccc"/>
                </a:solidFill>
                <a:uFillTx/>
                <a:latin typeface="Comic Sans MS"/>
              </a:rPr>
              <a:t>Statistics</a:t>
            </a:r>
            <a:endParaRPr b="0" lang="en-US" sz="44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Comic Sans MS"/>
              </a:rPr>
              <a:t>The following statistics are from the results of a major national survey of secondary schoolchildren aged 11-15 published by the Department of Health (DH) in 2002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Comic Sans MS"/>
              </a:rPr>
              <a:t>12% of pupils had used illegal drugs in the last month and 20% had used illegal drugs in the last year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Comic Sans MS"/>
              </a:rPr>
              <a:t>13% of boys reported taking drugs in the last month compared to 11% of girl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Comic Sans MS"/>
              </a:rPr>
              <a:t>Use increased with age. Six percent of 11-year-olds had used drugs in the last year compared to 39% of 15-year-old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Comic Sans MS"/>
              </a:rPr>
              <a:t>Cannabis is the most likely drug to have been used, with 13% of pupils reporting use in the last year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Comic Sans MS"/>
              </a:rPr>
              <a:t>Cannabis use also increases sharply with age with 1% of 11-year-olds having used the drug in past year compared with 31% of 15-year-old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Comic Sans MS"/>
              </a:rPr>
              <a:t>Class A drugs had been used by 4% of 11-15 year olds. One percent say they used heroin or cocain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00cccc"/>
                </a:solidFill>
                <a:uFillTx/>
                <a:latin typeface="Comic Sans MS"/>
              </a:rPr>
              <a:t>Risks of Using Drugs</a:t>
            </a:r>
            <a:endParaRPr b="0" lang="en-US" sz="44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Risks vary according to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Comic Sans MS"/>
              </a:rPr>
              <a:t>-circumstances of the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Comic Sans MS"/>
              </a:rPr>
              <a:t>-the motivation and knowledge level of the us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Comic Sans MS"/>
              </a:rPr>
              <a:t>-their mood and expectation at the tim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Comic Sans MS"/>
              </a:rPr>
              <a:t>-the manner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Comic Sans MS"/>
              </a:rPr>
              <a:t>-size of do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Comic Sans MS"/>
              </a:rPr>
              <a:t>-purity of the samp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 u="sng">
                <a:solidFill>
                  <a:srgbClr val="00cccc"/>
                </a:solidFill>
                <a:uFillTx/>
                <a:latin typeface="Comic Sans MS"/>
              </a:rPr>
              <a:t>Risks Factors Involved in Drug Taking</a:t>
            </a:r>
            <a:endParaRPr b="0" lang="en-US" sz="40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Comic Sans MS"/>
              </a:rPr>
              <a:t>Users can never be sure of exactly what they are taking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Comic Sans MS"/>
              </a:rPr>
              <a:t>Not knowing the strength of what has been bought could lead to an accidental overdose (which may be life-threatening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Comic Sans MS"/>
              </a:rPr>
              <a:t>Users can't be precisely sure of the effect the drug will have, even if they have taken it before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Comic Sans MS"/>
              </a:rPr>
              <a:t>Sharing dirty needles or syringes carries a risk of serious infection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Comic Sans MS"/>
              </a:rPr>
              <a:t>Mixing drugs, or drugs with alcoho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Comic Sans MS"/>
              </a:rPr>
              <a:t>Getting a criminal record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Comic Sans MS"/>
              </a:rPr>
              <a:t>Effects on relationships, financial pressures, reducing judgement or performance etc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00cccc"/>
                </a:solidFill>
                <a:uFillTx/>
                <a:latin typeface="Comic Sans MS"/>
              </a:rPr>
              <a:t>Class A Drugs</a:t>
            </a:r>
            <a:endParaRPr b="0" lang="en-US" sz="44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Amphetamines (speed) - if prepared for injectio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Cocaine and crack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Ecstasy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Heroi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LSD (acid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Magic mushrooms - if prepared for use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00cccc"/>
                </a:solidFill>
                <a:uFillTx/>
                <a:latin typeface="Comic Sans MS"/>
              </a:rPr>
              <a:t>Possession of Class A Drugs</a:t>
            </a:r>
            <a:endParaRPr b="0" lang="en-US" sz="44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Possession: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-seven years prison and/or a f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Possession with intent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to supp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-life imprisonment and/or a fin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00cccc"/>
                </a:solidFill>
                <a:uFillTx/>
                <a:latin typeface="Comic Sans MS"/>
              </a:rPr>
              <a:t>Class B Drugs</a:t>
            </a:r>
            <a:endParaRPr b="0" lang="en-US" sz="44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Amphetamines (speed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Possess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-five years prison and/or a f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Possession with intent to supp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-14 years prison and/or a fin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00cccc"/>
                </a:solidFill>
                <a:uFillTx/>
                <a:latin typeface="Comic Sans MS"/>
              </a:rPr>
              <a:t>Introduction</a:t>
            </a:r>
            <a:endParaRPr b="0" lang="en-US" sz="44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Humans have used drugs of one sort or another for thousands of yea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-wine was used at least from the time of the early Egyptian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-narcotics from 4000 BC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-medicinal use of marijuana has been dated to 2737BC  in Chin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00cccc"/>
                </a:solidFill>
                <a:uFillTx/>
                <a:latin typeface="Comic Sans MS"/>
              </a:rPr>
              <a:t>Class C Drugs</a:t>
            </a:r>
            <a:endParaRPr b="0" lang="en-US" sz="44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Anabolic steroid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Cannab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Mild amphetamine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GBH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Tranquillisers DF 118 (painkillers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00cccc"/>
                </a:solidFill>
                <a:uFillTx/>
                <a:latin typeface="Comic Sans MS"/>
              </a:rPr>
              <a:t>Possession of Class C Drugs</a:t>
            </a:r>
            <a:endParaRPr b="0" lang="en-US" sz="44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Possess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-two years prison and/or a f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Possession with intent to supp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-14 years prison and/or a fin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http://www.mindbodysoul.gov.uk/drugs/drugmenu.ht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http://www.sorted4.info/html/400/430.ht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http://www.stonerlemmings.c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mic Sans MS"/>
              </a:rPr>
              <a:t>http://www.lifebytes.gov.uk/drugs/drugs_facts.ht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00cccc"/>
                </a:solidFill>
                <a:uFillTx/>
                <a:latin typeface="Comic Sans MS"/>
              </a:rPr>
              <a:t>Useful Websites</a:t>
            </a:r>
            <a:endParaRPr b="0" lang="en-US" sz="44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1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00cccc"/>
                </a:solidFill>
                <a:uFillTx/>
                <a:latin typeface="Comic Sans MS"/>
              </a:rPr>
              <a:t>Types of Drugs-Stimulants</a:t>
            </a:r>
            <a:endParaRPr b="0" lang="en-US" sz="44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Comic Sans MS"/>
              </a:rPr>
              <a:t>Drugs that act on the central nervo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Comic Sans MS"/>
              </a:rPr>
              <a:t>system and increase brain activity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Comic Sans MS"/>
              </a:rPr>
              <a:t>Some give feelings of alertness, grea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Comic Sans MS"/>
              </a:rPr>
              <a:t>energy and confidence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Comic Sans MS"/>
              </a:rPr>
              <a:t>They may also reduce appeti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00cccc"/>
                </a:solidFill>
                <a:uFillTx/>
                <a:latin typeface="Comic Sans MS"/>
              </a:rPr>
              <a:t>Examples of Stimulants</a:t>
            </a:r>
            <a:endParaRPr b="0" lang="en-US" sz="44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 u="sng">
                <a:solidFill>
                  <a:srgbClr val="ff9933"/>
                </a:solidFill>
                <a:uFillTx/>
                <a:latin typeface="Comic Sans MS"/>
                <a:hlinkClick r:id="rId1"/>
              </a:rPr>
              <a:t>Cocaine</a:t>
            </a:r>
            <a:r>
              <a:rPr b="0" lang="uk-UA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 u="sng">
                <a:solidFill>
                  <a:srgbClr val="ff9933"/>
                </a:solidFill>
                <a:uFillTx/>
                <a:latin typeface="Comic Sans MS"/>
                <a:hlinkClick r:id="rId2"/>
              </a:rPr>
              <a:t>Crack</a:t>
            </a:r>
            <a:r>
              <a:rPr b="0" lang="uk-UA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 u="sng">
                <a:solidFill>
                  <a:srgbClr val="ff9933"/>
                </a:solidFill>
                <a:uFillTx/>
                <a:latin typeface="Comic Sans MS"/>
                <a:hlinkClick r:id="rId3"/>
              </a:rPr>
              <a:t>Ecstasy</a:t>
            </a:r>
            <a:r>
              <a:rPr b="0" lang="uk-UA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 u="sng">
                <a:solidFill>
                  <a:srgbClr val="ff9933"/>
                </a:solidFill>
                <a:uFillTx/>
                <a:latin typeface="Comic Sans MS"/>
                <a:hlinkClick r:id="rId4"/>
              </a:rPr>
              <a:t>Alkyl Nitrites</a:t>
            </a:r>
            <a:r>
              <a:rPr b="0" lang="uk-UA" sz="3200" spc="-1" strike="noStrike">
                <a:solidFill>
                  <a:srgbClr val="ffffff"/>
                </a:solidFill>
                <a:latin typeface="Comic Sans MS"/>
              </a:rPr>
              <a:t> e.g. popp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 u="sng">
                <a:solidFill>
                  <a:srgbClr val="ff9933"/>
                </a:solidFill>
                <a:uFillTx/>
                <a:latin typeface="Comic Sans MS"/>
                <a:hlinkClick r:id="rId5"/>
              </a:rPr>
              <a:t>Amphetamines</a:t>
            </a:r>
            <a:r>
              <a:rPr b="0" lang="uk-UA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 u="sng">
                <a:solidFill>
                  <a:srgbClr val="ff9933"/>
                </a:solidFill>
                <a:uFillTx/>
                <a:latin typeface="Comic Sans MS"/>
                <a:hlinkClick r:id="rId6"/>
              </a:rPr>
              <a:t>Nicotine</a:t>
            </a:r>
            <a:r>
              <a:rPr b="0" lang="uk-UA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00cccc"/>
                </a:solidFill>
                <a:uFillTx/>
                <a:latin typeface="Comic Sans MS"/>
              </a:rPr>
              <a:t>Types of Drugs-Depressants</a:t>
            </a:r>
            <a:endParaRPr b="0" lang="en-US" sz="44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Comic Sans MS"/>
              </a:rPr>
              <a:t>Drugs that act on the central nervous system and slow down brain activit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Comic Sans MS"/>
              </a:rPr>
              <a:t>Impaired co-ordination, balance and judgement are common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Comic Sans MS"/>
              </a:rPr>
              <a:t>Higher doses can lead progressively to drowsiness, vomiting, coma and even death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00cccc"/>
                </a:solidFill>
                <a:uFillTx/>
                <a:latin typeface="Comic Sans MS"/>
              </a:rPr>
              <a:t>Examples of Depressants</a:t>
            </a:r>
            <a:endParaRPr b="0" lang="en-US" sz="44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 u="sng">
                <a:solidFill>
                  <a:srgbClr val="ff9933"/>
                </a:solidFill>
                <a:uFillTx/>
                <a:latin typeface="Comic Sans MS"/>
                <a:hlinkClick r:id="rId1"/>
              </a:rPr>
              <a:t>Volatile substances or sniffable substances (eg glues, gases, aerosols)</a:t>
            </a:r>
            <a:r>
              <a:rPr b="0" lang="uk-UA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 u="sng">
                <a:solidFill>
                  <a:srgbClr val="ff9933"/>
                </a:solidFill>
                <a:uFillTx/>
                <a:latin typeface="Comic Sans MS"/>
                <a:hlinkClick r:id="rId2"/>
              </a:rPr>
              <a:t>Alcohol</a:t>
            </a:r>
            <a:r>
              <a:rPr b="0" lang="uk-UA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 u="sng">
                <a:solidFill>
                  <a:srgbClr val="ff9933"/>
                </a:solidFill>
                <a:uFillTx/>
                <a:latin typeface="Comic Sans MS"/>
                <a:hlinkClick r:id="rId3"/>
              </a:rPr>
              <a:t>Tranquillisers</a:t>
            </a:r>
            <a:r>
              <a:rPr b="0" lang="uk-UA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 u="sng">
                <a:solidFill>
                  <a:srgbClr val="ff9933"/>
                </a:solidFill>
                <a:uFillTx/>
                <a:latin typeface="Comic Sans MS"/>
                <a:hlinkClick r:id="rId4"/>
              </a:rPr>
              <a:t>GHB (Gamma hydroxy-butyrate)</a:t>
            </a:r>
            <a:r>
              <a:rPr b="0" lang="uk-UA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 u="sng">
                <a:solidFill>
                  <a:srgbClr val="00cccc"/>
                </a:solidFill>
                <a:uFillTx/>
                <a:latin typeface="Comic Sans MS"/>
              </a:rPr>
              <a:t>Types of Drugs-Hallucinogens</a:t>
            </a:r>
            <a:endParaRPr b="0" lang="en-US" sz="40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Comic Sans MS"/>
              </a:rPr>
              <a:t>Drugs that act to change the way users experience the world through the five sense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Comic Sans MS"/>
              </a:rPr>
              <a:t>Sometimes this involves seeing, and hearing things which aren't ther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00cccc"/>
                </a:solidFill>
                <a:uFillTx/>
                <a:latin typeface="Comic Sans MS"/>
              </a:rPr>
              <a:t>Examples of Hallucinogens</a:t>
            </a:r>
            <a:endParaRPr b="0" lang="en-US" sz="44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Comic Sans MS"/>
              </a:rPr>
              <a:t>Cannab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Comic Sans MS"/>
              </a:rPr>
              <a:t>LS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Comic Sans MS"/>
              </a:rPr>
              <a:t>Magic mushroom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Comic Sans MS"/>
              </a:rPr>
              <a:t>Ketamin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00cccc"/>
                </a:solidFill>
                <a:uFillTx/>
                <a:latin typeface="Comic Sans MS"/>
              </a:rPr>
              <a:t>Types of Drugs - Analgesics</a:t>
            </a:r>
            <a:endParaRPr b="0" lang="en-US" sz="44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Comic Sans MS"/>
              </a:rPr>
              <a:t>Drugs that have a painkilling effec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e.g.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-hero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-opiu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-morph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4T17:36:58Z</dcterms:created>
  <dc:creator>Education</dc:creator>
  <dc:description/>
  <dc:language>en-US</dc:language>
  <cp:lastModifiedBy>LEGION2</cp:lastModifiedBy>
  <dcterms:modified xsi:type="dcterms:W3CDTF">2016-01-14T09:10:06Z</dcterms:modified>
  <cp:revision>9</cp:revision>
  <dc:subject/>
  <dc:title>Drugs</dc:title>
</cp:coreProperties>
</file>