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8ACF-4433-4073-B80E-9F3335CF67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 – Anabolic Ster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promote muscle growth and increase lean body mass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drugs mostly have legitimate medical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often misused by those wishing to enhance their athletic performance or strength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 – Anabolic 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promote muscle growth and increase lean body ma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rugs mostly have legitimate med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often misused by those wishing to enhance their athletic performance or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% of pupils had used illegal drugs in the last month and 20% had used illegal drugs in the last year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% of boys reported taking drugs in the last month compared to 11% of girl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increased with age. Six percent of 11-year-olds had used drugs in the last year compared to 39% of 15-year-ol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% of pupils had used illegal drugs in the last month and 20% had used illegal drugs in the last y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% of boys reported taking drugs in the last month compared to 11% of gir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creased with age. Six percent of 11-year-olds had used drugs in the last year compared to 39% of 15-year-o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is the most likely drug to have been used, with 13% of pupils reporting use in the last year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use also increases sharply with age with 1% of 11-year-olds having used the drug in past year compared with 31% of 15-year-ol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A drugs had been used by 4% of 11-15 year olds. One percent say they used heroin or coca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is the most likely drug to have been used, with 13% of pupils reporting use in the last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use also increases sharply with age with 1% of 11-year-olds having used the drug in past year compared with 31% of 15-year-o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A drugs had been used by 4% of 11-15 year olds. One percent say they used heroin or coca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of Using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vary according t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ircumstances of the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motivation and knowledge level of the us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ir mood and expectation at the time of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manner of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ize of d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urity of the samp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Using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vary according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ircumstances of th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motivation and knowledge level of th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ir mood and expectation at the time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manner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ze of d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urity of th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Factors Involved in Drug Tak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s can never be sure of exactly what they are taking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knowing the strength of what has been bought could lead to an accidental overdose (which may be life-threatening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s can't be precisely sure of the effect the drug will have, even if they have taken it befor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Factors Involved in Drug T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 never be sure of exactly what they are ta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knowing the strength of what has been bought could lead to an accidental overdose (which may be life-threatenin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't be precisely sure of the effect the drug will have, even if they have taken it bef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dirty needles or syringes carries a risk of serious infection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ing drugs, or drugs with alcoho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ting a criminal recor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n relationships, financial pressures, reducing judgement or performance etc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dirty needles or syringes carries a risk of serious inf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ing drugs, or drugs with 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a criminal rec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relationships, financial pressures, reducing judgement or performance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A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hetamines (speed) - if prepared for injection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and crack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oin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SD (acid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ic mushrooms - if prepared for us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A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(speed) - if prepared for inj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and cr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o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D (aci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mushrooms - if prepared for 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of Class A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even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fe imprisonment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of Class A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even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fe imprisonment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B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hetamines (spe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ive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B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(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ve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have used drugs of one sort or another for thousands of yea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ne was used at least from the time of the early Egyptian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narcotics from 4000 BC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dicinal use of marijuana has been dated to 2737BC  in Chin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have used drugs of one sort or another for thousan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e was used at least from the time of the early Egypt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arcotics from 4000 B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dicinal use of marijuana has been dated to 2737BC 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ass C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bolic steroi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ld amphetamin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BH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quillisers DF 118 (painkillers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C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bolic stero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d amphetam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quillisers DF 118 (painkill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of Class C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wo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of Class C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wo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mindbodysoul.gov.uk/drugs/drugmenu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orted4.info/html/400/430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tonerlemmings.c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lifebytes.gov.uk/drugs/drugs_facts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ful Websi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ndbodysoul.gov.uk/drugs/drugmenu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orted4.info/html/400/43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tonerlemming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febytes.gov.uk/drugs/drugs_fa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Web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Stimu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on the central nervou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 and increase brain activity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give feelings of alertness, great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confidenc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also reduce appetit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Stimu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on the central nerv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nd increase brain acti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give feelings of alertness,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onf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also reduce appeti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Stimu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ca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ack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kyl Nitrites e.g. popp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phetamin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cot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timu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yl Nitrites e.g. p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t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Depress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on the central nervous system and slow down brain activity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ired co-ordination, balance and judgement are common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er doses can lead progressively to drowsiness, vomiting, coma and even death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Depres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on the central nervous system and slow down brain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ired co-ordination, balance and judgement are comm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doses can lead progressively to drowsiness, vomiting, coma and even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Depress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latile substances or sniffable substances (eg glues, gases, aerosols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quilliser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HB (Gamma hydroxy-butyrate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Depres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atile substances or sniffable substances (eg glues, gases, aerosol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quilli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B (Gamma hydroxy-buty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Hallucinoge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to change the way users experience the world through the five senses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imes this involves seeing, and hearing things which aren't ther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Hallucin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to change the way users experience the world through the five sen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is involves seeing, and hearing things which aren'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Hallucinoge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SD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ic mushroom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tam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lucin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mushro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ta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Drugs - Analges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rugs that have a painkilling effec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hero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p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morph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 - Analge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have a painkilling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p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rp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506-6845-4F3D-BF93-B31BE534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DDA-6890-443C-9F3F-4661EFEF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EDEB-CE32-45FA-81C7-70F91AD0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F79-2587-40CE-972F-F1C9CFF8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C159-28B6-431F-8506-7796CB54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E792-338A-4020-AB76-B740DBAD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B54D-191F-4A15-B39E-4691A9B1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B5A5-EFA5-4FF1-A8D7-D1C7047B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1C78-25D7-460E-A606-88E2EC8B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811D-B799-4287-8FF9-7EED6570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1771-6CC7-4959-BC7B-3FFCE12B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3E9-B3F9-45A6-A196-2C1327D4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4938-E489-416D-B1A7-1001E06A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872E-0446-4A63-A384-7E7D06B2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C306-C426-4B47-B641-17ED77A9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1CB4-3785-47A4-B432-624F88DA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BB7E-A740-40E0-B508-82DB5580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F0E-B157-44A2-B0D1-21CD89F0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D83-105D-40A8-8532-F1FA9C04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B7B-210C-4599-83E1-29A84FCE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09D-1F45-4CA9-8217-E82F6C43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3A7-B964-4201-B21D-2DEA78C7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098-60BB-4DB7-BB18-1A2C3784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4EF-8CAF-4AC2-AC8B-D8833ED2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Rectangle 3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007C-EBC7-4797-828C-0C8E8AA4DFB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5" name="Rectangle 8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25B9-6A38-4016-8CD1-E58B38521D5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redforhealth.gov.uk/cat.php?catid=894&amp;docid=7282" TargetMode="External"/><Relationship Id="rId2" Type="http://schemas.openxmlformats.org/officeDocument/2006/relationships/hyperlink" Target="http://www.wiredforhealth.gov.uk/cat.php?catid=894&amp;docid=7283" TargetMode="External"/><Relationship Id="rId3" Type="http://schemas.openxmlformats.org/officeDocument/2006/relationships/hyperlink" Target="http://www.wiredforhealth.gov.uk/cat.php?catid=894&amp;docid=7284" TargetMode="External"/><Relationship Id="rId4" Type="http://schemas.openxmlformats.org/officeDocument/2006/relationships/hyperlink" Target="http://www.wiredforhealth.gov.uk/cat.php?catid=894&amp;docid=7285" TargetMode="External"/><Relationship Id="rId5" Type="http://schemas.openxmlformats.org/officeDocument/2006/relationships/hyperlink" Target="http://www.wiredforhealth.gov.uk/cat.php?catid=894&amp;docid=7286" TargetMode="External"/><Relationship Id="rId6" Type="http://schemas.openxmlformats.org/officeDocument/2006/relationships/hyperlink" Target="http://www.wiredforhealth.gov.uk/cat.php?catid=911&amp;docid=732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redforhealth.gov.uk/cat.php?catid=894&amp;docid=7287" TargetMode="External"/><Relationship Id="rId2" Type="http://schemas.openxmlformats.org/officeDocument/2006/relationships/hyperlink" Target="http://www.wiredforhealth.gov.uk/cat.php?catid=894&amp;docid=7226" TargetMode="External"/><Relationship Id="rId3" Type="http://schemas.openxmlformats.org/officeDocument/2006/relationships/hyperlink" Target="http://www.wiredforhealth.gov.uk/cat.php?catid=894&amp;docid=7289" TargetMode="External"/><Relationship Id="rId4" Type="http://schemas.openxmlformats.org/officeDocument/2006/relationships/hyperlink" Target="http://www.wiredforhealth.gov.uk/cat.php?catid=894&amp;docid=728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 – Anabolic Steroids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promote muscle growth and increase lean body ma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se drugs mostly have legitimate medical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y are often misused by those wishing to enhance their athletic performance or streng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Statist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12% of pupils had used illegal drugs in the last month and 20% had used illegal drugs in the last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13% of boys reported taking drugs in the last month compared to 11% of gir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Use increased with age. Six percent of 11-year-olds had used drugs in the last year compared to 39% of 15-year-ol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annabis is the most likely drug to have been used, with 13% of pupils reporting use in the last y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annabis use also increases sharply with age with 1% of 11-year-olds having used the drug in past year compared with 31% of 15-year-ol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lass A drugs had been used by 4% of 11-15 year olds. One percent say they used heroin or coca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Risks of Using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isks vary according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circumstances of th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 motivation and knowledge level of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ir mood and expectation at the tim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 manner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size of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purity of the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Risks Factors Involved in Drug Taking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Users can never be sure of exactly what they are ta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Not knowing the strength of what has been bought could lead to an accidental overdose (which may be life-threaten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Users can't be precisely sure of the effect the drug will have, even if they have taken it befo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Sharing dirty needles or syringes carries a risk of serious infe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Mixing drugs, or drugs with alcoh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Getting a criminal reco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Effects on relationships, financial pressures, reducing judgement or performance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A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mphetamines (speed) - if prepared for inj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caine and crac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cstas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ero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SD (aci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gic mushrooms - if prepared for 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Possession of Class A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: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seven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life imprisonment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B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mphetamines (spe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five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 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14 years prison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umans have used drugs of one sort or another for thousands of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wine was used at least from the time of the early Egypt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narcotics from 4000 B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medicinal use of marijuana has been dated to 2737BC 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C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bolic steroi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nab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ld amphetam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B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anquillisers DF 118 (painkiller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Possession of Class C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two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 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14 years prison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mindbodysoul.gov.uk/drugs/drugmenu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sorted4.info/html/400/430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stonerlemmings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http://www.lifebytes.gov.uk/drugs/drugs_fact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Useful Website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Stimul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act on the central nerv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system and increase brain activ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Some give feelings of alertness, gr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energy and confid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y may also reduce appeti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Stimul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1"/>
              </a:rPr>
              <a:t>Cocaine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2"/>
              </a:rPr>
              <a:t>Crack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3"/>
              </a:rPr>
              <a:t>Ecstasy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4"/>
              </a:rPr>
              <a:t>Alkyl Nitrites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e.g. pop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5"/>
              </a:rPr>
              <a:t>Amphetamines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6"/>
              </a:rPr>
              <a:t>Nicotine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Depress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act on the central nervous system and slow down brain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Impaired co-ordination, balance and judgement are comm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Higher doses can lead progressively to drowsiness, vomiting, coma and even de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Depress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1"/>
              </a:rPr>
              <a:t>Volatile substances or sniffable substances (eg glues, gases, aerosols)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2"/>
              </a:rPr>
              <a:t>Alcohol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3"/>
              </a:rPr>
              <a:t>Tranquillisers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4"/>
              </a:rPr>
              <a:t>GHB (Gamma hydroxy-butyrate)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Hallucinogens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Drugs that act to change the way users experience the world through the five sen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Sometimes this involves seeing, and hearing things which aren't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Hallucinogen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Cannab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LS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Magic mushroo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Ketam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 - Analges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Drugs that have a painkilling eff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.g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her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op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orp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7:36:58Z</dcterms:created>
  <dc:creator>Education</dc:creator>
  <dc:description/>
  <dc:language>en-US</dc:language>
  <cp:lastModifiedBy>LEGION2</cp:lastModifiedBy>
  <dcterms:modified xsi:type="dcterms:W3CDTF">2016-01-14T09:10:06Z</dcterms:modified>
  <cp:revision>9</cp:revision>
  <dc:subject/>
  <dc:title>Drugs</dc:title>
</cp:coreProperties>
</file>