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427A-F342-4624-9A0B-46050D786E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5F0-77A2-4BB6-89CC-E5D725C6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43D-0B60-4E2C-BBCD-47EA03C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F72-6399-4CD7-954F-4065B6AC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99A-36CA-4AEF-B830-356EE3D5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162B-6570-481E-B1C4-8CBBAFF0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A956-8334-4988-86C9-71AED011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1156-A199-4411-A39A-D48EB622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6D47-305F-4FCB-AB50-12072836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805F-808C-4F5B-A718-EF4DBD07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4D36-F675-4DD7-93EF-C0A354A5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0C11-8C4B-4AEB-9978-6FD97A0B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107-8B90-42AE-8B1F-F5CCFF20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DCF0-A038-4F73-9166-47721AF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7CE9-28D5-451B-BBCC-20961F89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2AFB-9B91-419A-BD42-B6C18A86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6D4B-3722-43D6-BA9B-82A8BB0A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B33C-63CC-4400-A947-8B07B090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B6D-CC68-4A49-8FF2-709683EC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F35-698B-4B50-BF03-623B6E10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775-4FE2-4681-BFED-D7E07CFA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24B-53BF-4BB8-9282-5AEAA3A8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8D2-EF33-4CB7-87C9-C700ABD6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264-D41A-4C3C-949F-80848E8A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9B2-C337-4632-B44A-EE481988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F3A3-06B2-4AAF-AB21-8F5959E2AA1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891C-19C5-490A-BBBA-5A9516DFE7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2" TargetMode="External"/><Relationship Id="rId2" Type="http://schemas.openxmlformats.org/officeDocument/2006/relationships/hyperlink" Target="http://www.wiredforhealth.gov.uk/cat.php?catid=894&amp;docid=7283" TargetMode="External"/><Relationship Id="rId3" Type="http://schemas.openxmlformats.org/officeDocument/2006/relationships/hyperlink" Target="http://www.wiredforhealth.gov.uk/cat.php?catid=894&amp;docid=7284" TargetMode="External"/><Relationship Id="rId4" Type="http://schemas.openxmlformats.org/officeDocument/2006/relationships/hyperlink" Target="http://www.wiredforhealth.gov.uk/cat.php?catid=894&amp;docid=7285" TargetMode="External"/><Relationship Id="rId5" Type="http://schemas.openxmlformats.org/officeDocument/2006/relationships/hyperlink" Target="http://www.wiredforhealth.gov.uk/cat.php?catid=894&amp;docid=7286" TargetMode="External"/><Relationship Id="rId6" Type="http://schemas.openxmlformats.org/officeDocument/2006/relationships/hyperlink" Target="http://www.wiredforhealth.gov.uk/cat.php?catid=911&amp;docid=732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7" TargetMode="External"/><Relationship Id="rId2" Type="http://schemas.openxmlformats.org/officeDocument/2006/relationships/hyperlink" Target="http://www.wiredforhealth.gov.uk/cat.php?catid=894&amp;docid=7226" TargetMode="External"/><Relationship Id="rId3" Type="http://schemas.openxmlformats.org/officeDocument/2006/relationships/hyperlink" Target="http://www.wiredforhealth.gov.uk/cat.php?catid=894&amp;docid=7289" TargetMode="External"/><Relationship Id="rId4" Type="http://schemas.openxmlformats.org/officeDocument/2006/relationships/hyperlink" Target="http://www.wiredforhealth.gov.uk/cat.php?catid=894&amp;docid=728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– Anabolic Steroid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promote muscle growth and increase lean body m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se drugs mostly have legitimate medical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are often misused by those wishing to enhance their athletic performance or streng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2% of pupils had used illegal drugs in the last month and 20% had used illegal drugs in the last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3% of boys reported taking drugs in the last month compared to 11% of 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Use increased with age. Six percent of 11-year-olds had used drugs in the last year compared to 39% of 15-year-ol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is the most likely drug to have been used, with 13% of pupils reporting use in the last y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use also increases sharply with age with 1% of 11-year-olds having used the drug in past year compared with 31% of 15-year-ol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lass A drugs had been used by 4% of 11-15 year olds. One percent say they used heroin or coca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Risks of Using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isks vary according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circumstances of th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otivation and knowledge level of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ir mood and expectation at the tim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anner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size of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purity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Risks Factors Involved in Drug Taking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 never be sure of exactly what they are ta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Not knowing the strength of what has been bought could lead to an accidental overdose (which may be life-threaten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't be precisely sure of the effect the drug will have, even if they have taken it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haring dirty needles or syringes carries a risk of serious inf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ixing drugs, or drugs with alcoh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Getting a criminal reco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Effects on relationships, financial pressures, reducing judgement or performance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 - if prepared for inj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caine and cra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cstas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ro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SD (aci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gic mushrooms - if prepared for 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: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seven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life imprisonment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B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five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umans have used drugs of one sort or another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wine was used at least from the time of the early Egypt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narcotics from 4000 B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medicinal use of marijuana has been dated to 2737BC 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bolic steroi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ld ampheta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B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nquillisers DF 118 (painkill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two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mindbodysoul.gov.uk/drugs/drugmenu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orted4.info/html/400/430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tonerlemming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ttp://www.lifebytes.gov.uk/drugs/drugs_fact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Useful Websit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ystem and increase brain activ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ome give feelings of alertness, gr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energy and conf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may also reduce appet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Coca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Crack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Ecstasy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Alkyl Nitrit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e.g. po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5"/>
              </a:rPr>
              <a:t>Amphetamin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6"/>
              </a:rPr>
              <a:t>Nicot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 system and slow down brai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Impaired co-ordination, balance and judgement are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Higher doses can lead progressively to drowsiness, vomiting, coma and even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Volatile substances or sniffable substances (eg glues, gases, aerosols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Alcohol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Tranquillisers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GHB (Gamma hydroxy-butyrate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Hallucinogen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act to change the way users experience the world through the five sen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ometimes this involves seeing, and hearing things which aren'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Hallucinoge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LS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agic mus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Ketam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- Analges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have a painkilling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op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orp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7:36:58Z</dcterms:created>
  <dc:creator>Education</dc:creator>
  <dc:description/>
  <dc:language>en-US</dc:language>
  <cp:lastModifiedBy>LEGION2</cp:lastModifiedBy>
  <dcterms:modified xsi:type="dcterms:W3CDTF">2016-01-14T09:10:06Z</dcterms:modified>
  <cp:revision>9</cp:revision>
  <dc:subject/>
  <dc:title>Drugs</dc:title>
</cp:coreProperties>
</file>