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5F13-97F5-4FEB-BF25-69C355C2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4A2-82D8-4B7A-9486-B6CEB792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76B-B4C0-480E-BA2B-CB8A0EE8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CB8-21B8-48E8-A495-FA468385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C9B-5F9C-4587-9C29-A3050AF4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FEC-2D04-43BD-A36D-1E1DDD39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F15-7CB9-454C-9670-4226FA9B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897-E52F-4874-8990-F605086A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79F-698F-4470-822F-2A4EAD6A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AF7-383E-4B6A-938E-5234E38C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27C-2C90-4526-9E43-6F8B543D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0A7-762E-4184-9166-9B5DF6C0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469-A380-4C4F-88EA-59A78A2C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E277-8F99-49D5-8B00-5662EB333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2</cp:lastModifiedBy>
  <dcterms:modified xsi:type="dcterms:W3CDTF">2016-01-14T09:13:06Z</dcterms:modified>
  <cp:revision>47</cp:revision>
  <dc:subject>Endocrine and nervous system</dc:subject>
  <dc:title>Endocrine and nervous system</dc:title>
</cp:coreProperties>
</file>