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EC07-ADEF-4DED-A559-B3F5703CA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ercentage to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ercentage to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2O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2O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is 49.48% C, 5.15% H, 28.87% N and 16.49% O. What is its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is 49.48% C, 5.15% H, 28.87% N and 16.49% O. What is its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.48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5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.87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49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.1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o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we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1mol 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at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ch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.48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5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.87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49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.1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o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we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1mol 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at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ch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.12H5.15N2.1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pirical mass = 97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R  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.12H5.15N2.1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pirical mass = 97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R  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to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empirical formula is the lowest ratio the actual molecule would weigh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a whole number multi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the actual molar mass by the mass of one mole of the empir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has a molar mass of 194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to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empirical formula is the lowest ratio the actual molecule would weigh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a whole number multi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the actual molar mass by the mass of one mole of the empir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has a molar mass of 194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ind x 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9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7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8H10N4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ind x 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9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7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8H10N4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known to be composed of 71.65 % Cl, 24.27% C and 4.07% H. Its molar mass is known (from gas density) is known to be 98.96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known to be composed of 71.65 % Cl, 24.27% C and 4.07% H. Its molar mass is known (from gas density) is known to be 98.96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.65  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.27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07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1.65  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4.27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07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4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2mol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1C1H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2mol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1C1H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whole number ratio of elements in a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lecular formula the actual ratio of elements in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can be the s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2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H4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H6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whole number ratio of elements in a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lecular formula the actual ratio of elements in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can be the s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2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H4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H6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  Cl1C1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X   Cl1C1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 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nd the lowest whole number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6H12O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just the ratio of atoms, it is also the ratio of moles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 mole of CO2 there is 1 mole of carbon and 2 mole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molecule of CO2 there is 1 atom of C and 2 atoms of 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nd the lowest whole number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6H12O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just the ratio of atoms, it is also the ratio of moles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 mole of CO2 there is 1 mole of carbon and 2 mole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molecule of CO2 there is 1 atom of C and 2 atoms of 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end that you have a 100 gram sample of the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, change the % to 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he grams to mols for each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number of mols as a subscript in a chem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each number by the leas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end that you have a 100 gram sample of the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, change the % to 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he grams to mols for each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number of mols as a subscript in a chem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each number by the leas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empirical formula of a compound composed of 38.67 % C, 16.22 % H, and 45.11 %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100 g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.67 g C  x   1mol C      = 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01 g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22 g H x   1mol H      = 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1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.11 g N  x   1mol N    = 3.219 mole 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01 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empirical formula of a compound composed of 38.67 % C, 16.22 % H, and 45.11 %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100 g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.67 g C  x   1mol C      = 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01 g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22 g H x   1mol H      = 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1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.11 g N  x   1mol N    = 3.219 mole 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01 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19 mole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.22H16.09N3.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divide all of these by the small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t will give u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19 mole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.22H16.09N3.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divide all of these by the small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t will give u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3.220 mol C  = 1 mol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16.09 mol H  = 5 mol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H5N1 i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43.64 % P and 56.36 % O. What is the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3.220 mol C  = 1 mol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16.09 mol H  = 5 mol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H5N1 i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43.64 % P and 56.36 % O. What is the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.6 g P x   1mol P      = 1.4 mole 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30.97 g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.36 g O  x   1mol O    = 3.5 mol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16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3.6 g P x   1mol P      = 1.4 mole P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30.97 g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6.36 g O  x   1mol O    = 3.5 mole O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16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both by the lowe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 3.52 mol O  = 2.5 mol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1.42 mol P      1 mol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both by the lowe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 3.52 mol O  = 2.5 mol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1.42 mol P      1 mol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07FF-748E-4277-905C-826D2CE8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7F78-77F2-4BB2-9F17-CA718E78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588C-2B79-4C8A-AB04-FA2608EB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567D-1EF0-4118-828E-ABA2CF31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DFC8-A6CE-40BB-AD81-6859CBF9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8191-2FA9-41B9-81B8-4484BA39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74FA-F7F3-43F0-A1E0-BC3CB812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4AD2-D61D-4FC6-8CE9-AEFC2321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C77B-655E-47D7-B299-4D8A9A8D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1FD1-E6C0-4781-9285-2DECDD45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A57B-4438-425D-B086-93141838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3396-574D-4BBE-89D7-A6609931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5419-FB93-424B-9099-BB2003C14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percentage to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020400" y="2286000"/>
            <a:ext cx="134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677960" y="23623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889160" y="2301840"/>
            <a:ext cx="1500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ffeine is 49.48% C, 5.15% H, 28.87% N and 16.49% O. What is its empirical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1981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9.48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15 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.87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49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2438280" y="990720"/>
                <a:ext cx="1035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2209680" y="2590920"/>
                <a:ext cx="1035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2286000" y="4038480"/>
                <a:ext cx="1035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7"/>
              <p:cNvSpPr txBox="1"/>
              <p:nvPr/>
            </p:nvSpPr>
            <p:spPr>
              <a:xfrm>
                <a:off x="2362320" y="5410080"/>
                <a:ext cx="1035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Text Box 9"/>
          <p:cNvSpPr/>
          <p:nvPr/>
        </p:nvSpPr>
        <p:spPr>
          <a:xfrm>
            <a:off x="3796560" y="120816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4.1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3660120" y="289548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5.2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660120" y="434340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.2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3583800" y="571500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094800" y="4267080"/>
            <a:ext cx="262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they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 to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s we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6024600" y="1143000"/>
            <a:ext cx="2885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st (1mol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rat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esn’t 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117880" y="4227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286000" y="2895480"/>
            <a:ext cx="3657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.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.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110760" y="5322960"/>
            <a:ext cx="36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ical mass = 97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109960" y="4038480"/>
            <a:ext cx="289188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to molec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empirical formula is the lowest ratio the actual molecule would weigh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 whole number multi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actual molar mass by the mass of one mole of the empirical 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ffeine has a molar mass of 194 g. what is its molecular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5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5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ind x 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2814480" y="1371600"/>
                <a:ext cx="45817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mu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Rectangle 7"/>
          <p:cNvSpPr/>
          <p:nvPr/>
        </p:nvSpPr>
        <p:spPr>
          <a:xfrm>
            <a:off x="4283640" y="3151080"/>
            <a:ext cx="1485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4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7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3886200" y="38098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615360" y="349416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253680" y="4648320"/>
            <a:ext cx="2055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3352680" y="5676840"/>
            <a:ext cx="3886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1890720" y="466416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is known to be composed of 71.65 % Cl, 24.27% C and 4.07% H. Its molar mass is known (from gas density) is known to be 98.96 g. What is its molecular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1.65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.27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07 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2556000" y="1295280"/>
                <a:ext cx="12571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5"/>
              <p:cNvSpPr txBox="1"/>
              <p:nvPr/>
            </p:nvSpPr>
            <p:spPr>
              <a:xfrm>
                <a:off x="2209680" y="3276720"/>
                <a:ext cx="1035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6"/>
              <p:cNvSpPr txBox="1"/>
              <p:nvPr/>
            </p:nvSpPr>
            <p:spPr>
              <a:xfrm>
                <a:off x="2133720" y="5029200"/>
                <a:ext cx="1035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Text Box 7"/>
          <p:cNvSpPr/>
          <p:nvPr/>
        </p:nvSpPr>
        <p:spPr>
          <a:xfrm>
            <a:off x="4176720" y="1665360"/>
            <a:ext cx="15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735360" y="3454560"/>
            <a:ext cx="15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659040" y="5359320"/>
            <a:ext cx="15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46160" y="4952880"/>
            <a:ext cx="82166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4572000" y="18288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st (2mol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380880" y="2971800"/>
            <a:ext cx="87631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668160" y="3852720"/>
            <a:ext cx="81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46160" y="2438280"/>
            <a:ext cx="82166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80880" y="457200"/>
            <a:ext cx="87631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68160" y="1338120"/>
            <a:ext cx="81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0" y="4799160"/>
                <a:ext cx="42670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mu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4800600" y="4495680"/>
                <a:ext cx="215892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12"/>
          <p:cNvSpPr/>
          <p:nvPr/>
        </p:nvSpPr>
        <p:spPr>
          <a:xfrm>
            <a:off x="6936120" y="4908600"/>
            <a:ext cx="79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345200" y="51055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west whole number ratio of elements in a comp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lecular formula the actual ratio of elements in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can be the sa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mpirical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ar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ar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657600" y="2590920"/>
            <a:ext cx="3560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X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072320" y="3657600"/>
            <a:ext cx="22388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find the lowest whole number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 just the ratio of atoms, it is also the ratio of moles of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 mole of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1 mole of carbon and 2 moles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ne molecule of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re is 1 atom of C and 2 atoms of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5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6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nd that you have a 100 gram sample of the comp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change the % to 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 grams to mols for each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number of mols as a subscript in a chemical form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each number by the least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empirical formula of a compound composed of 38.67 % C, 16.22 % H, and 45.11 %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100 g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.67 g C  x   1mol C      = 3.220 mole 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01 g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22 g H x   1mol H      = 16.09 mole 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01 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.11 g N  x   1mol N    = 3.219 mole 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01 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3276720" y="385776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3276720" y="484812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252960" y="584820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20 mole 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09 mole 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19 mol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905120" y="3886200"/>
            <a:ext cx="53323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3.2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16.09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3.2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03840" y="5181480"/>
            <a:ext cx="816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we divide all of these by the small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It will give us the empirical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 flipH="1" flipV="1">
            <a:off x="3505320" y="4647960"/>
            <a:ext cx="3581280" cy="68580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 is 3.220 mol C  = 1 mol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 is 16.09 mol H  = 5 mol 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is 43.64 % P and 56.36 % O. What is the empirical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024360" y="1809720"/>
            <a:ext cx="253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V="1">
            <a:off x="6072120" y="1828440"/>
            <a:ext cx="154800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2976480" y="2833560"/>
            <a:ext cx="253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 flipV="1">
            <a:off x="6024600" y="2852640"/>
            <a:ext cx="1547640" cy="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.6 g P x   1mol P      = 1.4 mole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30.97 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.36 g O  x   1mol O    = 3.5 mole 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16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312408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3276720" y="3200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971800" y="4495680"/>
            <a:ext cx="172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e both by the lowest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 is  3.52 mol O  = 2.5 mol 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1.42 mol P      1 mol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819520" y="1981080"/>
            <a:ext cx="1981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3276720" y="373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5638680" y="373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3553920" y="5029200"/>
            <a:ext cx="134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21:28:05Z</dcterms:created>
  <dc:creator>gpurdum</dc:creator>
  <dc:description/>
  <dc:language>en-US</dc:language>
  <cp:lastModifiedBy>RomaK</cp:lastModifiedBy>
  <dcterms:modified xsi:type="dcterms:W3CDTF">2015-09-01T16:23:42Z</dcterms:modified>
  <cp:revision>14</cp:revision>
  <dc:subject/>
  <dc:title>Empirical Formula</dc:title>
</cp:coreProperties>
</file>