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C5E9-9728-4BEE-B8EB-428169123F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E0B-21F3-4A75-8ADA-F677A405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E6B-C814-41DB-82FE-13CE9DBE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4414-31C4-4C39-9C35-898ADED4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031-1A3A-4AEA-BD39-BCC6CAC5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307-843E-4DE7-AEF8-8E0ADACD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DD4-E26E-4B73-AE4F-50860575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873-E41D-4DBC-B1B5-B1D71A54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55A-55A5-471D-9F16-3967E9DB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6E8-F44C-412C-B8A2-451CF723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C86-CAAF-411C-A3B2-F6D40AEC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237-8EE0-47CB-91FF-574E8B9F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5A3-72D9-4D8F-971D-F6E94867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322C-FCDF-452E-813E-0BAD9ED408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19A5-6394-43F3-ABAE-70E3E3F06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11548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c00000"/>
                </a:solidFill>
                <a:latin typeface="Calibri"/>
              </a:rPr>
              <a:t>EVERYTHING YOU EVER WANTED TO KNOW ABOUT HEAR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491px-Heart_left-highlight_jon_01_svg.png"/>
          <p:cNvPicPr/>
          <p:nvPr/>
        </p:nvPicPr>
        <p:blipFill>
          <a:blip r:embed="rId1"/>
          <a:stretch/>
        </p:blipFill>
        <p:spPr>
          <a:xfrm>
            <a:off x="6215040" y="4000680"/>
            <a:ext cx="2766960" cy="23968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he heart is a hollow musc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divided into four sections called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wo chambers are on the left and right si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Each side has an upper and lower chamb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heart_chambers.jpg"/>
          <p:cNvPicPr/>
          <p:nvPr/>
        </p:nvPicPr>
        <p:blipFill>
          <a:blip r:embed="rId1"/>
          <a:stretch/>
        </p:blipFill>
        <p:spPr>
          <a:xfrm>
            <a:off x="1962000" y="1600200"/>
            <a:ext cx="52200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6" descr="ei_0329.gif"/>
          <p:cNvPicPr/>
          <p:nvPr/>
        </p:nvPicPr>
        <p:blipFill>
          <a:blip r:embed="rId1"/>
          <a:stretch/>
        </p:blipFill>
        <p:spPr>
          <a:xfrm>
            <a:off x="2071800" y="1428840"/>
            <a:ext cx="5357880" cy="4357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EART"/>
          <p:cNvPicPr/>
          <p:nvPr/>
        </p:nvPicPr>
        <p:blipFill>
          <a:blip r:embed="rId1"/>
          <a:stretch/>
        </p:blipFill>
        <p:spPr>
          <a:xfrm>
            <a:off x="2627280" y="1341360"/>
            <a:ext cx="380988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rio-ventricular valv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(AV valves) that prevent blood in the ventricles from flowing back into the at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miluna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half moon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ar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ulmonary and aortic 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found at the entrance of the pulmonary artery and aorta resp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2571840" y="1643040"/>
            <a:ext cx="4214880" cy="4500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4:22:27Z</dcterms:created>
  <dc:creator>Corporate Edition</dc:creator>
  <dc:description/>
  <dc:language>en-US</dc:language>
  <cp:lastModifiedBy>LEGION2</cp:lastModifiedBy>
  <dcterms:modified xsi:type="dcterms:W3CDTF">2016-01-14T09:15:29Z</dcterms:modified>
  <cp:revision>13</cp:revision>
  <dc:subject/>
  <dc:title>Slide 1</dc:title>
</cp:coreProperties>
</file>