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7C42-1BDF-49EC-9F0A-0263F4E1B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53D-AFFD-4826-B249-2DCD1010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41C-958F-4610-9D1C-E450E670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BB7-1683-4249-A78C-A99BD2B1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CA2-6DAE-4E99-B42B-B4C0BD13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595-9870-48BE-A09A-1ABBEE6B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EA8-343D-496A-81EF-871D3A74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8E6-5729-45A0-B533-4D381313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E42-EA43-4F96-A144-6F421470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E79-8957-4B22-87B3-0E07A1C0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694-6F77-469C-8448-1CD37261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55B-BD63-4324-A3EF-6D2C12C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077-0817-43A3-9119-1D718C5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FCCF-4768-4D82-A910-C4E128B476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C038-B872-464A-961B-3D85568BD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11548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c00000"/>
                </a:solidFill>
                <a:latin typeface="Calibri"/>
              </a:rPr>
              <a:t>EVERYTHING YOU EVER WANTED TO KNOW ABOUT HEAR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491px-Heart_left-highlight_jon_01_svg.png"/>
          <p:cNvPicPr/>
          <p:nvPr/>
        </p:nvPicPr>
        <p:blipFill>
          <a:blip r:embed="rId1"/>
          <a:stretch/>
        </p:blipFill>
        <p:spPr>
          <a:xfrm>
            <a:off x="6215040" y="4000680"/>
            <a:ext cx="2766960" cy="23968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he heart is a hollow mus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divided into four sections called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wo chambers are on the left and right 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ach side has an upper and lower cha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heart_chambers.jpg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ei_0329.gif"/>
          <p:cNvPicPr/>
          <p:nvPr/>
        </p:nvPicPr>
        <p:blipFill>
          <a:blip r:embed="rId1"/>
          <a:stretch/>
        </p:blipFill>
        <p:spPr>
          <a:xfrm>
            <a:off x="2071800" y="1428840"/>
            <a:ext cx="5357880" cy="4357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EART"/>
          <p:cNvPicPr/>
          <p:nvPr/>
        </p:nvPicPr>
        <p:blipFill>
          <a:blip r:embed="rId1"/>
          <a:stretch/>
        </p:blipFill>
        <p:spPr>
          <a:xfrm>
            <a:off x="2627280" y="1341360"/>
            <a:ext cx="380988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rio-ventricular val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AV valves) that prevent blood in the ventricles from flowing back into the at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milun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half moon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lmonary and aortic 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found at the entrance of the pulmonary artery and aorta resp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214880" cy="4500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4:22:27Z</dcterms:created>
  <dc:creator>Corporate Edition</dc:creator>
  <dc:description/>
  <dc:language>en-US</dc:language>
  <cp:lastModifiedBy>LEGION2</cp:lastModifiedBy>
  <dcterms:modified xsi:type="dcterms:W3CDTF">2016-01-14T09:15:29Z</dcterms:modified>
  <cp:revision>13</cp:revision>
  <dc:subject/>
  <dc:title>Slide 1</dc:title>
</cp:coreProperties>
</file>