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D765-4D3D-44A2-ABFD-3BE217708F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YOU EVER WANTED TO KNOW ABOUT HE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hollow musc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ocated on the left side of your chest, about the size of your clenched f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ivided into four sections called cha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mbers are on the left and right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ide has an upper and lower cha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s of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upper receives blood from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lower pumps blood to the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upper receives blood from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lower pumps blood to the rest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low in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 are flaps of tissue that stop blood flowing back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kinds of valves in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kind is the massive valves between the atria and the ventricles, the atrio-ventricular valves, (AV valves) that prevent blood in the ventricles from flowing back into the at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ps of these valves are attached to the walls of the ventricles by tendons – chordae tend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kind of valve is pocket shaped flaps of tissue called the semilunar (half moon) val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alled the pulmonary and aortic valves and found at the entrance of the pulmonary artery and aorta respe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s the Lub Du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692-0089-4DD8-8BBA-4E483652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972-DE3B-44A6-848E-6B08C16B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061-2F20-4B01-8644-E195C329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D70-8742-47AD-A4F0-BA960B3B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43A-DF8C-4441-A2B5-B56A539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C9A-D929-4411-8300-4F8E7D61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1C0-EEDE-499E-9A7C-CC2A8EF3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3D3-3C4E-4322-A106-4F007039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272-631B-4B71-98F2-9764E164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461-3A75-4534-8EC4-12F8DAF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E57-F541-4923-BAC0-313F39C8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33A-4FCF-42E2-A1D7-FE58E276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C130-97A3-46A4-BA73-6A6730782C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9359-DAF8-4CE4-B847-3499D2FD7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11548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c00000"/>
                </a:solidFill>
                <a:latin typeface="Calibri"/>
              </a:rPr>
              <a:t>EVERYTHING YOU EVER WANTED TO KNOW ABOUT HEAR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491px-Heart_left-highlight_jon_01_svg.png"/>
          <p:cNvPicPr/>
          <p:nvPr/>
        </p:nvPicPr>
        <p:blipFill>
          <a:blip r:embed="rId1"/>
          <a:stretch/>
        </p:blipFill>
        <p:spPr>
          <a:xfrm>
            <a:off x="6215040" y="4000680"/>
            <a:ext cx="2766960" cy="23968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irst heart sound (lub) is caused by the acceleration and deceleration of blood and a vibration of the heart at the time of the closure of the tricuspid and mitral val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econd heart sound (dub) is caused by the same acceleration and deceleration of blood and vibrations at the time of closure of the pulmonic and aortic valv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atomy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he heart is a hollow mus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located on the left side of your chest, about the size of your clenched f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t is divided into four sections called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Two chambers are on the left and right 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ach side has an upper and lower chamb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heart_chambers.jpg"/>
          <p:cNvPicPr/>
          <p:nvPr/>
        </p:nvPicPr>
        <p:blipFill>
          <a:blip r:embed="rId1"/>
          <a:stretch/>
        </p:blipFill>
        <p:spPr>
          <a:xfrm>
            <a:off x="1962000" y="1600200"/>
            <a:ext cx="52200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mbers of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upper receives blood from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ight lower pumps blood to the lu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upper receives blood from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ft lower pumps blood to the rest 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lood flow in the he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ei_0329.gif"/>
          <p:cNvPicPr/>
          <p:nvPr/>
        </p:nvPicPr>
        <p:blipFill>
          <a:blip r:embed="rId1"/>
          <a:stretch/>
        </p:blipFill>
        <p:spPr>
          <a:xfrm>
            <a:off x="2071800" y="1428840"/>
            <a:ext cx="5357880" cy="4357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low around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EART"/>
          <p:cNvPicPr/>
          <p:nvPr/>
        </p:nvPicPr>
        <p:blipFill>
          <a:blip r:embed="rId1"/>
          <a:stretch/>
        </p:blipFill>
        <p:spPr>
          <a:xfrm>
            <a:off x="2627280" y="1341360"/>
            <a:ext cx="3809880" cy="461016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ves are flaps of tissue that stop blood flowing back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kinds of valves in the hear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kind is the massive valves between the atria and the ventricles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rio-ventricular valv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AV valves) that prevent blood in the ventricles from flowing back into the at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laps of these valves are attached to the walls of the ventricles by tendons – chordae tendin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al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econd kind of valve is pocket shaped flaps of tissu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emilun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half moon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are called th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ulmonary and aortic valv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found at the entrance of the pulmonary artery and aorta respectiv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s the Lub Du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571840" y="1643040"/>
            <a:ext cx="4214880" cy="4500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4:22:27Z</dcterms:created>
  <dc:creator>Corporate Edition</dc:creator>
  <dc:description/>
  <dc:language>en-US</dc:language>
  <cp:lastModifiedBy>LEGION2</cp:lastModifiedBy>
  <dcterms:modified xsi:type="dcterms:W3CDTF">2016-01-14T09:15:29Z</dcterms:modified>
  <cp:revision>13</cp:revision>
  <dc:subject/>
  <dc:title>Slide 1</dc:title>
</cp:coreProperties>
</file>