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gif" ContentType="image/gi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5F19-6C59-4B94-B2ED-DA0E6F860B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D8A-9C09-4106-8691-ED105579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53AB-0280-4ACB-B02E-A244CBDE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727-171E-400B-8BD3-BAE6B83C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4E2-6468-4615-AAFF-9EC213AB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76A5-4E93-4DDD-9DB0-7BC70750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D9A6-DE74-4CFF-B8D5-6A3D0F88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EDF8-4B8C-4967-834B-25810389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7949-6660-465E-9683-2BF70744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D6A3-D820-44E4-8D69-D07BE01E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A651-0E13-434B-8F5D-395F76D0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45D2-0B61-4D2E-86FA-1421DBBE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B83-BEBC-4D07-9D7A-F39D3DE9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61E9-4D85-4721-9327-51CFBA3D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B8F0-B37D-46FB-9A1E-92285621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01E5-9217-4D3B-B6EE-063180BD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1747-1A73-4A4C-B1A6-BC16B763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8C48-00A3-4933-8E5E-FB566F9C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13FC-1D9E-47A0-B998-EE6AF046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D1EF-B2B5-4A67-A79B-33B3362C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A50-9BC6-4ADE-8210-7D414018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422-1A7F-4AD7-8F3F-A7BC6590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8DB4-159A-4974-8CBF-29400C99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AB6-8A2F-454C-853E-F4539C6E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470-D6B9-4E66-9577-37D89F47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1BC4-368C-40A1-8493-BA08CF3372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45A4-1185-479D-AB03-4090FA90A77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Picture 1029" descr="Eye Brain"/>
          <p:cNvPicPr/>
          <p:nvPr/>
        </p:nvPicPr>
        <p:blipFill>
          <a:blip r:embed="rId1"/>
          <a:stretch/>
        </p:blipFill>
        <p:spPr>
          <a:xfrm>
            <a:off x="2438280" y="380880"/>
            <a:ext cx="601992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31"/>
          <p:cNvSpPr/>
          <p:nvPr/>
        </p:nvSpPr>
        <p:spPr>
          <a:xfrm>
            <a:off x="304920" y="2209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stance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eyeparts"/>
          <p:cNvPicPr/>
          <p:nvPr/>
        </p:nvPicPr>
        <p:blipFill>
          <a:blip r:embed="rId1"/>
          <a:stretch/>
        </p:blipFill>
        <p:spPr>
          <a:xfrm>
            <a:off x="3886200" y="1981080"/>
            <a:ext cx="4724280" cy="40388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anging lens thick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181480" y="990720"/>
            <a:ext cx="3962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eye lens move"/>
          <p:cNvPicPr/>
          <p:nvPr/>
        </p:nvPicPr>
        <p:blipFill>
          <a:blip r:embed="rId1"/>
          <a:stretch/>
        </p:blipFill>
        <p:spPr>
          <a:xfrm>
            <a:off x="1447920" y="2895480"/>
            <a:ext cx="617220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trolling light leve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eye front pic"/>
          <p:cNvPicPr/>
          <p:nvPr/>
        </p:nvPicPr>
        <p:blipFill>
          <a:blip r:embed="rId1"/>
          <a:stretch/>
        </p:blipFill>
        <p:spPr>
          <a:xfrm>
            <a:off x="3809880" y="2743200"/>
            <a:ext cx="510552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 pupil"/>
          <p:cNvPicPr/>
          <p:nvPr/>
        </p:nvPicPr>
        <p:blipFill>
          <a:blip r:embed="rId2"/>
          <a:stretch/>
        </p:blipFill>
        <p:spPr>
          <a:xfrm>
            <a:off x="5562720" y="380880"/>
            <a:ext cx="1896840" cy="2133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brain proxom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819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photo brain eye"/>
          <p:cNvPicPr/>
          <p:nvPr/>
        </p:nvPicPr>
        <p:blipFill>
          <a:blip r:embed="rId1"/>
          <a:stretch/>
        </p:blipFill>
        <p:spPr>
          <a:xfrm>
            <a:off x="4076640" y="609480"/>
            <a:ext cx="4076640" cy="579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oss s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4386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0" descr="eye2"/>
          <p:cNvPicPr/>
          <p:nvPr/>
        </p:nvPicPr>
        <p:blipFill>
          <a:blip r:embed="rId1"/>
          <a:stretch/>
        </p:blipFill>
        <p:spPr>
          <a:xfrm>
            <a:off x="3429000" y="10666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– receives the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5" descr="retina"/>
          <p:cNvPicPr/>
          <p:nvPr/>
        </p:nvPicPr>
        <p:blipFill>
          <a:blip r:embed="rId1"/>
          <a:stretch/>
        </p:blipFill>
        <p:spPr>
          <a:xfrm>
            <a:off x="3505320" y="1752480"/>
            <a:ext cx="487656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715000" y="4191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recep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48160" y="2133360"/>
            <a:ext cx="2514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eye retina receptor"/>
          <p:cNvPicPr/>
          <p:nvPr/>
        </p:nvPicPr>
        <p:blipFill>
          <a:blip r:embed="rId1"/>
          <a:stretch/>
        </p:blipFill>
        <p:spPr>
          <a:xfrm>
            <a:off x="609480" y="190512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 on objec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5" descr="eye focus"/>
          <p:cNvPicPr/>
          <p:nvPr/>
        </p:nvPicPr>
        <p:blipFill>
          <a:blip r:embed="rId1"/>
          <a:stretch/>
        </p:blipFill>
        <p:spPr>
          <a:xfrm>
            <a:off x="3809880" y="9907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38680" y="18284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eye xsect focus"/>
          <p:cNvPicPr/>
          <p:nvPr/>
        </p:nvPicPr>
        <p:blipFill>
          <a:blip r:embed="rId1"/>
          <a:stretch/>
        </p:blipFill>
        <p:spPr>
          <a:xfrm>
            <a:off x="609480" y="1981080"/>
            <a:ext cx="4419720" cy="358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ending lig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6" descr="lens focus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22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Near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eye focus book"/>
          <p:cNvPicPr/>
          <p:nvPr/>
        </p:nvPicPr>
        <p:blipFill>
          <a:blip r:embed="rId1"/>
          <a:stretch/>
        </p:blipFill>
        <p:spPr>
          <a:xfrm>
            <a:off x="2971800" y="1828800"/>
            <a:ext cx="5905440" cy="39560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9:03:31Z</dcterms:created>
  <dc:creator>RM</dc:creator>
  <dc:description/>
  <dc:language>en-US</dc:language>
  <cp:lastModifiedBy>LEGION2</cp:lastModifiedBy>
  <dcterms:modified xsi:type="dcterms:W3CDTF">2016-01-14T09:17:36Z</dcterms:modified>
  <cp:revision>15</cp:revision>
  <dc:subject/>
  <dc:title>The Eye</dc:title>
</cp:coreProperties>
</file>