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jpeg" ContentType="image/jpeg"/>
  <Override PartName="/ppt/media/image11.gif" ContentType="image/gif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9DB7-7831-417F-B6F4-AD0C717D35B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ye is an extension of the b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tance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s enter the eye closer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less be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ner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lens thick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is slightly elastic, its relaxed state is short and f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ing 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eye are very sensitive and can be damaged by harsh l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brain proxom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you see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ptic nerve bund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nal cor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s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know the position o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n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lero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 ne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lary m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pensory liga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– receives the im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 of light receptors which are sensitiv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lev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blood supply is also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vea is the main focal point and has greatest density of light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ina recep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receptors are called rods and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 on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and cornea focus the light on the re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ens job is to make the rays hit the same poi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d rays will be out of foc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ding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fracted and bent to focus it as it passes through the l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s thickness can be changed so the amount of bending i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nd the light more to focu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t lens nee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23F8-E89D-44D6-95E6-97C802B1A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12C7-0F88-435A-972E-05E98CD8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E990-0B4F-47BC-9FC6-71627062D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4660-2A60-4344-963D-6C8CB279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CC3D-EC82-4AA6-ABA0-AAFD6BD73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74B1C-748C-483D-973E-BAA5C381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5245-7E79-4D01-96AC-E317A52E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07AC-CF52-4326-A004-2B8694FB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E55AC-C045-4510-A219-F5E6BF341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5F6E-EA87-4CEB-A368-A2107836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A9F2B-076B-41D8-A896-F58238FE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CF1A-F094-49A9-904A-87189FB97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DDBDE-12D9-49C6-BC77-DCD4C0C7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A1E6-11F7-4D85-89F4-32EBE51A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21B4-F31B-4507-A8A6-04C76649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FE7A-8A7A-4E9C-84D3-59682FD8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188D-D8F3-441D-91C4-81350F0B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B9F7-323B-462B-901D-F780CEFA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C9D8-1D1B-4D13-87FB-2ADE56F31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3693-6F65-4D02-9A0C-25FCB048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A4B-98B0-48CD-8ADB-54207896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C9AC-88FE-4E70-AEAE-6E7E929E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28A2-D220-42B7-A318-5760FEF3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CFDD-E8E0-497F-A0BE-2D592333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06A2B-CF26-459B-8DB3-77AA45D36E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9D6C-BB60-4431-8E31-E86415577668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057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96" name="Picture 1029" descr="Eye Brain"/>
          <p:cNvPicPr/>
          <p:nvPr/>
        </p:nvPicPr>
        <p:blipFill>
          <a:blip r:embed="rId1"/>
          <a:stretch/>
        </p:blipFill>
        <p:spPr>
          <a:xfrm>
            <a:off x="2438280" y="380880"/>
            <a:ext cx="6019920" cy="5943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031"/>
          <p:cNvSpPr/>
          <p:nvPr/>
        </p:nvSpPr>
        <p:spPr>
          <a:xfrm>
            <a:off x="304920" y="2209680"/>
            <a:ext cx="175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 eye is an extension of the br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istance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32767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ays enter the eye closer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ed less bend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nner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5" descr="eyeparts"/>
          <p:cNvPicPr/>
          <p:nvPr/>
        </p:nvPicPr>
        <p:blipFill>
          <a:blip r:embed="rId1"/>
          <a:stretch/>
        </p:blipFill>
        <p:spPr>
          <a:xfrm>
            <a:off x="3886200" y="1981080"/>
            <a:ext cx="4724280" cy="403884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anging lens thick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1760" y="990360"/>
            <a:ext cx="3809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is slightly elastic, its relaxed state is short and fa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181480" y="990720"/>
            <a:ext cx="396252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ilary muscles are attached to the lens, when contracted they pull the lens th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Picture 7" descr="eye lens move"/>
          <p:cNvPicPr/>
          <p:nvPr/>
        </p:nvPicPr>
        <p:blipFill>
          <a:blip r:embed="rId1"/>
          <a:stretch/>
        </p:blipFill>
        <p:spPr>
          <a:xfrm>
            <a:off x="1447920" y="2895480"/>
            <a:ext cx="6172200" cy="3429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trolling light lev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3504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eye are very sensitive and can be damaged by harsh light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Your iris controls light allowed into the eye by changing the size of the pupi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eye front pic"/>
          <p:cNvPicPr/>
          <p:nvPr/>
        </p:nvPicPr>
        <p:blipFill>
          <a:blip r:embed="rId1"/>
          <a:stretch/>
        </p:blipFill>
        <p:spPr>
          <a:xfrm>
            <a:off x="3809880" y="2743200"/>
            <a:ext cx="5105520" cy="38862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eye pupil"/>
          <p:cNvPicPr/>
          <p:nvPr/>
        </p:nvPicPr>
        <p:blipFill>
          <a:blip r:embed="rId2"/>
          <a:stretch/>
        </p:blipFill>
        <p:spPr>
          <a:xfrm>
            <a:off x="5562720" y="380880"/>
            <a:ext cx="1896840" cy="21337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brain proxomit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8195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you see 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optic nerve bund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pinal c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photo brain eye"/>
          <p:cNvPicPr/>
          <p:nvPr/>
        </p:nvPicPr>
        <p:blipFill>
          <a:blip r:embed="rId1"/>
          <a:stretch/>
        </p:blipFill>
        <p:spPr>
          <a:xfrm>
            <a:off x="4076640" y="609480"/>
            <a:ext cx="4076640" cy="57913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ross s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243864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You must know the position of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Reti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Le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rne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clero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Optic ner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ilary musc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Suspensory liga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Picture 10" descr="eye2"/>
          <p:cNvPicPr/>
          <p:nvPr/>
        </p:nvPicPr>
        <p:blipFill>
          <a:blip r:embed="rId1"/>
          <a:stretch/>
        </p:blipFill>
        <p:spPr>
          <a:xfrm>
            <a:off x="3429000" y="1066680"/>
            <a:ext cx="5029200" cy="487692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– receives the imag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ull of light receptors which are sensitive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lou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lev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ssive blood supply is also nee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Picture 5" descr="retina"/>
          <p:cNvPicPr/>
          <p:nvPr/>
        </p:nvPicPr>
        <p:blipFill>
          <a:blip r:embed="rId1"/>
          <a:stretch/>
        </p:blipFill>
        <p:spPr>
          <a:xfrm>
            <a:off x="3505320" y="1752480"/>
            <a:ext cx="4876560" cy="396252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5715000" y="419112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vea is the main focal point and has greatest density of light recep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tina recep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248160" y="2133360"/>
            <a:ext cx="2514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ight receptors are called rods and c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eye retina receptor"/>
          <p:cNvPicPr/>
          <p:nvPr/>
        </p:nvPicPr>
        <p:blipFill>
          <a:blip r:embed="rId1"/>
          <a:stretch/>
        </p:blipFill>
        <p:spPr>
          <a:xfrm>
            <a:off x="609480" y="1905120"/>
            <a:ext cx="5486400" cy="38862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 on objec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5146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and cornea focus the light on the re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5" descr="eye focus"/>
          <p:cNvPicPr/>
          <p:nvPr/>
        </p:nvPicPr>
        <p:blipFill>
          <a:blip r:embed="rId1"/>
          <a:stretch/>
        </p:blipFill>
        <p:spPr>
          <a:xfrm>
            <a:off x="3809880" y="9907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Focu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38680" y="1828440"/>
            <a:ext cx="2819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lens job is to make the rays hit the same poin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red rays will be out of foc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5" descr="eye xsect focus"/>
          <p:cNvPicPr/>
          <p:nvPr/>
        </p:nvPicPr>
        <p:blipFill>
          <a:blip r:embed="rId1"/>
          <a:stretch/>
        </p:blipFill>
        <p:spPr>
          <a:xfrm>
            <a:off x="609480" y="1981080"/>
            <a:ext cx="4419720" cy="358164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Bending ligh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ight is refracted and bent to focus it as it passes through the le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ns thickness can be changed so the amount of bending i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Picture 6" descr="lens focus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122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Near vis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2590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bend the light more to focus 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t lens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6" descr="eye focus book"/>
          <p:cNvPicPr/>
          <p:nvPr/>
        </p:nvPicPr>
        <p:blipFill>
          <a:blip r:embed="rId1"/>
          <a:stretch/>
        </p:blipFill>
        <p:spPr>
          <a:xfrm>
            <a:off x="2971800" y="1828800"/>
            <a:ext cx="5905440" cy="395604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09:03:31Z</dcterms:created>
  <dc:creator>RM</dc:creator>
  <dc:description/>
  <dc:language>en-US</dc:language>
  <cp:lastModifiedBy>LEGION2</cp:lastModifiedBy>
  <dcterms:modified xsi:type="dcterms:W3CDTF">2016-01-14T09:17:36Z</dcterms:modified>
  <cp:revision>15</cp:revision>
  <dc:subject/>
  <dc:title>The Eye</dc:title>
</cp:coreProperties>
</file>