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CB86-5F0A-4F37-8644-616C24FEDD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5D1-BA58-47D6-B51C-B2C560E5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FD7-D237-46EB-9772-90A8469F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5E8-677A-473A-BAF5-367EA256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359-B7EB-438F-B812-6887B305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48F8-3CC8-41CE-B541-0FC2580B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466B-5BA7-47B7-9E46-0DBEE984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B896-BBFA-40A4-ADA9-C627EB27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25B5-51C2-4DE1-95FC-2CB9843C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4987-0774-441D-8352-DCF0686E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BBEC-393E-44B9-9AE1-FFCDF0CD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8DA6-F76F-4300-BE8A-E395826E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00D-F29F-44AD-91C8-49B2B126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9D65-E4CF-4402-98E9-F8EC5DCC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0F03-3C3C-4952-A995-8463C8EE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5038-78B1-4963-8D40-014AEA8E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A0F4-153F-40DA-98AD-FE06E51C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B1D1-47E6-4131-93E0-A500C843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58D-9F39-4296-BB76-32EE0DF7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641-5CFF-4278-8CD0-9448FDA8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E23-19E8-4AF0-B506-0E4D02CB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2D7-7399-447C-B882-07A23687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A9B-31FF-4459-A46A-4E50657B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EE6-BDC3-4CA2-B1A2-3B747E3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22B-B0D4-41D9-9C9E-834038D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C310-7EC2-4BD4-A003-D218697B33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ED14-B93F-4473-87A3-808D63E266C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2</cp:lastModifiedBy>
  <dcterms:modified xsi:type="dcterms:W3CDTF">2016-01-14T09:17:36Z</dcterms:modified>
  <cp:revision>15</cp:revision>
  <dc:subject/>
  <dc:title>The Eye</dc:title>
</cp:coreProperties>
</file>