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gif" ContentType="image/gi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27F2-6448-45CA-B005-62169B0156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9BA2-3804-4057-B58A-2DE3425B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DAD-AA23-4150-8BAE-C089200F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430-8C48-439D-BE67-B1578467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0822-6CD9-42F5-ABFC-088C6BE8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49EC-BBDD-4DC8-9A4B-5E361884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0F4B-B374-4389-ADD2-406EDA01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F2FD-ADB2-491C-885D-434D5391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DCA2-7CC4-4A61-86F0-1ADA1F6B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F4BD-3FE8-44C6-9634-7A54A186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9C3E-6C50-4C5A-A0F6-B9226BB5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43EC-336C-4210-A746-C4D45D47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F51F-A846-4787-A624-4B81D640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D322-EDC9-4060-8DF9-177AB227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6081-4747-4FA3-9980-90F31DCE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EA7E-D2EE-4560-88BC-8AED3EDB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1374-1EE3-4F1C-A1E2-23830794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FA48-80E8-46F7-83BD-4B9D8EEE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A326-C7C7-43E1-AE56-AD0661E4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9025-8A36-405D-B300-2426E553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40D4-2667-444F-BE88-D9251C9F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17A-080B-4B2F-8358-25D04D76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81E2-20ED-4878-BCFE-506028EA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B0EF-5065-4839-9A93-71B43123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D0E-8A1E-488A-A7F1-90F7FB4F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D3B1-66AC-445C-8295-0214A9834B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8CD5-4A60-40AF-818E-8D920C301BF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Picture 1029" descr="Eye Brain"/>
          <p:cNvPicPr/>
          <p:nvPr/>
        </p:nvPicPr>
        <p:blipFill>
          <a:blip r:embed="rId1"/>
          <a:stretch/>
        </p:blipFill>
        <p:spPr>
          <a:xfrm>
            <a:off x="2438280" y="380880"/>
            <a:ext cx="601992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31"/>
          <p:cNvSpPr/>
          <p:nvPr/>
        </p:nvSpPr>
        <p:spPr>
          <a:xfrm>
            <a:off x="304920" y="2209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stance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eyeparts"/>
          <p:cNvPicPr/>
          <p:nvPr/>
        </p:nvPicPr>
        <p:blipFill>
          <a:blip r:embed="rId1"/>
          <a:stretch/>
        </p:blipFill>
        <p:spPr>
          <a:xfrm>
            <a:off x="3886200" y="1981080"/>
            <a:ext cx="4724280" cy="40388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anging lens thick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181480" y="990720"/>
            <a:ext cx="3962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7" descr="eye lens move"/>
          <p:cNvPicPr/>
          <p:nvPr/>
        </p:nvPicPr>
        <p:blipFill>
          <a:blip r:embed="rId1"/>
          <a:stretch/>
        </p:blipFill>
        <p:spPr>
          <a:xfrm>
            <a:off x="1447920" y="2895480"/>
            <a:ext cx="617220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trolling light leve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eye front pic"/>
          <p:cNvPicPr/>
          <p:nvPr/>
        </p:nvPicPr>
        <p:blipFill>
          <a:blip r:embed="rId1"/>
          <a:stretch/>
        </p:blipFill>
        <p:spPr>
          <a:xfrm>
            <a:off x="3809880" y="2743200"/>
            <a:ext cx="510552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 pupil"/>
          <p:cNvPicPr/>
          <p:nvPr/>
        </p:nvPicPr>
        <p:blipFill>
          <a:blip r:embed="rId2"/>
          <a:stretch/>
        </p:blipFill>
        <p:spPr>
          <a:xfrm>
            <a:off x="5562720" y="380880"/>
            <a:ext cx="1896840" cy="2133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brain proxom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819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photo brain eye"/>
          <p:cNvPicPr/>
          <p:nvPr/>
        </p:nvPicPr>
        <p:blipFill>
          <a:blip r:embed="rId1"/>
          <a:stretch/>
        </p:blipFill>
        <p:spPr>
          <a:xfrm>
            <a:off x="4076640" y="609480"/>
            <a:ext cx="4076640" cy="579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oss s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4386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10" descr="eye2"/>
          <p:cNvPicPr/>
          <p:nvPr/>
        </p:nvPicPr>
        <p:blipFill>
          <a:blip r:embed="rId1"/>
          <a:stretch/>
        </p:blipFill>
        <p:spPr>
          <a:xfrm>
            <a:off x="3429000" y="10666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– receives the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5" descr="retina"/>
          <p:cNvPicPr/>
          <p:nvPr/>
        </p:nvPicPr>
        <p:blipFill>
          <a:blip r:embed="rId1"/>
          <a:stretch/>
        </p:blipFill>
        <p:spPr>
          <a:xfrm>
            <a:off x="3505320" y="1752480"/>
            <a:ext cx="4876560" cy="3962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715000" y="41911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recep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48160" y="2133360"/>
            <a:ext cx="2514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eye retina receptor"/>
          <p:cNvPicPr/>
          <p:nvPr/>
        </p:nvPicPr>
        <p:blipFill>
          <a:blip r:embed="rId1"/>
          <a:stretch/>
        </p:blipFill>
        <p:spPr>
          <a:xfrm>
            <a:off x="609480" y="190512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 on objec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5" descr="eye focus"/>
          <p:cNvPicPr/>
          <p:nvPr/>
        </p:nvPicPr>
        <p:blipFill>
          <a:blip r:embed="rId1"/>
          <a:stretch/>
        </p:blipFill>
        <p:spPr>
          <a:xfrm>
            <a:off x="3809880" y="9907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38680" y="18284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eye xsect focus"/>
          <p:cNvPicPr/>
          <p:nvPr/>
        </p:nvPicPr>
        <p:blipFill>
          <a:blip r:embed="rId1"/>
          <a:stretch/>
        </p:blipFill>
        <p:spPr>
          <a:xfrm>
            <a:off x="609480" y="1981080"/>
            <a:ext cx="4419720" cy="358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ending ligh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6" descr="lens focus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22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Near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eye focus book"/>
          <p:cNvPicPr/>
          <p:nvPr/>
        </p:nvPicPr>
        <p:blipFill>
          <a:blip r:embed="rId1"/>
          <a:stretch/>
        </p:blipFill>
        <p:spPr>
          <a:xfrm>
            <a:off x="2971800" y="1828800"/>
            <a:ext cx="5905440" cy="39560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9:03:31Z</dcterms:created>
  <dc:creator>RM</dc:creator>
  <dc:description/>
  <dc:language>en-US</dc:language>
  <cp:lastModifiedBy>LEGION2</cp:lastModifiedBy>
  <dcterms:modified xsi:type="dcterms:W3CDTF">2016-01-14T09:17:36Z</dcterms:modified>
  <cp:revision>15</cp:revision>
  <dc:subject/>
  <dc:title>The Eye</dc:title>
</cp:coreProperties>
</file>