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000" spc="-1" strike="noStrike">
              <a:solidFill>
                <a:srgbClr val="eaeaea"/>
              </a:solidFill>
              <a:latin typeface="Chalkboard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dt" idx="7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sldImg"/>
          </p:nvPr>
        </p:nvSpPr>
        <p:spPr>
          <a:xfrm>
            <a:off x="1158840" y="680760"/>
            <a:ext cx="4540320" cy="3405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ftr" idx="8"/>
          </p:nvPr>
        </p:nvSpPr>
        <p:spPr>
          <a:xfrm>
            <a:off x="-360" y="862452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 type="sldNum" idx="9"/>
          </p:nvPr>
        </p:nvSpPr>
        <p:spPr>
          <a:xfrm>
            <a:off x="3884400" y="862452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9F6FD-89F5-4349-A73A-1F853CE486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Food Born Illness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YOU could be next!!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od Born Ill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could be next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IMPORTANT vocabulary!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ross Contamination - moving bacteria from one source to another.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Vector - responsible party (object, machine) that actually carries the bacteria from source to source.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Host - original source of contamination.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ORTANT vocabulary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oss Contamination - moving bacteria from one source to anoth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 - responsible party (object, machine) that actually carries the bacteria from source to sour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st - original source of contami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Symptoms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All the same symptoms as Salmonella.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PLUS you CAN have….bloody diarrhea!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In children under 5 years old &amp; in the elderly it can cause kidney failure, &amp; destroy red blood cells - RARE, only 2-7% of cases.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pto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the same symptoms as Salmonell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S you CAN have….bloody diarrhea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children under 5 years old &amp; in the elderly it can cause kidney failure, &amp; destroy red blood cells - RARE, only 2-7% of cas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After Ingestion of E.coli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Illness usually lasts 5-10 days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Most people recover w/out antibiotics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Should NOT use anti-diarrhea medications.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WHY?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- keeps BAC in body &amp; allows BAC to grow in warm, moist, conditions (&amp; the BAC has lots of nutrients!) so it GROWS!  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fter Ingestion of E.col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llness usually lasts 5-10 d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people recover w/out antibio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uld NOT use anti-diarrhea medic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keeps BAC in body &amp; allows BAC to grow in warm, moist, conditions (&amp; the BAC has lots of nutrients!) so it GROWS!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Prevention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ook all meat well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a. Use meat thermometer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b.  Thickest part of meat should be - 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- 160° - beef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- 170° - poultry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.  If you don’t have a meat thermometer, cut into center of meat &amp; make sure it is NOT pink!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2.   Keep raw meats separate from ready-to-eat foods (salads, breads etc.)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Wash hands, counter &amp; utensils with hot, soapy water after touching raw meat.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Never place cooked meat on the same plate that held raw meat.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ven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ok all meat we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 Use meat thermo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  Thickest part of meat should be -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160° - be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170° - poul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.  If you don’t have a meat thermometer, cut into center of meat &amp; make sure it is NOT pink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  Keep raw meats separate from ready-to-eat foods (salads, breads etc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sh hands, counter &amp; utensils with hot, soapy water after touching raw mea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ver place cooked meat on the same plate that held raw mea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Prevention (continued)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Drink only pasteurized milk and juice.  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- Products that have been pasteurized…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a.  Will say “pasteurized”  on the label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b.  May be sold at room temperature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Wash fruits &amp; vegetables well (dry with paper towel).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Wash hands after using restroom or changing diapers to reduce risk of spreading infection.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vention (continu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ink only pasteurized milk and juice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Products that have been pasteurized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  Will say “pasteurized”  on the lab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  May be sold at room tempera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sh fruits &amp; vegetables well (dry with paper towe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sh hands after using restroom or changing diapers to reduce risk of spreading infe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What is food born illness?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Illness resulting from eating food contaminated w/ a bacteria or virus.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May cause outbreaks where many people become sick, with the same illness at the same time. (about 10% of a population)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1.  Usually contaminated food comes from a location away from home (restaurant, baseball game etc.).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food born illnes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llness resulting from eating food contaminated w/ a bacteria or vir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y cause outbreaks where many people become sick, with the same illness at the same time. (about 10% of a populat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 Usually contaminated food comes from a location away from home (restaurant, baseball game etc.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Epidemiology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The tracking of outbreaks of illness (not always food illness) to discover where the original source of contamination came from.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Why?  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To PREVENT it from happening again!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pidemi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racking of outbreaks of illness (not always food illness) to discover where the original source of contamination came fro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?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PREVENT it from happening again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Salmonella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Bacteria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1. Many types live in poultry &amp; swine (birds &amp; pigs)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2. Can be found in environment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a. water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b. soil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. insects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d. animal feces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3. Found in undercooked meats, eggs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a. 1 in every 3 eggs is contaminated!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b. Illness can be avoided if eggs are cooked properly.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lmonel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cte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Many types live in poultry &amp; swine (birds &amp; pig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Can be found in environ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 so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. ins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. animal fe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Found in undercooked meats, eg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 1 in every 3 eggs is contaminated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 Illness can be avoided if eggs are cooked proper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3 Conditions BAC need to live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Warmth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Moisture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Nutrients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Conditions BAC need to l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m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is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tri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2 factors that kill BAC!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Extreme heat (this is BEST!)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Extreme cold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Pasteurization - a heat treatment used to kill bacteria.  (commonly used with milk &amp; juice)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factors that kill BAC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treme heat (this is BEST!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treme co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steurization - a heat treatment used to kill bacteria.  (commonly used with milk &amp; jui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Symptoms</a:t>
            </a: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Nausea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Vomiting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Stomach cramps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Diarrhea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Fever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Headache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AN be fatal - RARE!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ptom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us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m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mach cram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arrh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dac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be fatal - RARE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After Ingestion of bacteria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Will be sick within 6-72 hours after eating contaminated food.  (NOT usually sick immediately after eating!)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Symptoms usually last 4-7 days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Most recover without antibiotics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Diarrhea can be severe enough to hospitalize person (dehydration)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fter Ingestion of bacte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ll be sick within 6-72 hours after eating contaminated food.  (NOT usually sick immediately after eating!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ptoms usually last 4-7 d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recover without antibio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arrhea can be severe enough to hospitalize person (dehydrat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E. coli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Bacteria that produces a powerful toxin &amp; can cause severe illness.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1. Most strains harmless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2. Live in intestines of healthy humans &amp; animals.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3. Found in undercooked ground beef &amp; non-pasteurized milk.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A. Meat can become contaminated during cattle slaughter.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B. Bacteria on cow’s udders or on equipment can get into milk.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. col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cteria that produces a powerful toxin &amp; can cause severe illnes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Most strains harml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Live in intestines of healthy humans &amp; anima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Found in undercooked ground beef &amp; non-pasteurized mil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 Meat can become contaminated during cattle slaugh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 Bacteria on cow’s udders or on equipment can get into mil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2FDF8-28BF-483A-B056-D49B5CC71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837FE-7184-4061-87AA-9C5BE4CA0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2D4FB-AA2E-4321-AA70-1B2B8CC14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9F68E-0DF7-452C-A5AB-964EF25DC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02332-8C6B-48CE-B73E-D4245B23C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D6F6F-8604-4A94-9A2C-324C38A34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07034-6E94-4127-9AAE-F57319D9D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273AC-4E39-451C-93A2-571AAB9CF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8055D-839E-4721-975B-384855393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3A4F5-097F-4603-9074-4E6528B9D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6E284-98C2-4B92-927F-95E672716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B3A89-C5DB-42D6-94E5-B0FE92343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D0168-6C71-46CA-917B-FA2F8B8FA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0C30C-67B0-4081-9669-5AB709662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073D4-C9A7-45F5-A4BD-B9B82B4FE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CA8A3-5152-4D36-BB3D-99AF00575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909AF-5B06-4DE8-84B2-798CB61D9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A602E-DF36-4A53-A57C-2DFD90C24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CAF91-6F6F-42B7-B91C-64744B625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0054B-3DD3-4CBD-AAC4-A199CA581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AF0F9-4B95-4032-82A2-86328E185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57F0F-33BA-47B3-80DF-1A10C85E6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E855F-9813-4BB2-A52B-6F1CFBC70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DA945-FCF7-40BF-B086-6AF6A2246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eaeaea"/>
                </a:solidFill>
                <a:latin typeface="Chalkboard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grpSp>
            <p:nvGrpSpPr>
              <p:cNvPr id="28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eaeaea"/>
                    </a:solidFill>
                    <a:latin typeface="Chalkboard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eaeaea"/>
                    </a:solidFill>
                    <a:latin typeface="Chalkboard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eaeaea"/>
                    </a:solidFill>
                    <a:latin typeface="Chalkboard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eaeaea"/>
                    </a:solidFill>
                    <a:latin typeface="Chalkboard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eaeaea"/>
                    </a:solidFill>
                    <a:latin typeface="Chalkboard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eaeaea"/>
                    </a:solidFill>
                    <a:latin typeface="Chalkboard"/>
                  </a:endParaRPr>
                </a:p>
              </p:txBody>
            </p:sp>
            <p:sp>
              <p:nvSpPr>
                <p:cNvPr id="35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eaeaea"/>
                    </a:solidFill>
                    <a:latin typeface="Chalkboard"/>
                  </a:endParaRPr>
                </a:p>
              </p:txBody>
            </p:sp>
            <p:sp>
              <p:nvSpPr>
                <p:cNvPr id="36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eaeaea"/>
                    </a:solidFill>
                    <a:latin typeface="Chalkboard"/>
                  </a:endParaRPr>
                </a:p>
              </p:txBody>
            </p:sp>
            <p:sp>
              <p:nvSpPr>
                <p:cNvPr id="37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eaeaea"/>
                    </a:solidFill>
                    <a:latin typeface="Chalkboard"/>
                  </a:endParaRPr>
                </a:p>
              </p:txBody>
            </p:sp>
            <p:sp>
              <p:nvSpPr>
                <p:cNvPr id="38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eaeaea"/>
                    </a:solidFill>
                    <a:latin typeface="Chalkboard"/>
                  </a:endParaRPr>
                </a:p>
              </p:txBody>
            </p:sp>
            <p:sp>
              <p:nvSpPr>
                <p:cNvPr id="39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eaeaea"/>
                    </a:solidFill>
                    <a:latin typeface="Chalkboard"/>
                  </a:endParaRPr>
                </a:p>
              </p:txBody>
            </p:sp>
            <p:sp>
              <p:nvSpPr>
                <p:cNvPr id="40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eaeaea"/>
                    </a:solidFill>
                    <a:latin typeface="Chalkboard"/>
                  </a:endParaRPr>
                </a:p>
              </p:txBody>
            </p:sp>
            <p:sp>
              <p:nvSpPr>
                <p:cNvPr id="41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eaeaea"/>
                    </a:solidFill>
                    <a:latin typeface="Chalkboard"/>
                  </a:endParaRPr>
                </a:p>
              </p:txBody>
            </p:sp>
            <p:sp>
              <p:nvSpPr>
                <p:cNvPr id="42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eaeaea"/>
                    </a:solidFill>
                    <a:latin typeface="Chalkboard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eaeaea"/>
                    </a:solidFill>
                    <a:latin typeface="Chalkboard"/>
                  </a:endParaRPr>
                </a:p>
              </p:txBody>
            </p:sp>
          </p:grpSp>
          <p:grpSp>
            <p:nvGrpSpPr>
              <p:cNvPr id="44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54547a"/>
                    </a:gs>
                    <a:gs pos="100000">
                      <a:srgbClr val="4c4c6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eaeaea"/>
                    </a:solidFill>
                    <a:latin typeface="Chalkboard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54547a"/>
                    </a:gs>
                    <a:gs pos="100000">
                      <a:srgbClr val="4c4c6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eaeaea"/>
                    </a:solidFill>
                    <a:latin typeface="Chalkboard"/>
                  </a:endParaRPr>
                </a:p>
              </p:txBody>
            </p:sp>
          </p:grpSp>
          <p:grpSp>
            <p:nvGrpSpPr>
              <p:cNvPr id="47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eaeaea"/>
                    </a:solidFill>
                    <a:latin typeface="Chalkboard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eaeaea"/>
                    </a:solidFill>
                    <a:latin typeface="Chalkboard"/>
                  </a:endParaRPr>
                </a:p>
              </p:txBody>
            </p:sp>
            <p:sp>
              <p:nvSpPr>
                <p:cNvPr id="50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eaeaea"/>
                    </a:solidFill>
                    <a:latin typeface="Chalkboard"/>
                  </a:endParaRPr>
                </a:p>
              </p:txBody>
            </p:sp>
            <p:sp>
              <p:nvSpPr>
                <p:cNvPr id="51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eaeaea"/>
                    </a:solidFill>
                    <a:latin typeface="Chalkboard"/>
                  </a:endParaRPr>
                </a:p>
              </p:txBody>
            </p:sp>
            <p:sp>
              <p:nvSpPr>
                <p:cNvPr id="52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eaeaea"/>
                    </a:solidFill>
                    <a:latin typeface="Chalkboard"/>
                  </a:endParaRPr>
                </a:p>
              </p:txBody>
            </p:sp>
            <p:sp>
              <p:nvSpPr>
                <p:cNvPr id="53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eaeaea"/>
                    </a:solidFill>
                    <a:latin typeface="Chalkboard"/>
                  </a:endParaRPr>
                </a:p>
              </p:txBody>
            </p:sp>
            <p:sp>
              <p:nvSpPr>
                <p:cNvPr id="54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eaeaea"/>
                    </a:solidFill>
                    <a:latin typeface="Chalkboard"/>
                  </a:endParaRPr>
                </a:p>
              </p:txBody>
            </p:sp>
            <p:sp>
              <p:nvSpPr>
                <p:cNvPr id="55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eaeaea"/>
                    </a:solidFill>
                    <a:latin typeface="Chalkboard"/>
                  </a:endParaRPr>
                </a:p>
              </p:txBody>
            </p:sp>
            <p:sp>
              <p:nvSpPr>
                <p:cNvPr id="56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eaeaea"/>
                    </a:solidFill>
                    <a:latin typeface="Chalkboard"/>
                  </a:endParaRPr>
                </a:p>
              </p:txBody>
            </p:sp>
          </p:grpSp>
          <p:sp>
            <p:nvSpPr>
              <p:cNvPr id="57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c4c6f"/>
                  </a:gs>
                  <a:gs pos="100000">
                    <a:srgbClr val="54547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b"/>
                  </a:gs>
                  <a:gs pos="100000">
                    <a:srgbClr val="54547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60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b"/>
                  </a:gs>
                  <a:gs pos="100000">
                    <a:srgbClr val="54547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61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62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c4c6f"/>
                  </a:gs>
                  <a:gs pos="100000">
                    <a:srgbClr val="54547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63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b"/>
                  </a:gs>
                  <a:gs pos="100000">
                    <a:srgbClr val="54547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64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b"/>
                  </a:gs>
                  <a:gs pos="100000">
                    <a:srgbClr val="54547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Chalkboard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BC1D8-AE9A-452C-BACE-D07BBBE8262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eaeaea"/>
                </a:solidFill>
                <a:latin typeface="Chalkboard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110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111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112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113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119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120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121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122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123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124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125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126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127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128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grpSp>
            <p:nvGrpSpPr>
              <p:cNvPr id="134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eaeaea"/>
                    </a:solidFill>
                    <a:latin typeface="Chalkboard"/>
                  </a:endParaRPr>
                </a:p>
              </p:txBody>
            </p:sp>
            <p:sp>
              <p:nvSpPr>
                <p:cNvPr id="136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eaeaea"/>
                    </a:solidFill>
                    <a:latin typeface="Chalkboard"/>
                  </a:endParaRPr>
                </a:p>
              </p:txBody>
            </p:sp>
            <p:sp>
              <p:nvSpPr>
                <p:cNvPr id="137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eaeaea"/>
                    </a:solidFill>
                    <a:latin typeface="Chalkboard"/>
                  </a:endParaRPr>
                </a:p>
              </p:txBody>
            </p:sp>
            <p:sp>
              <p:nvSpPr>
                <p:cNvPr id="138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eaeaea"/>
                    </a:solidFill>
                    <a:latin typeface="Chalkboard"/>
                  </a:endParaRPr>
                </a:p>
              </p:txBody>
            </p:sp>
            <p:sp>
              <p:nvSpPr>
                <p:cNvPr id="139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eaeaea"/>
                    </a:solidFill>
                    <a:latin typeface="Chalkboard"/>
                  </a:endParaRPr>
                </a:p>
              </p:txBody>
            </p:sp>
            <p:sp>
              <p:nvSpPr>
                <p:cNvPr id="140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eaeaea"/>
                    </a:solidFill>
                    <a:latin typeface="Chalkboard"/>
                  </a:endParaRPr>
                </a:p>
              </p:txBody>
            </p:sp>
            <p:sp>
              <p:nvSpPr>
                <p:cNvPr id="141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eaeaea"/>
                    </a:solidFill>
                    <a:latin typeface="Chalkboard"/>
                  </a:endParaRPr>
                </a:p>
              </p:txBody>
            </p:sp>
            <p:sp>
              <p:nvSpPr>
                <p:cNvPr id="142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eaeaea"/>
                    </a:solidFill>
                    <a:latin typeface="Chalkboard"/>
                  </a:endParaRPr>
                </a:p>
              </p:txBody>
            </p:sp>
            <p:sp>
              <p:nvSpPr>
                <p:cNvPr id="143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eaeaea"/>
                    </a:solidFill>
                    <a:latin typeface="Chalkboard"/>
                  </a:endParaRPr>
                </a:p>
              </p:txBody>
            </p:sp>
            <p:sp>
              <p:nvSpPr>
                <p:cNvPr id="144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eaeaea"/>
                    </a:solidFill>
                    <a:latin typeface="Chalkboard"/>
                  </a:endParaRPr>
                </a:p>
              </p:txBody>
            </p:sp>
            <p:sp>
              <p:nvSpPr>
                <p:cNvPr id="145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eaeaea"/>
                    </a:solidFill>
                    <a:latin typeface="Chalkboard"/>
                  </a:endParaRPr>
                </a:p>
              </p:txBody>
            </p:sp>
            <p:sp>
              <p:nvSpPr>
                <p:cNvPr id="146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eaeaea"/>
                    </a:solidFill>
                    <a:latin typeface="Chalkboard"/>
                  </a:endParaRPr>
                </a:p>
              </p:txBody>
            </p:sp>
            <p:sp>
              <p:nvSpPr>
                <p:cNvPr id="147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eaeaea"/>
                    </a:solidFill>
                    <a:latin typeface="Chalkboard"/>
                  </a:endParaRPr>
                </a:p>
              </p:txBody>
            </p:sp>
            <p:sp>
              <p:nvSpPr>
                <p:cNvPr id="148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eaeaea"/>
                    </a:solidFill>
                    <a:latin typeface="Chalkboard"/>
                  </a:endParaRPr>
                </a:p>
              </p:txBody>
            </p:sp>
            <p:sp>
              <p:nvSpPr>
                <p:cNvPr id="149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eaeaea"/>
                    </a:solidFill>
                    <a:latin typeface="Chalkboard"/>
                  </a:endParaRPr>
                </a:p>
              </p:txBody>
            </p:sp>
          </p:grpSp>
          <p:grpSp>
            <p:nvGrpSpPr>
              <p:cNvPr id="150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54547a"/>
                    </a:gs>
                    <a:gs pos="100000">
                      <a:srgbClr val="4c4c6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eaeaea"/>
                    </a:solidFill>
                    <a:latin typeface="Chalkboard"/>
                  </a:endParaRPr>
                </a:p>
              </p:txBody>
            </p:sp>
            <p:sp>
              <p:nvSpPr>
                <p:cNvPr id="152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54547a"/>
                    </a:gs>
                    <a:gs pos="100000">
                      <a:srgbClr val="4c4c6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eaeaea"/>
                    </a:solidFill>
                    <a:latin typeface="Chalkboard"/>
                  </a:endParaRPr>
                </a:p>
              </p:txBody>
            </p:sp>
          </p:grpSp>
          <p:grpSp>
            <p:nvGrpSpPr>
              <p:cNvPr id="153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eaeaea"/>
                    </a:solidFill>
                    <a:latin typeface="Chalkboard"/>
                  </a:endParaRPr>
                </a:p>
              </p:txBody>
            </p:sp>
            <p:sp>
              <p:nvSpPr>
                <p:cNvPr id="155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eaeaea"/>
                    </a:solidFill>
                    <a:latin typeface="Chalkboard"/>
                  </a:endParaRPr>
                </a:p>
              </p:txBody>
            </p:sp>
            <p:sp>
              <p:nvSpPr>
                <p:cNvPr id="156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eaeaea"/>
                    </a:solidFill>
                    <a:latin typeface="Chalkboard"/>
                  </a:endParaRPr>
                </a:p>
              </p:txBody>
            </p:sp>
            <p:sp>
              <p:nvSpPr>
                <p:cNvPr id="157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eaeaea"/>
                    </a:solidFill>
                    <a:latin typeface="Chalkboard"/>
                  </a:endParaRPr>
                </a:p>
              </p:txBody>
            </p:sp>
            <p:sp>
              <p:nvSpPr>
                <p:cNvPr id="158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eaeaea"/>
                    </a:solidFill>
                    <a:latin typeface="Chalkboard"/>
                  </a:endParaRPr>
                </a:p>
              </p:txBody>
            </p:sp>
            <p:sp>
              <p:nvSpPr>
                <p:cNvPr id="159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eaeaea"/>
                    </a:solidFill>
                    <a:latin typeface="Chalkboard"/>
                  </a:endParaRPr>
                </a:p>
              </p:txBody>
            </p:sp>
            <p:sp>
              <p:nvSpPr>
                <p:cNvPr id="160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eaeaea"/>
                    </a:solidFill>
                    <a:latin typeface="Chalkboard"/>
                  </a:endParaRPr>
                </a:p>
              </p:txBody>
            </p:sp>
            <p:sp>
              <p:nvSpPr>
                <p:cNvPr id="161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eaeaea"/>
                    </a:solidFill>
                    <a:latin typeface="Chalkboard"/>
                  </a:endParaRPr>
                </a:p>
              </p:txBody>
            </p:sp>
            <p:sp>
              <p:nvSpPr>
                <p:cNvPr id="162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eaeaea"/>
                    </a:solidFill>
                    <a:latin typeface="Chalkboard"/>
                  </a:endParaRPr>
                </a:p>
              </p:txBody>
            </p:sp>
          </p:grpSp>
          <p:sp>
            <p:nvSpPr>
              <p:cNvPr id="163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c4c6f"/>
                  </a:gs>
                  <a:gs pos="100000">
                    <a:srgbClr val="54547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165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b"/>
                  </a:gs>
                  <a:gs pos="100000">
                    <a:srgbClr val="54547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166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b"/>
                  </a:gs>
                  <a:gs pos="100000">
                    <a:srgbClr val="54547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167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168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c4c6f"/>
                  </a:gs>
                  <a:gs pos="100000">
                    <a:srgbClr val="54547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169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b"/>
                  </a:gs>
                  <a:gs pos="100000">
                    <a:srgbClr val="54547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170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b"/>
                  </a:gs>
                  <a:gs pos="100000">
                    <a:srgbClr val="54547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Chalkboard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1661A-B704-494D-ABCD-D82499C4A52F}" type="slidenum">
              <a:rPr b="0" lang="en-US" sz="10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ecff"/>
                </a:solidFill>
                <a:latin typeface="Arial"/>
              </a:rPr>
              <a:t>Food Born Illness</a:t>
            </a:r>
            <a:endParaRPr b="1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YOU could be next!!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1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eaeaea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IMPORTANT vocabulary!</a:t>
            </a: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464832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eaeaea"/>
                </a:solidFill>
                <a:uFillTx/>
                <a:latin typeface="Arial"/>
              </a:rPr>
              <a:t>Cross Contamination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 - moving bacteria from one source to another.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eaeaea"/>
                </a:solidFill>
                <a:uFillTx/>
                <a:latin typeface="Arial"/>
              </a:rPr>
              <a:t>Vector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 - responsible party (object, machine) that actually carries the bacteria from source to source.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4508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eaeaea"/>
                </a:solidFill>
                <a:uFillTx/>
                <a:latin typeface="Arial"/>
              </a:rPr>
              <a:t>Host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 - original source of contamination.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1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eaeaea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Symptoms</a:t>
            </a: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901"/>
              </a:spcBef>
              <a:buClr>
                <a:srgbClr val="ccecff"/>
              </a:buClr>
              <a:buSzPct val="11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All the same symptoms as Salmonella.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533520" indent="-533520">
              <a:spcBef>
                <a:spcPts val="901"/>
              </a:spcBef>
              <a:buClr>
                <a:srgbClr val="ccecff"/>
              </a:buClr>
              <a:buSzPct val="11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PLUS you CAN have….bloody diarrhea!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5335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4508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  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In children under 5 years old &amp; in the elderly it can cause kidney failure, &amp; destroy red blood cells - RARE, only 2-7% of cases.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5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eaeaea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After Ingestion of E.coli</a:t>
            </a: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876312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548280" indent="-548280">
              <a:spcBef>
                <a:spcPts val="901"/>
              </a:spcBef>
              <a:buClr>
                <a:srgbClr val="ccecff"/>
              </a:buClr>
              <a:buSzPct val="11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Illness usually lasts 5-10 day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548280" indent="-548280">
              <a:spcBef>
                <a:spcPts val="901"/>
              </a:spcBef>
              <a:buClr>
                <a:srgbClr val="ccecff"/>
              </a:buClr>
              <a:buSzPct val="11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Most people recover w/out antibiotic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548280" indent="-548280">
              <a:spcBef>
                <a:spcPts val="901"/>
              </a:spcBef>
              <a:buClr>
                <a:srgbClr val="ccecff"/>
              </a:buClr>
              <a:buSzPct val="11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Should NOT use anti-diarrhea medications.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5482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WHY?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5482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- keeps BAC in body &amp; allows BAC to grow in warm, moist, conditions (&amp; the BAC has lots of nutrients!) so it GROWS!  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8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eaeaea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33160" y="-30528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Prevention</a:t>
            </a: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0" y="609120"/>
            <a:ext cx="464832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458640" indent="-45864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ok all meat wel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458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. Use meat thermomete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458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.  Thickest part of meat should be -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458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- 160° - beef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458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- 170° - poult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458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.  If you don’t have a meat thermometer, cut into center of meat &amp; make sure it is NOT pink!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495680" y="685440"/>
            <a:ext cx="464832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4532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2.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Keep raw meats separate from ready-to-eat foods (salads, breads etc.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453240" indent="-453240">
              <a:spcBef>
                <a:spcPts val="799"/>
              </a:spcBef>
              <a:buClr>
                <a:srgbClr val="ccecff"/>
              </a:buClr>
              <a:buSzPct val="115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ash hands, counter &amp; utensils with hot, soapy water after touching raw mea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453240" indent="-453240">
              <a:spcBef>
                <a:spcPts val="799"/>
              </a:spcBef>
              <a:buClr>
                <a:srgbClr val="ccecff"/>
              </a:buClr>
              <a:buSzPct val="115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ever place cooked meat on the same plate that held raw mea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2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eaeaea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2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2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6840" y="-15264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Prevention (continued)</a:t>
            </a: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-228600" y="685440"/>
            <a:ext cx="464832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469440" indent="-469440">
              <a:lnSpc>
                <a:spcPct val="90000"/>
              </a:lnSpc>
              <a:spcBef>
                <a:spcPts val="901"/>
              </a:spcBef>
              <a:buClr>
                <a:srgbClr val="ccecff"/>
              </a:buClr>
              <a:buSzPct val="115000"/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Drink only pasteurized milk and juice.  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4694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- Products that have been pasteurized…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4694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a.  Will say “pasteurized”  on the label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4694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b.  May be sold at room temperature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48320" y="762120"/>
            <a:ext cx="44956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01480" indent="-501480">
              <a:spcBef>
                <a:spcPts val="901"/>
              </a:spcBef>
              <a:buClr>
                <a:srgbClr val="ccecff"/>
              </a:buClr>
              <a:buSzPct val="115000"/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Wash fruits &amp; vegetables well (dry with paper towel).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501480" indent="-501480">
              <a:spcBef>
                <a:spcPts val="901"/>
              </a:spcBef>
              <a:buClr>
                <a:srgbClr val="ccecff"/>
              </a:buClr>
              <a:buSzPct val="115000"/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Wash hands after using restroom or changing diapers to reduce risk of spreading infection.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6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eaeaea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What is food born illness?</a:t>
            </a: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901"/>
              </a:spcBef>
              <a:buClr>
                <a:srgbClr val="ccecff"/>
              </a:buClr>
              <a:buSzPct val="115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Illness resulting from eating food contaminated w/ a bacteria or virus.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ccecff"/>
              </a:buClr>
              <a:buSzPct val="115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May cause </a:t>
            </a:r>
            <a:r>
              <a:rPr b="0" lang="en-US" sz="3600" spc="-1" strike="noStrike" u="sng">
                <a:solidFill>
                  <a:srgbClr val="eaeaea"/>
                </a:solidFill>
                <a:uFillTx/>
                <a:latin typeface="Arial"/>
              </a:rPr>
              <a:t>outbreaks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 where many people become sick, with the same illness at the same time. (about 10% of a population)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1.  Usually contaminated food comes from a location away from home (restaurant, baseball game etc.).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4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eaeaea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Epidemiology</a:t>
            </a: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0" y="114300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Arial"/>
              </a:rPr>
              <a:t>The tracking of outbreaks of illness (not always food illness) to discover where the original source of contamination came from.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Arial"/>
              </a:rPr>
              <a:t>Why?  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Arial"/>
              </a:rPr>
              <a:t>To PREVENT it from happening again!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7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eaeaea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28240" y="-38124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Salmonella</a:t>
            </a: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0" y="914040"/>
            <a:ext cx="449568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415800" indent="-415800">
              <a:lnSpc>
                <a:spcPct val="90000"/>
              </a:lnSpc>
              <a:spcBef>
                <a:spcPts val="901"/>
              </a:spcBef>
              <a:buClr>
                <a:srgbClr val="ccecff"/>
              </a:buClr>
              <a:buSzPct val="115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Bacteria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4158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1. Many types live in poultry &amp; swine (birds &amp; pigs)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4158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2. Can be found in environment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4158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a. water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4158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b. soil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4158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. insect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4158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d. animal fec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495680" y="1142640"/>
            <a:ext cx="464832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3. Found in undercooked meats, egg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25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a. 1 in every 3 eggs is contaminated!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25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b. Illness can be avoided if eggs are cooked properly.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1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eaeaea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3 Conditions BAC need to live</a:t>
            </a: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100"/>
              </a:spcBef>
              <a:buClr>
                <a:srgbClr val="ccecff"/>
              </a:buClr>
              <a:buSzPct val="11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Arial"/>
              </a:rPr>
              <a:t>Warmth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spcBef>
                <a:spcPts val="1100"/>
              </a:spcBef>
              <a:buClr>
                <a:srgbClr val="ccecff"/>
              </a:buClr>
              <a:buSzPct val="11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Arial"/>
              </a:rPr>
              <a:t>Moisture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spcBef>
                <a:spcPts val="1100"/>
              </a:spcBef>
              <a:buClr>
                <a:srgbClr val="ccecff"/>
              </a:buClr>
              <a:buSzPct val="11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Arial"/>
              </a:rPr>
              <a:t>Nutrients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4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eaeaea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2 factors that kill BAC!</a:t>
            </a: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Clr>
                <a:srgbClr val="ccecff"/>
              </a:buClr>
              <a:buSzPct val="11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Extreme heat</a:t>
            </a:r>
            <a:r>
              <a:rPr b="0" lang="en-US" sz="4000" spc="-1" strike="noStrike">
                <a:solidFill>
                  <a:srgbClr val="ea0b16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(this is BEST!)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ccecff"/>
              </a:buClr>
              <a:buSzPct val="11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Extreme cold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eaeaea"/>
                </a:solidFill>
                <a:uFillTx/>
                <a:latin typeface="Arial"/>
              </a:rPr>
              <a:t>Pasteurization</a:t>
            </a: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 - a heat treatment used to </a:t>
            </a:r>
            <a:r>
              <a:rPr b="0" lang="en-US" sz="4000" spc="-1" strike="noStrike" u="sng">
                <a:solidFill>
                  <a:srgbClr val="eaeaea"/>
                </a:solidFill>
                <a:uFillTx/>
                <a:latin typeface="Arial"/>
              </a:rPr>
              <a:t>kill </a:t>
            </a: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bacteria.  (commonly used with milk &amp; juice)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7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eaeaea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6840" y="-22896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Symptoms</a:t>
            </a: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	</a:t>
            </a: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-360" y="837720"/>
            <a:ext cx="822636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560520" indent="-560520">
              <a:lnSpc>
                <a:spcPct val="90000"/>
              </a:lnSpc>
              <a:spcBef>
                <a:spcPts val="901"/>
              </a:spcBef>
              <a:buClr>
                <a:srgbClr val="ccecff"/>
              </a:buClr>
              <a:buSzPct val="11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Nausea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560520" indent="-560520">
              <a:lnSpc>
                <a:spcPct val="90000"/>
              </a:lnSpc>
              <a:spcBef>
                <a:spcPts val="901"/>
              </a:spcBef>
              <a:buClr>
                <a:srgbClr val="ccecff"/>
              </a:buClr>
              <a:buSzPct val="11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Vomiting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560520" indent="-560520">
              <a:lnSpc>
                <a:spcPct val="90000"/>
              </a:lnSpc>
              <a:spcBef>
                <a:spcPts val="901"/>
              </a:spcBef>
              <a:buClr>
                <a:srgbClr val="ccecff"/>
              </a:buClr>
              <a:buSzPct val="11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Stomach cramp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560520" indent="-560520">
              <a:lnSpc>
                <a:spcPct val="90000"/>
              </a:lnSpc>
              <a:spcBef>
                <a:spcPts val="901"/>
              </a:spcBef>
              <a:buClr>
                <a:srgbClr val="ccecff"/>
              </a:buClr>
              <a:buSzPct val="11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Diarrhea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560520" indent="-560520">
              <a:lnSpc>
                <a:spcPct val="90000"/>
              </a:lnSpc>
              <a:spcBef>
                <a:spcPts val="901"/>
              </a:spcBef>
              <a:buClr>
                <a:srgbClr val="ccecff"/>
              </a:buClr>
              <a:buSzPct val="11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Fever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560520" indent="-560520">
              <a:lnSpc>
                <a:spcPct val="90000"/>
              </a:lnSpc>
              <a:spcBef>
                <a:spcPts val="901"/>
              </a:spcBef>
              <a:buClr>
                <a:srgbClr val="ccecff"/>
              </a:buClr>
              <a:buSzPct val="11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Headache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5605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560520" indent="-560520">
              <a:lnSpc>
                <a:spcPct val="90000"/>
              </a:lnSpc>
              <a:spcBef>
                <a:spcPts val="901"/>
              </a:spcBef>
              <a:buClr>
                <a:srgbClr val="ccecff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AN be fatal - RARE!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0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eaeaea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2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2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After Ingestion of bacteria</a:t>
            </a: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51920" y="1066320"/>
            <a:ext cx="861084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566640" indent="-566640">
              <a:spcBef>
                <a:spcPts val="1001"/>
              </a:spcBef>
              <a:buClr>
                <a:srgbClr val="ccecff"/>
              </a:buClr>
              <a:buSzPct val="11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Will be sick within 6-72 hours after eating contaminated food.  (NOT usually sick immediately after eating!)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marL="566640" indent="-566640">
              <a:spcBef>
                <a:spcPts val="1001"/>
              </a:spcBef>
              <a:buClr>
                <a:srgbClr val="ccecff"/>
              </a:buClr>
              <a:buSzPct val="11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Symptoms usually last 4-7 days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marL="566640" indent="-566640">
              <a:spcBef>
                <a:spcPts val="1001"/>
              </a:spcBef>
              <a:buClr>
                <a:srgbClr val="ccecff"/>
              </a:buClr>
              <a:buSzPct val="11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Most recover without antibiotics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marL="566640" indent="-566640">
              <a:spcBef>
                <a:spcPts val="1001"/>
              </a:spcBef>
              <a:buClr>
                <a:srgbClr val="ccecff"/>
              </a:buClr>
              <a:buSzPct val="11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Diarrhea can be severe enough to hospitalize person (dehydration)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3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eaeaea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560" y="-22896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E. coli</a:t>
            </a: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0" y="609120"/>
            <a:ext cx="457200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458640" indent="-458640">
              <a:spcBef>
                <a:spcPts val="901"/>
              </a:spcBef>
              <a:buClr>
                <a:srgbClr val="ccecff"/>
              </a:buClr>
              <a:buSzPct val="115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Bacteria that produces a powerful toxin &amp; can cause severe illness.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4586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1. Most strains harmles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4586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2. Live in intestines of healthy humans &amp; animals.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343040" y="990720"/>
            <a:ext cx="480060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3. Found in undercooked ground beef &amp; non-pasteurized milk.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A. Meat can become contaminated during cattle slaughter.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B. Bacteria on cow’s udders or on equipment can get into milk.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7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eaeaea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3T14:45:42Z</dcterms:created>
  <dc:creator>Wydown Middle School</dc:creator>
  <dc:description/>
  <dc:language>en-US</dc:language>
  <cp:lastModifiedBy>LEGION2</cp:lastModifiedBy>
  <cp:lastPrinted>2008-07-28T19:25:33Z</cp:lastPrinted>
  <dcterms:modified xsi:type="dcterms:W3CDTF">2016-01-14T09:20:23Z</dcterms:modified>
  <cp:revision>17</cp:revision>
  <dc:subject/>
  <dc:title>Food Born Illness</dc:title>
</cp:coreProperties>
</file>