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B14C-8C21-4EED-8F35-05358C1E0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ood Born Illnes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YOU could be next!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Born 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be next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MPORTANT vocabulary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ross Contamination - moving bacteria from one source to another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Vector - responsible party (object, machine) that actually carries the bacteria from source to source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st - original source of contamination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vocabula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Contamination - moving bacteria from one source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 - responsible party (object, machine) that actually carries the bacteria from source to sou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- original source of cont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ll the same symptoms as Salmonella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US you CAN have….bloody diarrhea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 children under 5 years old &amp; in the elderly it can cause kidney failure, &amp; destroy red blood cells - RARE, only 2-7% of case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symptoms as Salmone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S you CAN have….bloody diarrh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ldren under 5 years old &amp; in the elderly it can cause kidney failure, &amp; destroy red blood cells - RARE, only 2-7% of c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fter Ingestion of E.coli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llness usually lasts 5-10 day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people recover w/out antibiotic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hould NOT use anti-diarrhea medication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keeps BAC in body &amp; allows BAC to grow in warm, moist, conditions (&amp; the BAC has lots of nutrients!) so it GROWS!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Ingestion of E.c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ness usually lasts 5-10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eople recover w/out antibio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NOT use anti-diarrhea med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keeps BAC in body &amp; allows BAC to grow in warm, moist, conditions (&amp; the BAC has lots of nutrients!) so it GROWS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ok all meat wel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Use meat thermomet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 Thickest part of meat should be -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160° - beef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170° - poultry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.  If you don’t have a meat thermometer, cut into center of meat &amp; make sure it is NOT pink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  Keep raw meats separate from ready-to-eat foods (salads, breads etc.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hands, counter &amp; utensils with hot, soapy water after touching raw meat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ever place cooked meat on the same plate that held raw meat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 all meat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Use meat therm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Thickest part of meat should be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60° - b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70° - poul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f you don’t have a meat thermometer, cut into center of meat &amp; make sure it is NOT p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 Keep raw meats separate from ready-to-eat foods (salads, breads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hands, counter &amp; utensils with hot, soapy water after touching raw m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lace cooked meat on the same plate that held raw m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vention (continued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rink only pasteurized milk and juice.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Products that have been pasteurized…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 Will say “pasteurized”  on the labe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 May be sold at room temperatur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fruits &amp; vegetables well (dry with paper towel)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hands after using restroom or changing diapers to reduce risk of spreading infection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 only pasteurized milk and juic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oducts that have been pasteuriz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ill say “pasteurized”  on the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May be sold at room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fruits &amp; vegetables well (dry with paper towe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hands after using restroom or changing diapers to reduce risk of spreading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at is food born illness?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llness resulting from eating food contaminated w/ a bacteria or viru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y cause outbreaks where many people become sick, with the same illness at the same time. (about 10% of a population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 Usually contaminated food comes from a location away from home (restaurant, baseball game etc.)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food born illne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ness resulting from eating food contaminated w/ a bacteria or vir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cause outbreaks where many people become sick, with the same illness at the same time. (about 10% of a pop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Usually contaminated food comes from a location away from home (restaurant, baseball game etc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pidemiology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tracking of outbreaks of illness (not always food illness) to discover where the original source of contamination came from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y?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 PREVENT it from happening again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cking of outbreaks of illness (not always food illness) to discover where the original source of contamination came fr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EVENT it from happening agai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lmonell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Many types live in poultry &amp; swine (birds &amp; pigs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Can be found in environment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wat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soi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. insect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. animal fece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. Found in undercooked meats, egg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1 in every 3 eggs is contaminated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Illness can be avoided if eggs are cooked properly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mon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any types live in poultry &amp; swine (birds &amp; pi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n be found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animal f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und in undercooked meats,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1 in every 3 eggs is contamin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Illness can be avoided if eggs are cooked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 Conditions BAC need to liv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rmth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istur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utrient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ditions BAC need to 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is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 factors that kill BAC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eme heat (this is BEST!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eme cold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asteurization - a heat treatment used to kill bacteria.  (commonly used with milk &amp; juice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factors that kill BA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heat (this is BEST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ization - a heat treatment used to kill bacteria.  (commonly used with milk &amp; ju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ause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tomach cramp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arrhe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eadach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N be fatal - RARE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r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rrh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fatal - R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fter Ingestion of bacteri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ill be sick within 6-72 hours after eating contaminated food.  (NOT usually sick immediately after eating!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 usually last 4-7 day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recover without antibiotic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arrhea can be severe enough to hospitalize person (dehydration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Ingestion of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 sick within 6-72 hours after eating contaminated food.  (NOT usually sick immediately after ea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 usually last 4-7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cover without antibio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rrhea can be severe enough to hospitalize person (dehydr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. coli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cteria that produces a powerful toxin &amp; can cause severe illnes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Most strains harmles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Live in intestines of healthy humans &amp; animal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. Found in undercooked ground beef &amp; non-pasteurized milk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Meat can become contaminated during cattle slaughter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Bacteria on cow’s udders or on equipment can get into milk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 that produces a powerful toxin &amp; can cause severe ill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ost strains harm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Live in intestines of healthy humans &amp;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und in undercooked ground beef &amp; non-pasteurized mi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Meat can become contaminated during cattle sl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Bacteria on cow’s udders or on equipment can get into mi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4B4C-87FE-4875-B617-5517E397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D8F2-CCAF-40C8-A577-73B3BC62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FEDE-A9CC-43AF-A498-E3C70345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63E-F202-443A-8448-3B2309EA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AAB0-B17F-42F3-B4FF-6BC2D2EE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C8C9-7AE0-42FE-912B-43984C37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4E33-C2A7-4E5A-8068-9A38DEBA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FB19-E042-4B9F-AAFF-8AABB58D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DB6A-693A-40BC-AD5A-93CB87BF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47AF-0762-4D8E-A043-A5A2BF2B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64F3-7FD4-4C82-82D4-728713FA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D79F-FEC7-495F-8266-57FB1BF2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786E-940C-4C56-8EDD-8B8D2E4B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B677-2BB8-47A8-AAC4-8C82D0C1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58C3-C16E-4FC6-9EA1-5D60D47F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125E-15A9-4A55-9B5D-A8728CD8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080A-51D4-4FFA-8EAA-1E9FBC83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C81-C43D-4237-9BF9-CF359DE4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2D11-2519-4D86-9231-DF030CFA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9E0-0662-49F5-B5EA-14888EFD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89F-6DC0-42F2-B021-DFDA7E72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4481-3E78-4C6E-BB19-1DB547A2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D346-EF33-43D5-9255-66902A1D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982D-9F62-4900-B5C3-0A651312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Chalkboard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DA12-C848-47FE-9B1C-6921304B81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Chalkboard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1613-C3A3-44F2-A44A-1FDC2C8BCB25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Food Born Illness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YOU could be next!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MPORTANT vocabulary!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Cross Contamin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moving bacteria from one source to another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Vector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sponsible party (object, machine) that actually carries the bacteria from source to sourc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Host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original source of contamination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ymptom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ll the same symptoms as Salmonella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LUS you CAN have….bloody diarrhea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n children under 5 years old &amp; in the elderly it can cause kidney failure, &amp; destroy red blood cells - RARE, only 2-7% of case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fter Ingestion of E.coli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7631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llness usually lasts 5-10 day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ost people recover w/out antibiotic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ould NOT use anti-diarrhea medication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- keeps BAC in body &amp; allows BAC to grow in warm, moist, conditions (&amp; the BAC has lots of nutrients!) so it GROWS!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-305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evention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ok all meat we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 Use meat thermome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.  Thickest part of meat should be -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160° - beef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170° - poult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.  If you don’t have a meat thermometer, cut into center of meat &amp; make sure it is NOT pink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495680" y="6854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5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.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ep raw meats separate from ready-to-eat foods (salads, breads etc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3240" indent="-45324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sh hands, counter &amp; utensils with hot, soapy water after touching raw mea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3240" indent="-45324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ver place cooked meat on the same plate that held raw mea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evention (continued)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228600" y="6854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-46944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rink only pasteurized milk and juice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- Products that have been pasteurized…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 Will say “pasteurized”  on the labe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 May be sold at room temperatur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762120"/>
            <a:ext cx="44956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ash fruits &amp; vegetables well (dry with paper towel)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01480" indent="-501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ash hands after using restroom or changing diapers to reduce risk of spreading infection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What is food born illness?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llness resulting from eating food contaminated w/ a bacteria or viru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ay cause 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outbreaks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where many people become sick, with the same illness at the same time. (about 10% of a population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 Usually contaminated food comes from a location away from home (restaurant, baseball game etc.)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pidemiology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he tracking of outbreaks of illness (not always food illness) to discover where the original source of contamination came from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Why? 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o PREVENT it from happening again!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240" y="-381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almonella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4956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15800" indent="-4158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acteri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Many types live in poultry &amp; swine (birds &amp; pigs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Can be found in environmen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wat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soi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. insec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. animal fec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95680" y="11426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Found in undercooked meats, egg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1 in every 3 eggs is contaminated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Illness can be avoided if eggs are cooked properly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3 Conditions BAC need to liv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Warmth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Moisture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Nutrient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2 factors that kill BAC!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treme heat</a:t>
            </a:r>
            <a:r>
              <a:rPr b="0" lang="en-US" sz="4000" spc="-1" strike="noStrike">
                <a:solidFill>
                  <a:srgbClr val="ea0b1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(this is BEST!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treme col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"/>
              </a:rPr>
              <a:t>Pasteurization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- a heat treatment used to </a:t>
            </a: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"/>
              </a:rPr>
              <a:t>kill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bacteria.  (commonly used with milk &amp; juice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-228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ymptoms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Nause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Vomiting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tomach cramp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iarrhe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Fev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Headach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AN be fatal - RARE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fter Ingestion of bacteria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610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Will be sick within 6-72 hours after eating contaminated food.  (NOT usually sick immediately after eating!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Symptoms usually last 4-7 day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Most recover without antibiotic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iarrhea can be severe enough to hospitalize person (dehydration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-228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. coli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572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acteria that produces a powerful toxin &amp; can cause severe illnes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Most strains harmles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Live in intestines of healthy humans &amp; animal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343040" y="990720"/>
            <a:ext cx="48006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Found in undercooked ground beef &amp; non-pasteurized milk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Meat can become contaminated during cattle slaughter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Bacteria on cow’s udders or on equipment can get into milk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14:45:42Z</dcterms:created>
  <dc:creator>Wydown Middle School</dc:creator>
  <dc:description/>
  <dc:language>en-US</dc:language>
  <cp:lastModifiedBy>LEGION2</cp:lastModifiedBy>
  <cp:lastPrinted>2008-07-28T19:25:33Z</cp:lastPrinted>
  <dcterms:modified xsi:type="dcterms:W3CDTF">2016-01-14T09:20:23Z</dcterms:modified>
  <cp:revision>17</cp:revision>
  <dc:subject/>
  <dc:title>Food Born Illness</dc:title>
</cp:coreProperties>
</file>