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402444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6E6F-A3EB-42C6-9098-45D93D52E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;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ere your lungs and windpip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n the lungs,oxygen from the ai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nters the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n the lungs,carbon dioxid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v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lood and gets breathed ou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name the harmful substances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bacco smok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;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where your lungs and windpip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n the lungs,oxygen from the ai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ters the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n the lungs,carbon dioxid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and gets breathed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name the harmful substances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bacco sm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ther test for carbon 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icarbonate indicator can be used as another test for carbon 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resence of carbon dioxide will turn the indicator from dark red to orange 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test for carbon 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carbonate indicator can be used as another test for carbon 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ence of carbon dioxide will turn the indicator from dark red to orange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dangers in smoking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three poisons in cigarette smok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icotine : -  affects the brain, is addictiv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n monoxide :  -  poisonous gas stop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carrying oxygen ,can be fata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ar : -  made of many chemicals, clogs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ungs, causes canc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ngers in smoking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poisons in cigarette smo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: -  affects the brain, is addic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monoxide :  -  poisonous gas stop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carrying oxygen ,can be fa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r : -  made of many chemicals, clogs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ngs, causes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ir Pollu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a view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ir above a street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xico Cit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called smog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s caused by exhaus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umes from car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view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above a street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xico 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lled smog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used by exhau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mes from c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air pollution on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 exhaust fumes contain harmful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bstances from burnt petr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a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 particles which can cause brain damage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veloping childre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b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n monoxide reduces the ability o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lood to carry oxyge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c 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moke clogs up air sac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air pollution on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 exhaust fumes contain harmfu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s from burnt pe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particles which can cause brain damage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ing childr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monoxide reduces the ability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to carry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 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 clogs up air sa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ter pollu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sulphur dioxide is combined with water , the result can be in the form of acid ra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pol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ulphur dioxide is combined with water , the result can be in the form of acid 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acid ra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damage the linings of the lu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acid 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damage the linings of the lu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solvent abu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 lead to people causing or being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volved in acciden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ng term effects include death by choking 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ver failure and damage to the heart and bra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solvent ab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lead to people causing or be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olved in accid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term effects include death by choking 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r failure and damage to the heart and br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ffects of passive smok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ssentially the same effects as smoking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self,the only difference is that the perso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bjected to the effects does not smok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ects of passive smo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sentially the same effects as smok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self,the only difference is that the pers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jected to the effects does not sm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it 2 Heart and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ere the heart is in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t acts like a muscular pum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lood carries food,heat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xyge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ound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lood flows through vesse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pulse rate tells how fast you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bea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 2 Heart and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where the heart is in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t acts like a muscular pum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lood carries food,heat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und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lood flows through vess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pulse rate tells how fast you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be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recovery time is a measure o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lood helps the body fight germ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disease can be caused b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ry,smoking and die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we can be protected from disease b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munisa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recovery time is a measure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tn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lood helps the body fight germ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disease can be caused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ry,smoking and d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we can be protected from disease b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unis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measure the amount of tar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igarette smok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something about the diseases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nected with  smok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some of the other substances which ca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llute our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state what the diaphragm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ibs do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y Bodies Uni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measure the amount of tar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garette sm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something about the diseases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ed with  smo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some of the other substances which c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ute our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 able to state what the diaphragm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bs 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may also know that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re are three types of blood vessel,namel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ins,arteries and 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ercise affects your pulse rat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consists of plasma,red cells,whit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ells and platele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and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also know that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three types of blood vessel,namel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,arterie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affects your pulse r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consists of plasma,red cells,whit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s and plate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ear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ight side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ody and pumps i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the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eft side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nd pumps i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all parts of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ight side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ody and pumps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ft side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takes blood 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nd pumps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ll parts of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teries veins and 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rteries veins and 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Vesse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 artery is a vessel which carries bloo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way from the hear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has a thick muscular wal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lood travelling in the artery is under grea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ess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igh pressure is caused by the hear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a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Vesse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tery is a vessel which carries bloo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y from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a thick muscular w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lood travelling in the artery is under grea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s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igh pressure is caused by the hear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pillaries and Vei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arteries divide into smaller vessels call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capillaries join up to form larger vessel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ch in turn form vei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veins carry blood back to the hear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veins are under less pressure than the arte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ins have no pulse and are found nearer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face than arte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 and V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teries divide into smaller vessels cal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pillaries join up to form larger vessel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n turn form v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ins carry blood back to the he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eins are under less pressure than the arte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 have no pulse and are found nearer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than arte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alv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ressure ha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ropped by the time i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aches the vei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prevent blood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lowing backwards,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ins have valv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alves are like door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ch only open on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sure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opped by the time i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hes the v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event blood fro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ing backwards,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ins have val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ves are like door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only open on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Composi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 is made up fro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white liquid call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sm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Compos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od is made up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hite liquid ca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cells are the carriers of oxygen round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chemical called haemoglobin makes the blood r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ells are the carriers of oxygen round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emical called haemoglobin makes the blood 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cells are responsible for building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munity to 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build up antibodies which fight agains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arious infections we g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ells are responsible for building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unity to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build up antibodies which fight agains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ous infections we g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latelets are the cells which cause clotting at the sight of an injury,thus helping healing of wound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le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elets are the cells which cause clotting at the sight of an injury,thus helping healing of w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the liquid  part of the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is responsible for the transporting of the various things in the bloo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liquid  part of the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responsible for the transporting of the various things in the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at normal body temperature i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body temperature is higher than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f your body temperature i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rmal you are il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sweating decreases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what normal body temperature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body temperature is higher than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if your body temperature i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you are 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now that sweating decreases bod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ivering increases 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supplies the body with energy 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intain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lothes stop heat loss and maintain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ss in temperature causes hypothermi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vering increases body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supplies the body with energy to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thes stop heat loss and maintain bod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s in temperature causes hypotherm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– The Lungs and Breath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lthy Bodies – The Lungs and Breath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Ribcag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ibc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re protected by the ribcag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ir enters our lungs via the trachea or wi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ip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the air enters our lungs,the muscl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lled the diaphragm goes downward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we breathe out the diaphragm moves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air is expelled from the lu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re located in the chest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re protected by the ribc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 enters our lungs via the trachea or wi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air enters our lungs,the muscl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 the diaphragm goes downwa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breathe out the diaphragm moves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ir is expelled from the lu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re located in the chest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2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lungs are red in colou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because they contain oxyge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feel spongy when touch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float in water because of the air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0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can be polluted by dirty ai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2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ungs are red in colo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they contain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feel spongy when touc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float in water because of the air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be polluted by dirty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3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we breathe in ,air passes to the tub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ading to the air sac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next to blood vessels call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d blood cells pick up oxygen from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cs when we breathe 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release carbon dioxide back to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cs when we breathe ou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e breathe in ,air passes to the tube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ing to the air sa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ext to blood vessels call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pillar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blood cells pick up oxygen from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cs when we breathe 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release carbon dioxide back to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cs when we breathe 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we breathe  4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r windpipe and other air passages are lin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ith a sticky substanc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called MUCU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traps dirt and germ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ny hairs sweep the dirty mucus u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r throat where it is swallow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we breathe  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windpipe and other air passages are line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 sticky sub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called MUC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raps dirt and ger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ny hairs sweep the dirty mucus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throat where it is swallow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31"/>
          <p:cNvSpPr/>
          <p:nvPr/>
        </p:nvSpPr>
        <p:spPr>
          <a:xfrm>
            <a:off x="4024440" y="8542440"/>
            <a:ext cx="307800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test for carbon 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we blow breathed air into lime water,the lime wate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urns milk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because breathed air contains carbo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oxid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breathed air will not affect the lime w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eathed air contains more carbon dioxide tha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breathed air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me water can be used as a test for carbon dioxide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st for carbon 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we blow breathed air into lime water,the lime wa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ns milk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ecause breathed air contains carb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ox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eathed air will not affect the lime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thed air contains more carbon dioxide th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breathed air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e water can be used as a test for carbon dioxide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2345-F828-4D5D-8816-8E7AB931B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1DC7-D8F7-4245-8E04-163FADC7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3E34-DC4D-4A3B-AAED-DF153A536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8B9D-87F6-4D97-86EA-13A12E3E9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AE302-3A72-4240-9374-176B6542F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9455D-A5D6-4E9E-BABD-393EB600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BE19-9847-4A9C-B930-61F3621C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4BF8-A38D-46E1-8C88-205CBD5F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6B96-C728-4274-A360-E0B7D790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2D9D-7099-451B-8B7E-40614438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71EC-0FA9-4264-93DC-410FA4BF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D07E-0335-4073-A860-18479986C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DC2C8-3EE4-49C0-8C78-30F2C7AD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773F-0FDB-4E45-8F61-06FA64FE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1579-05C5-4CEC-9DB6-D9EDABE9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50B5-0126-4A54-857F-B88D0F6D9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0F0B-8853-4929-A1F5-E53166E30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7F0A-73F1-4426-9D5A-C9BDCB3E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6C69-13C2-478B-9A74-C537FC3F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374E-2CF9-495B-9B96-AA5E819CB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8F5E-2A35-4FA7-8B89-4F6D9FD8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A104-EE7C-4D82-BC77-F0EB92BE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F6CD-C971-4AEB-9FFC-9165FD15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EC50-4F86-4305-BA43-1786C5608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5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1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2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3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8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9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6A57-48D4-4A50-8EEA-FE7CDF5457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2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5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1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17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EB3AE-6C50-43AD-9C98-A39540FFFC7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y the end of this unit you should ;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where your lungs and windpip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in the lungs,oxygen from the air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enters the bloo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in the lungs,carbon dioxid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eave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blood and gets breathed ou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 able to name the harmful substances i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obacco smok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nother test for carbon dioxid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icarbonate indicator can be used as another test for carbon dioxid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presence of carbon dioxide will turn the indicator from dark red to orange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dangers in smoking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three poisons in cigarette smok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5000" y="2422440"/>
            <a:ext cx="889632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icotine : -  affects the brain, is addictiv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rbon monoxide :  -  poisonous gas stop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lood carrying oxygen ,can be fat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ar : -  made of many chemicals, clogs up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ungs, causes canc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ir Pollu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is is a view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ir above a street i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xico Cit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is called smog and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is caused by exhaus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umes from ca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Effects of air pollution on the body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r exhaust fumes contain harmful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ubstances from burnt petro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(a)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ead particles which can cause brain damage i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developing childre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(b)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rbon monoxide reduces the ability of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blood to carry oxyge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(c )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moke clogs up air sac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Water pollu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en sulphur dioxide is combined with water , the result can be in the form of acid rai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Effects of acid rain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n damage the linings of the lu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Effects of solvent abus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n lead to people causing or being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nvolved in acciden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ong term effects include death by choking ,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iver failure and damage to the heart and brai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ffects of passive smoking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sentially the same effects as smoking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self,the only difference is that the person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bjected to the effects does not smok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Unit 2 Heart and Blood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where the heart is in the bod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it acts like a muscular pump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blood carries food,heat an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oxyge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round the bod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blood flows through vesse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pulse rate tells how fast your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eart bea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recovery time is a measure of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blood helps the body fight germ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nd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eart disease can be caused b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orry,smoking and di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we can be protected from disease b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mmunisa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On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 able to measure the amount of tar i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igarette smok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something about the diseases 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onnected with  smok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some of the other substances which ca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ollute our lu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 able to state what the diaphragm an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ribs d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rt and Blood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You may also know that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re are three types of blood vessel,namel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veins,arteries and capillari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Exercise affects your pulse ra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lood consists of plasma,red cells,whit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ells and platele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Hear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right side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body and pumps i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o the lung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left side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heart takes blood fro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lungs and pumps i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o all parts of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od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4876920" y="2778120"/>
            <a:ext cx="3733560" cy="307008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rteries veins and capillarie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914400" y="2392200"/>
            <a:ext cx="7543800" cy="446580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Blood Vessel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n artery is a vessel which carries bloo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way from the hear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t has a thick muscular wal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blood travelling in the artery is under grea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ess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 high pressure is caused by the hear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Capillaries and Vein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arteries divide into smaller vessels called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capillaries join up to form larger vessel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ich in turn form vei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veins carry blood back to the hear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veins are under less pressure than the arter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Veins have no pulse and are found nearer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urface than arter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Valve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pressure ha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dropped by the time i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reaches the vei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o prevent blood fro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lowing backwards,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veins have valv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Valves are like door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ich only open on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a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4876920" y="2486160"/>
            <a:ext cx="4038480" cy="315576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Blood Composition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lood is made up fro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 white liquid call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plasm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5791320" y="3276720"/>
            <a:ext cx="3124080" cy="27763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7" dur="indefinite" restart="never" nodeType="tmRoot">
          <p:childTnLst>
            <p:seq>
              <p:cTn id="688" dur="indefinite" nodeType="mainSeq">
                <p:childTnLst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Red blood cell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4360680" cy="4135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281560" y="2346120"/>
            <a:ext cx="3749760" cy="39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se cells are the carriers of oxygen round the bod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chemical called haemoglobin makes the blood red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3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White blood cell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se cells are responsible for building up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mmunity to 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y build up antibodies which fight agains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various infections we ge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Platelet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cc"/>
                </a:solidFill>
                <a:latin typeface="Times New Roman"/>
              </a:rPr>
              <a:t>The platelets are the cells which cause clotting at the sight of an injury,thus helping healing of wound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Lung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6" name="Picture 1027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8896320" cy="413532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lasm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is the liquid  part of the bloo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is responsible for the transporting of the various things in the bloo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what normal body temperature 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that body temperature is higher than th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that if your body temperature i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rmal you are il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that sweating decreases body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hivering increases body 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od supplies the body with energy to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maintain 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Clothes stop heat loss and maintain body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Loss in temperature causes hypothermi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ealthy Bodies – The Lungs and Breathing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35" name="Picture 3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8896320" cy="413532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Ribcag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8896320" cy="413532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ow we breathe 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ungs are protected by the ribcag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ir enters our lungs via the trachea or wi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ip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the air enters our lungs,the muscl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lled the diaphragm goes downward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en we breathe out the diaphragm moves up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air is expelled from the lu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ungs are located in the chest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ow we breathe  2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ungs are red in colou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is because they contain oxyge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y feel spongy when touch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y float in water because of the air in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y can be polluted by dirty ai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ow we breathe  3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hen we breathe in ,air passes to the tube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leading to the air sac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se are next to blood vessels calle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pillari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Red blood cells pick up oxygen from th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acs when we breathe i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y release carbon dioxide back to th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acs when we breathe ou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ow we breathe  4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Your windpipe and other air passages are line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ith a sticky substanc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is is called MUCU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is traps dirt and germ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iny hairs sweep the dirty mucus up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your throat where it is swallow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test for carbon dioxid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If we blow breathed air into lime water,the lime water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urns milk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is is because breathed air contains carbo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dioxid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Unbreathed air will not affect the lime wa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reathed air contains more carbon dioxide tha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unbreathed air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Lime water can be used as a test for carbon dioxide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09:55:04Z</dcterms:created>
  <dc:creator>Physics Department</dc:creator>
  <dc:description>Healthy Bodies. The Lungs and Breathing.</dc:description>
  <cp:keywords>Healthy Bodies. The Lungs and Breathing.</cp:keywords>
  <dc:language>en-US</dc:language>
  <cp:lastModifiedBy>LEGION2</cp:lastModifiedBy>
  <dcterms:modified xsi:type="dcterms:W3CDTF">2016-01-14T09:31:28Z</dcterms:modified>
  <cp:revision>63</cp:revision>
  <dc:subject/>
  <dc:title>Healthy Bodies. The Lungs and Breathing.</dc:title>
</cp:coreProperties>
</file>