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9395-F2F0-45F0-8A2C-10DD02498D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body temperature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is is usually higher tha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,you are 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owerpoint is hosted on www.worldofteaching.c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contr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hot,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k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co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cold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make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iver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us heat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                     Diet and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makes up a healthy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too much can causes he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causes anorexi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alcohol consumption can a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t and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many alcohol units are containe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r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how many alcohol units are in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 of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information on alcohol in graph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should contain the following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foods that are quite high in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good for storing energy during win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is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many fat based foods can make peop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also cause cholesterol in the vei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tarch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like bre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toes and pas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a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energ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lories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m can be burned of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 they appear as fat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used for the growth and repair of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 deficiency can result in malnutr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supplies or alternatives give us 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y of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onsist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, B ,C ,D E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se pla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rts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icture shown is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bones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ith rick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ccurs through lac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tamin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alts that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ed by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calciu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milk for bon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 and oth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cont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d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fatty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ch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help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bility to maintain body tempera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to save a person suffering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burn up the food we 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us energy for our muscles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our muscles work,the more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od we n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more food than we need,the extra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ed into f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ing fat is unhealthy and affects our he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mo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eats more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ould yo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er?Expl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ould it be b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erson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y do to lo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nergy K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erious eating disorder which main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s young gir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bulimia,another eating dis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cs believe they need to lose weight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ally diet to do 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psychological problem and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 can lead to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ffects of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a dr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ffects your brain by bloc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sages to your sen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slows down you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measured in un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unit of alcohol consists of  a) a smal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s of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problems at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od chang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ney trou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affect personal saf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death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name 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regular exercise improves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be described as having staying po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 which you need to have stami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wimming ,jogging , rowing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and lungs need to be in good wor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very rate is usually quick from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scles need to be strong and in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clude  weight lifting, row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and gymna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dy can be capable of being moved in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ositions without being sti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stretching exercises are neede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 this aspect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needing suppleness include danc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mnastics, judo, swimming and yog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 Blooded Animal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lizard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 make enoug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rom their f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nable them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er than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i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end to be more active during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opical fish from the Amazon woul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urvive in Scot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at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n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where the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warm blooded animal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constant temperature of 37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are able to make and lose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lose excess heat by sweating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ody temperature goes above 37 C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you are suffering from a 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end to sweat a lot as the body tries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your temperatur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creases in temperature are caused b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appens when the body falls below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rtain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ody is too low in temperature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long, it can result in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mostly occurs with elder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are signs of hypothermia and actions to be 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rring of spee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ly ina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becom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to rea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 in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n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a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et drink bu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4,5 Increase ro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eating slow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2A0-5A99-4B1B-80CC-5BDC6F50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910-A601-4C42-A8E1-65C64590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95D-EC28-4F9B-A99B-E49002EE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96E-1E1A-4C4A-88B1-6450204C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6671-CA88-4EA5-A1CA-9539D16B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55A3-65BB-4EEC-B8F2-748F1F81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5218-17AB-4A91-9AAB-6697E3EE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3FE9-F30A-4782-BDA7-9E30A07E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526E-1518-48C9-9C0A-7AD2837F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4B7F-E355-4EDE-B0A7-15B7B98A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75F3-5BC7-436B-AF84-1284320F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034-FC3E-4186-89A1-D6AA2937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3EF8-FAE7-4A35-B021-93FE7983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FFE2-4F31-4C43-BE85-643EFB9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C44A-CB92-44D9-8977-0186DF91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7DBB-54C6-45DE-B0E3-60618CF1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BBF4-7531-462A-B871-B7A07E94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BAC-209F-42EE-AADE-A95C9B48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B1C-AFE4-4DBA-95D7-B707F7E3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863-0F9D-4371-9323-F446FC68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DA9-12A7-4066-A99F-D7C1C59E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6FF-13C9-4BF8-8ADD-A2E96E75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F7E-1292-4F1D-A633-569B3B49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F32-AC9D-4649-A387-0AC3774E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1029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34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035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036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037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042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043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D588-F936-42E6-8C90-9CE6C86438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C1C7-D3FC-4D2F-81EE-388188BFDD33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80272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465948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80272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4800600" y="2552760"/>
            <a:ext cx="3886200" cy="347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5181120" y="2743200"/>
            <a:ext cx="160020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943600" y="4191120"/>
            <a:ext cx="15238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562720" y="4952880"/>
            <a:ext cx="22860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8534520" y="2743200"/>
            <a:ext cx="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7984080" y="2251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661536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615360" y="36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69132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6615360" y="491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 flipV="1">
            <a:off x="8534520" y="5181120"/>
            <a:ext cx="30456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2057040"/>
            <a:ext cx="4876920" cy="42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29"/>
          <p:cNvSpPr/>
          <p:nvPr/>
        </p:nvSpPr>
        <p:spPr>
          <a:xfrm flipH="1" flipV="1">
            <a:off x="8152920" y="5181120"/>
            <a:ext cx="38124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7832520" y="57564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257800" y="5486400"/>
            <a:ext cx="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6781680" y="2743200"/>
            <a:ext cx="121932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6400800" y="34290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Line 36"/>
          <p:cNvSpPr/>
          <p:nvPr/>
        </p:nvSpPr>
        <p:spPr>
          <a:xfrm>
            <a:off x="5181480" y="5486400"/>
            <a:ext cx="289584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72160" y="22096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6172200" y="2819520"/>
            <a:ext cx="0" cy="2895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172200" y="5715000"/>
            <a:ext cx="2438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640080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6400800" y="3352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670572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6934320" y="3123720"/>
            <a:ext cx="0" cy="2590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6934320" y="3124080"/>
            <a:ext cx="3045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7238880" y="3124080"/>
            <a:ext cx="0" cy="2514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 flipV="1">
            <a:off x="746748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7467480" y="39625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777240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26"/>
          <p:cNvSpPr/>
          <p:nvPr/>
        </p:nvSpPr>
        <p:spPr>
          <a:xfrm flipV="1">
            <a:off x="800100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8001000" y="35053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830592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6233760" y="5680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7452000" y="5680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36"/>
          <p:cNvSpPr/>
          <p:nvPr/>
        </p:nvSpPr>
        <p:spPr>
          <a:xfrm flipH="1">
            <a:off x="6019560" y="31240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7"/>
          <p:cNvSpPr/>
          <p:nvPr/>
        </p:nvSpPr>
        <p:spPr>
          <a:xfrm flipH="1">
            <a:off x="6019560" y="44197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38"/>
          <p:cNvSpPr/>
          <p:nvPr/>
        </p:nvSpPr>
        <p:spPr>
          <a:xfrm flipH="1">
            <a:off x="6019560" y="51055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Line 39"/>
          <p:cNvSpPr/>
          <p:nvPr/>
        </p:nvSpPr>
        <p:spPr>
          <a:xfrm flipH="1">
            <a:off x="6019560" y="38098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40"/>
          <p:cNvSpPr/>
          <p:nvPr/>
        </p:nvSpPr>
        <p:spPr>
          <a:xfrm>
            <a:off x="5015160" y="28605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5091120" y="35463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5091120" y="41562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167440" y="484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6934320" y="32767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6934320" y="35812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Line 48"/>
          <p:cNvSpPr/>
          <p:nvPr/>
        </p:nvSpPr>
        <p:spPr>
          <a:xfrm flipH="1">
            <a:off x="6934320" y="37339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Line 49"/>
          <p:cNvSpPr/>
          <p:nvPr/>
        </p:nvSpPr>
        <p:spPr>
          <a:xfrm>
            <a:off x="6934320" y="40384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Line 50"/>
          <p:cNvSpPr/>
          <p:nvPr/>
        </p:nvSpPr>
        <p:spPr>
          <a:xfrm flipH="1">
            <a:off x="6933960" y="42670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51"/>
          <p:cNvSpPr/>
          <p:nvPr/>
        </p:nvSpPr>
        <p:spPr>
          <a:xfrm>
            <a:off x="6934320" y="44956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55"/>
          <p:cNvSpPr/>
          <p:nvPr/>
        </p:nvSpPr>
        <p:spPr>
          <a:xfrm flipH="1">
            <a:off x="6934320" y="46483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6934320" y="48769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Line 57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58"/>
          <p:cNvSpPr/>
          <p:nvPr/>
        </p:nvSpPr>
        <p:spPr>
          <a:xfrm>
            <a:off x="6934320" y="53341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Line 59"/>
          <p:cNvSpPr/>
          <p:nvPr/>
        </p:nvSpPr>
        <p:spPr>
          <a:xfrm>
            <a:off x="8001000" y="365760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Line 60"/>
          <p:cNvSpPr/>
          <p:nvPr/>
        </p:nvSpPr>
        <p:spPr>
          <a:xfrm flipH="1">
            <a:off x="8000640" y="388620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61"/>
          <p:cNvSpPr/>
          <p:nvPr/>
        </p:nvSpPr>
        <p:spPr>
          <a:xfrm>
            <a:off x="8001000" y="4191120"/>
            <a:ext cx="30492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Line 63"/>
          <p:cNvSpPr/>
          <p:nvPr/>
        </p:nvSpPr>
        <p:spPr>
          <a:xfrm flipH="1">
            <a:off x="8000640" y="44956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Line 64"/>
          <p:cNvSpPr/>
          <p:nvPr/>
        </p:nvSpPr>
        <p:spPr>
          <a:xfrm>
            <a:off x="8001000" y="47242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Line 65"/>
          <p:cNvSpPr/>
          <p:nvPr/>
        </p:nvSpPr>
        <p:spPr>
          <a:xfrm flipH="1">
            <a:off x="8000640" y="49528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Line 66"/>
          <p:cNvSpPr/>
          <p:nvPr/>
        </p:nvSpPr>
        <p:spPr>
          <a:xfrm>
            <a:off x="8001000" y="518148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5242320" y="62136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6858000" y="6324480"/>
            <a:ext cx="22860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70"/>
          <p:cNvSpPr/>
          <p:nvPr/>
        </p:nvSpPr>
        <p:spPr>
          <a:xfrm>
            <a:off x="6858000" y="63244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Line 71"/>
          <p:cNvSpPr/>
          <p:nvPr/>
        </p:nvSpPr>
        <p:spPr>
          <a:xfrm flipH="1">
            <a:off x="6857640" y="6324480"/>
            <a:ext cx="1522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72"/>
          <p:cNvSpPr/>
          <p:nvPr/>
        </p:nvSpPr>
        <p:spPr>
          <a:xfrm>
            <a:off x="7224120" y="62136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Rectangle 74"/>
          <p:cNvSpPr/>
          <p:nvPr/>
        </p:nvSpPr>
        <p:spPr>
          <a:xfrm>
            <a:off x="8915400" y="6248520"/>
            <a:ext cx="228600" cy="380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14:30:48Z</dcterms:created>
  <dc:creator>Catherine</dc:creator>
  <dc:description>Cold  Blooded Animals 1.</dc:description>
  <cp:keywords>Cold  Blooded Animals 1.</cp:keywords>
  <dc:language>en-US</dc:language>
  <cp:lastModifiedBy>LEGION2</cp:lastModifiedBy>
  <dcterms:modified xsi:type="dcterms:W3CDTF">2016-01-14T09:35:29Z</dcterms:modified>
  <cp:revision>22</cp:revision>
  <dc:subject>Cold  Blooded Animals 1.</dc:subject>
  <dc:title>Cold  Blooded Animals 1.</dc:title>
</cp:coreProperties>
</file>