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4866-DF19-4E24-8F51-F8F695D60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055-325C-4C05-943A-FBC0CF33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5D0-41F3-4E6F-BB31-895B648B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BE7-9CA7-487D-8DAE-B91D3264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D20-40C2-4914-AA1E-02BF64A4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9271-E354-48ED-9DC2-BE29926C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E48-8FB4-4909-B910-6A745D0B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EDD-45D5-4F63-8D0B-4F7290FF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34E-2D33-4E56-A712-826CF2C4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C10-CA23-4687-93D5-99243522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594-C632-4E05-80EA-E4DCDEBD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A65-5BC1-4DF8-93CB-F35D35CF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E5F-7D65-43FC-8470-2593E4EA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48E5-74AB-4BA0-BDF1-239ECD6108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77336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436572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292720" y="198900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132000" y="1557360"/>
            <a:ext cx="1513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59280" y="3141720"/>
            <a:ext cx="1512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93080" y="5013360"/>
            <a:ext cx="1512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059280" y="5229360"/>
            <a:ext cx="1512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859280" y="378936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164360" y="263700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0:31Z</dcterms:created>
  <dc:creator>CEC</dc:creator>
  <dc:description/>
  <dc:language>en-US</dc:language>
  <cp:lastModifiedBy>LEGION2</cp:lastModifiedBy>
  <dcterms:modified xsi:type="dcterms:W3CDTF">2016-01-14T09:48:44Z</dcterms:modified>
  <cp:revision>8</cp:revision>
  <dc:subject/>
  <dc:title>The Heart and Circulatory System</dc:title>
</cp:coreProperties>
</file>