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5D7EB-495D-4B70-906B-EE301BBADD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and 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Year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and 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Year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e or Fal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es carry blood from the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es carry oxygenated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 connect arteries and v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 have very thick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 have no val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 have valves to prevent the backflow of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 have a large space in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es carry de-oxygenated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 carry blood towards the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e or Fal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es carry blood from the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es carry oxygenated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 connect arteries and v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 have very thick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 have no val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 have valves to prevent the backflow of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 have a large space in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es carry de-oxygenated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 carry blood towards the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the heart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is a muscle that pumps blood around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pumps oxygenated blood from the lungs around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pumps deoxygenated blood from the body back to the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look at the heart animatio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the heart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is a muscle that pumps blood around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pumps oxygenated blood from the lungs around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pumps deoxygenated blood from the body back to the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look at the heart animatio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ing at the heart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side of my heart pumps blood to my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ft side of my heart pumps blood to the rest of my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contains four valves to stop the backflow of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ing at the heart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side of my heart pumps blood to my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ft side of my heart pumps blood to the rest of my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contains four valves to stop the backflow of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1C86-2639-4853-996C-DF296951D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FE7F-4E0E-46CF-A11F-C0A359417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437E-D614-4184-8B1B-93974A0FA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C4AC-0B82-4915-A11B-DFE265A2E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35C6-18F4-4A86-8A04-8A80CB12A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F631-F524-4986-A777-D4F786067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3FB4-E71D-4BCC-9A83-C6BA1EA16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EAFA-FE84-4A6A-80D6-0063CA626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B888-397A-4BCE-AC8C-783B8772D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DCC4-38C4-4465-9140-181AFC29B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C381-4577-4051-B695-F836D958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7848-B4EC-463A-88E7-798EAD1D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46B4E-4A44-46C6-B479-88C11FD3E0F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Heart and Circulatory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Year 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rue or Fal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611280" y="1773360"/>
            <a:ext cx="1512720" cy="119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teries carry blood from the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611280" y="4365720"/>
            <a:ext cx="1512720" cy="119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teries carry oxygenated bl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5292720" y="1989000"/>
            <a:ext cx="1512720" cy="119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pillaries connect arteries and ve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3132000" y="1557360"/>
            <a:ext cx="151308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pillaries have very thick w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3059280" y="3141720"/>
            <a:ext cx="15127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ins have no va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7093080" y="5013360"/>
            <a:ext cx="1512720" cy="1465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pillaries have valves to prevent the backflow of bl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3059280" y="5229360"/>
            <a:ext cx="151272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ins have a large space in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5"/>
          <p:cNvSpPr/>
          <p:nvPr/>
        </p:nvSpPr>
        <p:spPr>
          <a:xfrm>
            <a:off x="4859280" y="3789360"/>
            <a:ext cx="1513080" cy="119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teries carry de-oxygenated bl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7164360" y="2637000"/>
            <a:ext cx="1513080" cy="119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ins carry blood towards the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does the heart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heart is a muscle that pumps blood around the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pumps oxygenated blood from the lungs around the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pumps deoxygenated blood from the body back to the lu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Now look at the heart anima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ooking at the heart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right side of my heart pumps blood to my lu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left side of my heart pumps blood to the rest of my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heart contains four valves to stop the backflow of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5T14:50:31Z</dcterms:created>
  <dc:creator>CEC</dc:creator>
  <dc:description/>
  <dc:language>en-US</dc:language>
  <cp:lastModifiedBy>LEGION2</cp:lastModifiedBy>
  <dcterms:modified xsi:type="dcterms:W3CDTF">2016-01-14T09:48:44Z</dcterms:modified>
  <cp:revision>8</cp:revision>
  <dc:subject/>
  <dc:title>The Heart and Circulatory System</dc:title>
</cp:coreProperties>
</file>