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56FB-65E5-490B-B549-BA5FEFF7AE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e and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, Blood Vessels &amp; 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e and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, Blood Vessels &amp; 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to p27 of Biology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tch a diagram to show the structure of an artery, vein and capill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and complete the table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to p27 of Biology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tch a diagram to show the structure of an artery, vein and capill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and complete the table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valves that stop blood moving the wrong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valves that stop blood moving the wrong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olosclerosis is a disease where the arteries harden or thick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d by smoking and cholesterol in the di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high blood pressure and increased risk of heart att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olosclerosis is a disease where the arteries harden or thick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d by smoking and cholesterol in the di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high blood pressure and increased risk of heart att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FOR 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FOR 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31AD-F42E-4394-8A15-B325DAB18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3740-772D-41D2-A445-AF02CD38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B4DD-C130-4B4E-AD20-3F7AC9CEF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769D-65DB-4A26-BD2D-42115CEE0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9136-A391-4A8A-AECB-15FF1B48C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C543-5928-407D-93CD-02857C91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A441-7274-4371-AA80-39BF6812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7E35-1208-4179-BDFB-E18FFD0F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AFD5-29E7-4273-B959-DE66C5A4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5FCC-64C8-4654-8400-F1196905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0D06-2416-45A3-B01B-FE638AF8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B9A7-55E2-4501-B6F4-483A0F8E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9AB7-BEB5-46A3-AE80-1CE761E1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19C4-A477-4C86-84A3-426C4286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31ED-0B39-49CA-ABFB-5924B750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AE77-25EF-460B-9870-27BD7E1F1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F49E-2C47-481F-B2A7-36AC0610D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A0F7-9AF9-472B-BC02-04C717A7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06C4-07A4-467C-B2C6-E817AA06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89DB-4CBA-418F-AEEF-E7F0BB19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FEB2-E721-4E79-8431-8FF0DECC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E792-B8DA-4326-87F6-589ECDDB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8F0F-376E-4C2E-A966-D40BC1F5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25DE-DCD3-4F8E-BC8B-F1B46787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C8FA-D4D4-4FE7-BF17-24947F4B4A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5E84-3607-4907-9E71-CECC86B074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0033"/>
                </a:solidFill>
                <a:latin typeface="Times New Roman"/>
              </a:rPr>
              <a:t>Exercise and Health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art, Blood Vessels &amp; Heart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eart"/>
          <p:cNvPicPr/>
          <p:nvPr/>
        </p:nvPicPr>
        <p:blipFill>
          <a:blip r:embed="rId1"/>
          <a:stretch/>
        </p:blipFill>
        <p:spPr>
          <a:xfrm>
            <a:off x="324000" y="26028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heart"/>
          <p:cNvPicPr/>
          <p:nvPr/>
        </p:nvPicPr>
        <p:blipFill>
          <a:blip r:embed="rId1"/>
          <a:stretch/>
        </p:blipFill>
        <p:spPr>
          <a:xfrm>
            <a:off x="324000" y="26028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86728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6300720" y="234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6300720" y="234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3348000" y="5300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516720" y="450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6300720" y="234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3348000" y="5300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6516720" y="450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3132000" y="4581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6877080" y="2924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6300720" y="234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3348000" y="5300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6516720" y="450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3132000" y="4581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6877080" y="2924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5"/>
          <p:cNvSpPr/>
          <p:nvPr/>
        </p:nvSpPr>
        <p:spPr>
          <a:xfrm flipH="1" flipV="1">
            <a:off x="5724000" y="3499920"/>
            <a:ext cx="1295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6948360" y="3933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6300720" y="234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3348000" y="5300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6516720" y="450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3132000" y="4581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6877080" y="2924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4"/>
          <p:cNvSpPr/>
          <p:nvPr/>
        </p:nvSpPr>
        <p:spPr>
          <a:xfrm flipH="1" flipV="1">
            <a:off x="5724000" y="3499920"/>
            <a:ext cx="1295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6948360" y="3933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2916360" y="2349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5" descr="heartjigsaw"/>
          <p:cNvPicPr/>
          <p:nvPr/>
        </p:nvPicPr>
        <p:blipFill>
          <a:blip r:embed="rId1"/>
          <a:stretch/>
        </p:blipFill>
        <p:spPr>
          <a:xfrm>
            <a:off x="1619280" y="277920"/>
            <a:ext cx="6048360" cy="624672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human_heart"/>
          <p:cNvPicPr/>
          <p:nvPr/>
        </p:nvPicPr>
        <p:blipFill>
          <a:blip r:embed="rId1"/>
          <a:stretch/>
        </p:blipFill>
        <p:spPr>
          <a:xfrm>
            <a:off x="1116000" y="0"/>
            <a:ext cx="66247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Blood vesse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urn to p27 of Biology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ketch a diagram to show the structure of an artery, vein and capill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py and complete the table on the next sl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8" descr="artery-vein"/>
          <p:cNvPicPr/>
          <p:nvPr/>
        </p:nvPicPr>
        <p:blipFill>
          <a:blip r:embed="rId1"/>
          <a:stretch/>
        </p:blipFill>
        <p:spPr>
          <a:xfrm>
            <a:off x="900000" y="1628640"/>
            <a:ext cx="3816360" cy="446436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826920" y="620640"/>
          <a:ext cx="7632720" cy="4603680"/>
        </p:xfrm>
        <a:graphic>
          <a:graphicData uri="http://schemas.openxmlformats.org/drawingml/2006/table">
            <a:tbl>
              <a:tblPr/>
              <a:tblGrid>
                <a:gridCol w="2544840"/>
                <a:gridCol w="2543400"/>
                <a:gridCol w="2544480"/>
              </a:tblGrid>
              <a:tr h="8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e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ll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y blood away from the he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k musc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elastic- walls can stret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ky so that substances can pass 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Text Box 67"/>
          <p:cNvSpPr/>
          <p:nvPr/>
        </p:nvSpPr>
        <p:spPr>
          <a:xfrm>
            <a:off x="6012000" y="5300640"/>
            <a:ext cx="23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ve valves that stop blood moving the wrong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68"/>
          <p:cNvSpPr/>
          <p:nvPr/>
        </p:nvSpPr>
        <p:spPr>
          <a:xfrm>
            <a:off x="826920" y="522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9"/>
          <p:cNvSpPr/>
          <p:nvPr/>
        </p:nvSpPr>
        <p:spPr>
          <a:xfrm>
            <a:off x="3348000" y="522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70"/>
          <p:cNvSpPr/>
          <p:nvPr/>
        </p:nvSpPr>
        <p:spPr>
          <a:xfrm>
            <a:off x="826920" y="6453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71"/>
          <p:cNvSpPr/>
          <p:nvPr/>
        </p:nvSpPr>
        <p:spPr>
          <a:xfrm>
            <a:off x="5940360" y="522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72"/>
          <p:cNvSpPr/>
          <p:nvPr/>
        </p:nvSpPr>
        <p:spPr>
          <a:xfrm>
            <a:off x="8459640" y="522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Heart disea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rteriolosclerosi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a disease where the arteries harden or thic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used by smoking and cholesterol in the di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ds to high blood pressure and increased risk of heart at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1" descr="Pipe"/>
          <p:cNvPicPr/>
          <p:nvPr/>
        </p:nvPicPr>
        <p:blipFill>
          <a:blip r:embed="rId1"/>
          <a:stretch/>
        </p:blipFill>
        <p:spPr>
          <a:xfrm>
            <a:off x="971640" y="1628640"/>
            <a:ext cx="3744720" cy="439272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Heart disea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Heart disea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OMPLETE FOR 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humheart"/>
          <p:cNvPicPr/>
          <p:nvPr/>
        </p:nvPicPr>
        <p:blipFill>
          <a:blip r:embed="rId1"/>
          <a:stretch/>
        </p:blipFill>
        <p:spPr>
          <a:xfrm>
            <a:off x="2195640" y="907920"/>
            <a:ext cx="4824360" cy="496908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7" descr="keyimg20050620_5884652_0"/>
          <p:cNvPicPr/>
          <p:nvPr/>
        </p:nvPicPr>
        <p:blipFill>
          <a:blip r:embed="rId1"/>
          <a:stretch/>
        </p:blipFill>
        <p:spPr>
          <a:xfrm>
            <a:off x="684360" y="641520"/>
            <a:ext cx="7920000" cy="56800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heart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eart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1116000" y="14130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heart"/>
          <p:cNvPicPr/>
          <p:nvPr/>
        </p:nvPicPr>
        <p:blipFill>
          <a:blip r:embed="rId1"/>
          <a:stretch/>
        </p:blipFill>
        <p:spPr>
          <a:xfrm>
            <a:off x="324000" y="26028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2124000" y="148428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419640" y="981000"/>
            <a:ext cx="19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eart"/>
          <p:cNvPicPr/>
          <p:nvPr/>
        </p:nvPicPr>
        <p:blipFill>
          <a:blip r:embed="rId1"/>
          <a:stretch/>
        </p:blipFill>
        <p:spPr>
          <a:xfrm>
            <a:off x="324000" y="26028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2124000" y="148428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heart"/>
          <p:cNvPicPr/>
          <p:nvPr/>
        </p:nvPicPr>
        <p:blipFill>
          <a:blip r:embed="rId1"/>
          <a:stretch/>
        </p:blipFill>
        <p:spPr>
          <a:xfrm>
            <a:off x="324000" y="26028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19:51:23Z</dcterms:created>
  <dc:creator>Keith Hicks</dc:creator>
  <dc:description/>
  <dc:language>en-US</dc:language>
  <cp:lastModifiedBy>LEGION2</cp:lastModifiedBy>
  <dcterms:modified xsi:type="dcterms:W3CDTF">2016-01-14T09:54:51Z</dcterms:modified>
  <cp:revision>15</cp:revision>
  <dc:subject/>
  <dc:title>Exercise and Health</dc:title>
</cp:coreProperties>
</file>