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9B8A-3D95-440A-8211-D2827516EA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V and A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V and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n South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 Africa has an estimated five million people living with HIV - more than any other n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ists say some 600 South Africans die from Aids-related diseases each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is predicted to cause a huge rise in the country's death rate over the next two decad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ers say that people who use and abuse alcohol are at both greater risk of contracting Aids, and infecting oth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rvey conducted in Carltonville in South Africa revealed that men who drink are four times more likely to be HIV posit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fe Sex in South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at unsafe sex is so prevalent in South Afric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women in South Africa feel they must have sex when as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uld the government do to change these statis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prevalence rates in women under 20 have fallen since 1998, suggesting that Aids awareness campaigns are having an imp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– Human Immunodeficiency Viru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– Auto Immune Deficiency Syndrome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he name given to a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affects your immune system (the way your body fights illness and inf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 so that your body can no longer defend itself. This is A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– Human Immunodeficiency Viru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– Auto Immune Deficiency Syndrome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he name given to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affects your immune system (the way your body fights illness and inf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 so that your body can no longer defend itself. This is A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uenza (flu), Polio, Smallp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are micr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sist of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or RNA (which hold the information about the virus, like your 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at (to protect the DNA/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uenza (flu), Polio, 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are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sist of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or RNA (which hold the information about the virus, like your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at (to protect the DNA/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is a parasite which cannot reproduce on its ow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needs another living thing to surv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nfects the cells of your body and ‘hijacks’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dsorption &amp; Ent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cells stop doing what they’re supposed to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make copies of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plication &amp; Assembl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ruses are released and 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infect oth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lea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is a parasite which cannot reproduce on its ow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needs another living thing to surv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nfects the cells of your body and ‘hijacks’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dsorption &amp; En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cells stop doing what they’re supposed to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make copies of the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plication &amp; Assemb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ruses are released and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l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IDS affect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an illness that is not very serious for you and me can become life threatening to someone with HI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do not die from AIDS, they die because their bodies cannot fight off infections from other disease-causing organ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nuemo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3A45-64A4-4EF5-A016-AA393D50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845-5825-4A5A-A532-F5DE7FB5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B5F-A10F-4C12-A2B0-B2FA404F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DC1-F4EC-42C2-BF8B-22FDB9E9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32FB-7B67-4885-ADB9-51B21A26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3A26-4FF3-4AF7-B05F-1E181B92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7117-68F3-4E1F-B677-DD9C1604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F40-B574-44FD-AB8C-A61F701E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5982-21B8-46DA-BC76-E911FB5C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8D2-87B9-454B-BB85-5479C321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E4A-38CC-4AA3-9A7A-EA515B1B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56E-8AE5-4EA3-82C4-0D357668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302E-07DE-4A92-A54D-3C6DC35BA75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857680" y="1752480"/>
            <a:ext cx="3429000" cy="3353040"/>
          </a:xfrm>
          <a:prstGeom prst="rect">
            <a:avLst/>
          </a:prstGeom>
          <a:ln w="0">
            <a:noFill/>
          </a:ln>
        </p:spPr>
      </p:pic>
      <p:pic>
        <p:nvPicPr>
          <p:cNvPr id="49" name="Title 1" descr=""/>
          <p:cNvPicPr/>
          <p:nvPr/>
        </p:nvPicPr>
        <p:blipFill>
          <a:blip r:embed="rId2"/>
          <a:stretch/>
        </p:blipFill>
        <p:spPr>
          <a:xfrm>
            <a:off x="689040" y="2359080"/>
            <a:ext cx="7772400" cy="1469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V in Sou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uth Africa has an estimated five million people living with HIV - more than any other n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tivists say some 600 South Africans die from Aids-related diseases each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8" descr="aids_by_age"/>
          <p:cNvPicPr/>
          <p:nvPr/>
        </p:nvPicPr>
        <p:blipFill>
          <a:blip r:embed="rId1"/>
          <a:stretch/>
        </p:blipFill>
        <p:spPr>
          <a:xfrm>
            <a:off x="2411280" y="3390840"/>
            <a:ext cx="4430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ids is predicted to cause a huge rise in the country's death rate over the next two decades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0" descr="2"/>
          <p:cNvPicPr/>
          <p:nvPr/>
        </p:nvPicPr>
        <p:blipFill>
          <a:blip r:embed="rId1"/>
          <a:srcRect l="0" t="0" r="0" b="10506"/>
          <a:stretch/>
        </p:blipFill>
        <p:spPr>
          <a:xfrm>
            <a:off x="1763640" y="1509840"/>
            <a:ext cx="59752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searchers say that people who use and abuse alcohol are at both greater risk of contracting Aids, and infecting othe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survey conducted in Carltonville in South Africa revealed that men who drink are four times more likely to be HIV positiv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4"/>
          <p:cNvPicPr/>
          <p:nvPr/>
        </p:nvPicPr>
        <p:blipFill>
          <a:blip r:embed="rId1"/>
          <a:srcRect l="0" t="0" r="0" b="17221"/>
          <a:stretch/>
        </p:blipFill>
        <p:spPr>
          <a:xfrm>
            <a:off x="2195640" y="2467080"/>
            <a:ext cx="53053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safe Sex in Sou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5"/>
          <p:cNvPicPr/>
          <p:nvPr/>
        </p:nvPicPr>
        <p:blipFill>
          <a:blip r:embed="rId1"/>
          <a:srcRect l="0" t="0" r="0" b="9284"/>
          <a:stretch/>
        </p:blipFill>
        <p:spPr>
          <a:xfrm>
            <a:off x="179280" y="1413000"/>
            <a:ext cx="5832720" cy="5290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5940360" y="1628640"/>
            <a:ext cx="3203640" cy="71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y do you think that unsafe sex is so prevalent in South Afric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y do you think women in South Africa feel they must have sex when ask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at could the government do to change these statistic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IV prevalence rates in women under 20 have fallen since 1998, suggesting that Aids awareness campaigns are having an imp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6"/>
          <p:cNvPicPr/>
          <p:nvPr/>
        </p:nvPicPr>
        <p:blipFill>
          <a:blip r:embed="rId1"/>
          <a:srcRect l="0" t="0" r="0" b="17221"/>
          <a:stretch/>
        </p:blipFill>
        <p:spPr>
          <a:xfrm>
            <a:off x="1332000" y="1197000"/>
            <a:ext cx="6696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21528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HIV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H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man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I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munodeficiency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V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ru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AIDS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to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I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mune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D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ficiency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yndrome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57120" y="27860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is the name given to a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affects your immune system (the way your body fights illness and inf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stops your immune system from working properly so that your body can no longer defend itself. This is A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258920" y="2773440"/>
            <a:ext cx="6572160" cy="2600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668840" y="4799160"/>
            <a:ext cx="314316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642960" y="550872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fluenza (flu), Polio, Smallp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79280" y="1117440"/>
            <a:ext cx="7643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ruses are mic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y consist of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NA or RNA (which hold the information about the virus, like your D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protein coat (to protect the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57120" y="1500120"/>
            <a:ext cx="835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A virus is a parasite which cannot reproduce on its ow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t needs another living thing to surv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t infects the cells of your body and ‘hijacks’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dsorption &amp; Entr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Your cells stop doing what they’re supposed to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nstead make copies of th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Replication &amp; Assembl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The new viruses are released and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on to infect oth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Releas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6227640" y="1081080"/>
            <a:ext cx="2332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does AIDS affect yo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V stops your immune system from working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means an illness that is not very serious for you and me can become life threatening to someone with HI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ople do not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di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rom AIDS, they die because their bodies cannot fight off infections from other disease-causing org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nuemo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tubercul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AIDS_Map_Adults1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aids_africa"/>
          <p:cNvPicPr/>
          <p:nvPr/>
        </p:nvPicPr>
        <p:blipFill>
          <a:blip r:embed="rId1"/>
          <a:stretch/>
        </p:blipFill>
        <p:spPr>
          <a:xfrm>
            <a:off x="900000" y="0"/>
            <a:ext cx="7272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6:31:29Z</dcterms:created>
  <dc:creator>Philip Robinson</dc:creator>
  <dc:description/>
  <dc:language>en-US</dc:language>
  <cp:lastModifiedBy>RomaK</cp:lastModifiedBy>
  <dcterms:modified xsi:type="dcterms:W3CDTF">2015-09-04T12:21:32Z</dcterms:modified>
  <cp:revision>11</cp:revision>
  <dc:subject/>
  <dc:title>HIV and AIDS</dc:title>
</cp:coreProperties>
</file>