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0658-C3A9-4965-9D4B-D0469B090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E38-9316-4FB2-BEDB-59C15B20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B2E-9E6F-4F63-845B-DCF6B795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CF8-E648-48B4-897C-45FD9F3C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076-8DFE-4B1D-9726-B0BC9C60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924E-BBE8-48BA-9303-9DD25030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C34A-EE2D-4B05-BCB1-722538B3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E3E8-BB57-4EEA-8845-C88CAB35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294D-937D-462A-B83C-07EA3B44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CFFA-0E0D-4D30-A9C7-F26DAF81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9C9A-3F52-4063-BE8D-E6C7CF18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CEF5-661C-47CF-8736-3F89D949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A17-2786-478A-A266-FB0E1720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6A19-A1D3-495B-9FC0-B28D6AFE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0600-AB1C-4857-BD83-B923F22F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E330-AB42-4C4B-8077-8D1ED637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A232-41B6-4CC7-95D0-A62D52AD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4F1B-109E-4CBD-ADC7-0D966DAD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13FF9-7E67-4CA1-885E-E1F11466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1379A-9396-4D5C-9D43-BB80D65C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B3F22-1F51-4003-89CA-A606640B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B26EF-E2E3-4C48-804F-52139823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51C6-30D2-4916-820C-2184B271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81C-1540-44D5-94BC-EE7411E3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39FEA-9708-4B0E-AE24-67EE4D61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AB239-ECB8-4A5C-B885-0FB60620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1BBDA-AA46-4100-8ED4-11AEC7DC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5D48-BFC5-49A6-B5E6-8444A181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C8257-64F2-44C3-87CA-5E57F07B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3036F-B1FC-41B1-9FFC-31B0D36E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ACDB-E33C-47F3-AEA4-1B52FD02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C6718-055A-4625-83D8-49DB815F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D55C3-4486-4A4E-8DB3-0BADE5EA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A6A93-731F-4228-B84C-787716E0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B91-37C1-48CC-BDC9-4F3D275A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12CB4-8F53-4481-8DE4-738F2645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6CD9-35DA-493B-9180-F7B519A4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38B2E-81E7-40D2-A6EF-A816F383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B2CF9-51B8-4ECC-8399-E38B5E53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93414-CD3D-4347-8A87-2D7E2A4F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97F0-5CEE-4610-B10C-7E6CD9FD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8A559-762A-49A3-A1DE-9C35707E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B01FB-9E28-48CC-B23D-F7885762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A2446-23BD-4FDE-B71F-449E137A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6F2-2A97-4EC6-B5E3-FFA47468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7E0-7E9E-412A-BFD7-A68C7088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507-3FF8-4131-B149-9D91E239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6B3-2BCB-4532-8F86-B9006CE9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D4F-8B8C-488B-8527-440412F7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F48E-3129-4FC3-A7C5-DA9026B12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1E3F-993A-4145-A2C5-259985D71E9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7FC4-AE61-4DE9-82A8-8CE58EF3F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66A5-0DD8-4502-9892-4E3EAD37072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ametes… of the s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gs Develop in the O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rm is produced in the male scro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wo Types of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371600" y="2362320"/>
            <a:ext cx="2133720" cy="7617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5791320" y="2362320"/>
            <a:ext cx="2133360" cy="6858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3048120" y="3124080"/>
            <a:ext cx="91440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7467480" y="2971800"/>
            <a:ext cx="83844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781680" y="33526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514600" y="3429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895480" y="4648320"/>
            <a:ext cx="198144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934320" y="4648320"/>
            <a:ext cx="198108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34160" y="484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6171840" y="548640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 flipH="1">
            <a:off x="2057400" y="5410080"/>
            <a:ext cx="838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257800" y="5867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838080" y="5791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609480" y="57913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V="1">
            <a:off x="5486400" y="2971440"/>
            <a:ext cx="533520" cy="29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 flipV="1">
            <a:off x="762120" y="3047760"/>
            <a:ext cx="83808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5105520" y="327672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111"/>
                </a:solidFill>
                <a:latin typeface="Arial"/>
              </a:rPr>
              <a:t>Inhibits (stops) further release of the original 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80880" y="320040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motes or encourages more of the original substance to be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ree Primary Hormones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f Sexu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e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sto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267080" y="1600200"/>
          <a:ext cx="4100760" cy="36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00200"/>
                    <a:ext cx="41007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Fe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uberty, triggers lengthening of long bones, and changes in pelv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puberty stimulates the growth of axillary, pubic, facial and chest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argement of Larynx (deepening vo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ens Skin and Increases Oi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s Growth and Density of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Muscles in Size and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sts the Basal Metabolic Rate and Influences Behavior (Sex Dr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culinizes” the Brain (Promotes Aggress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of Hormon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 (Estrog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s reproductive cycles w/Progester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istens Skin and feminize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fetal growth and phys. changes during pregna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 (Testoster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growth of facial &amp; chest hair &amp; growth  of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mass and density of muscles &amp; b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sts BMR, &amp; Masculinize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ffects common to both sex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ex Hormones…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Maturation and Growth of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growth of Pubic and Axillary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8:56:56Z</dcterms:created>
  <dc:creator>John Bojnowski</dc:creator>
  <dc:description/>
  <dc:language>en-US</dc:language>
  <cp:lastModifiedBy>LEGION2</cp:lastModifiedBy>
  <dcterms:modified xsi:type="dcterms:W3CDTF">2016-01-14T10:06:26Z</dcterms:modified>
  <cp:revision>6</cp:revision>
  <dc:subject/>
  <dc:title>Gametes… of the sexes</dc:title>
</cp:coreProperties>
</file>