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3705-9858-458C-8724-64D38CD01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C87-7149-4871-93CF-C315E1C4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D7A-0840-45B2-8B84-E41D775F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0B6-690E-4F93-A66A-99DEE934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B9B-279B-4A6F-9EF8-461FF716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205A-53FA-4F4D-93A6-092DB936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0EB1-872C-45A9-B26D-0B7E04F2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E476-6257-4626-A005-C300C59A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FA1E-F616-4D41-B14C-83CAA100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69F5-9D55-47D0-9ECD-904C3022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20EF-B365-44EB-A48D-7B148E2D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7F24-A2F6-4BEF-B930-1E696C0A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1E3-F7AF-4E84-9BD8-ABE02B3C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B245-4AF6-45D5-A0DE-A7636F3C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7594-AE5D-4B93-AC50-39B077AD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E495-BA17-46D0-9575-9D4ADF54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1B12-957C-45EB-B5E6-D9F20359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1B11-0243-4EA9-AB29-A51323E5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8BC4-99EC-480F-A2C3-4696381A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29C05-42FD-48C1-9A0E-B686E219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2A89-089A-4795-947F-2BD5E2E8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29E0-81C3-4256-B928-C5BAF183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B053-B6D9-403B-87A0-B5A13AF2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3F1-8404-42F3-BBCF-E28594DF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ADC7-DF50-43F6-B4A5-0D0C8BAC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2F5A-E49D-4BDE-9124-191DE6DE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A6A4-F8DF-4E71-A746-34FD97F0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BE6F7-59CD-4E61-B285-736B3AC2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DA0D-5197-47B4-AA64-F02F4D78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C16C-5ED9-44B1-8D3C-59E92645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573B-2D7C-4039-9B6A-769F88BB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32454-6B24-4F49-AAAD-AA0E5C9F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D3865-23CE-41C1-BE48-31F86215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5A359-76B7-45B4-8EA2-81E17300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87D-6509-4DAF-A1BC-27AEE417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B3D9C-5A45-43DF-BD1D-A0ED317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B46D-E490-497E-B2F3-98766A39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07945-6F86-4029-A0A1-22E4A419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4F94-CA1A-4697-B6DF-EF765361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28D50-3088-4CA5-8915-9453070B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8CFA4-3CC0-4DB8-9EA3-BF95311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CFDA-5D85-4044-878D-7B642B55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353DC-CA31-466D-9DF3-DFFC1C0C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9BEE-2134-434C-A928-A3F33FDA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917-7BEE-425C-A1B5-0F97D676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400-3F22-4EDF-A9E3-7D681825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3C9-AE30-40D9-B916-12C6CD0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D63-3B41-45A9-A007-97FD1EF5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5DB-6849-4B6A-84A6-855B940E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C5FF-2045-4B3E-8BCA-BC80525C0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B0CD-0E92-44BB-8AE7-93435AFBCBB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632D-262F-46E5-89FD-BEC8719B3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0179-9F0A-4066-AD65-956587FD926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ametes…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gs Develop in the O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rm is produced in the male scro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wo Types of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371600" y="2362320"/>
            <a:ext cx="2133720" cy="7617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5791320" y="2362320"/>
            <a:ext cx="2133360" cy="6858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048120" y="3124080"/>
            <a:ext cx="9144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7467480" y="2971800"/>
            <a:ext cx="83844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781680" y="33526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514600" y="34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895480" y="4648320"/>
            <a:ext cx="198144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934320" y="4648320"/>
            <a:ext cx="198108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34160" y="484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6171840" y="54864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2057400" y="541008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57800" y="5867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838080" y="5791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609480" y="57913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5486400" y="2971440"/>
            <a:ext cx="53352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V="1">
            <a:off x="762120" y="3047760"/>
            <a:ext cx="83808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5105520" y="327672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111"/>
                </a:solidFill>
                <a:latin typeface="Arial"/>
              </a:rPr>
              <a:t>Inhibits (stops) further release of the original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80880" y="32004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motes or encourages more of the original substance to b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ree Primary Hormones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f Sexu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e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o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267080" y="1600200"/>
          <a:ext cx="4100760" cy="36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41007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Fe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uberty, triggers lengthening of long bones, and changes in pelv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puberty stimulates the growth of axillary, pubic, facial and ches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ment of Larynx (deepening v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s Skin and Increases Oi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s Growth and Density of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Muscles in Size an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sts the Basal Metabolic Rate and Influences Behavior (Sex Dr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izes” the Brain (Promotes Aggress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Hormo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 (Estro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reproductive cycles w/Progester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ens Skin and feminize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fetal growth and phys. changes during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 (Testoster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growth of facial &amp; chest hair &amp; growth  of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mass and density of muscles &amp; b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s BMR, &amp; Masculinize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ffects common to both sex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ex Hormones…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Maturation and Growth of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growth of Pubic and Axillar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6:56Z</dcterms:created>
  <dc:creator>John Bojnowski</dc:creator>
  <dc:description/>
  <dc:language>en-US</dc:language>
  <cp:lastModifiedBy>LEGION2</cp:lastModifiedBy>
  <dcterms:modified xsi:type="dcterms:W3CDTF">2016-01-14T10:06:26Z</dcterms:modified>
  <cp:revision>6</cp:revision>
  <dc:subject/>
  <dc:title>Gametes… of the sexes</dc:title>
</cp:coreProperties>
</file>