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7894-208E-463F-8DE4-2E3AF9EF8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D0B-1E09-45B3-A786-E82C0063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ACF-A5F5-48F7-9A01-78BB38F2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4E7-5636-4E62-9E06-13145A10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386D-6A07-455B-A545-E1ECBA63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DCB6-6130-4A72-BF23-C9AB575C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BF8D-242D-4AE1-A1A2-80D21244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833B-FC90-48C2-A841-ED78F37E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CE81-974E-4EB8-A4F8-83836573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D20C-F667-4D4A-A365-47BA72E1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164D-546A-44D8-9450-837769DD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E05C-152D-42BA-BC00-61FDA912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5C0-052A-4B11-B24A-764B8103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FBF7-BB64-4D5C-8AD9-C5EDE25D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7C01-57B0-4D08-859F-32B02206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138E-A602-40E2-A975-DA9E7A29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A417-1B00-4252-885E-8F3D4712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16E2-7F94-4278-9117-6D4E9E6C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2429A-0156-4FBC-92F5-C4254D9C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F4AD-4B29-40C1-853C-541AF79A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F605-D29E-4538-ACEF-66F8A661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4B10C-F0B2-44A3-AA77-6B04C487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AC8CC-457A-425D-938B-ABE1AF92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9D14-A9F7-4224-999A-BE05D32B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FE668-9CEE-4689-B20F-2AF81249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291B3-32A3-42EE-B15C-3BD6A3D0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30DAD-0292-474A-85D2-36E7F64F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2DD79-B90C-432A-8A5C-681DA093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E3BF0-4BAD-41FE-8BF7-E0EE1777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F05B-0847-4DE6-9C04-2617C458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A5786-64EF-4CE3-A243-3FA7B21C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31F1E-F84A-404D-91FC-73CACD5E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A4C0E-D8C0-4130-9587-3627745B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AA31E-26C7-4681-976A-1B734055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4E7-E0C2-4EE3-A9BF-34230DEF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8FE55-18EA-4BFA-85E6-187BAFC6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5C0D0-2232-4B62-945C-D38CEBBC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B3B3-4E4F-40F8-A4A6-9708415C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10255-59A5-42E2-BC77-0F88D020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A3DCB-A791-4200-9113-77B0C142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63126-680E-4F08-B405-C4A2D975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7880-6530-445C-A9EE-ACDAAADD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3AC72-4C46-469C-9876-5E6FE3F9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CF46B-61A9-463B-8E2C-CF27953D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5A3-4F85-43EA-8864-E49C7286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ACD-F449-4F62-9C69-E136A25B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A17-928F-425E-9CB1-FCB96ED0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7A7-29BC-4867-8E42-6543990C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D57-E459-4F4F-A297-5F1BBBFA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C87E-50B7-4E39-BE4B-4A1B72033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EEDC-4ACC-4491-ACF8-439973355A3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B72C-DD29-4821-9382-33D114169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C290-6312-4E92-9F3E-D279BFDC637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ametes… of the s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gs Develop in the O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rm is produced in the male scro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wo Types of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371600" y="2362320"/>
            <a:ext cx="2133720" cy="7617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5791320" y="2362320"/>
            <a:ext cx="2133360" cy="6858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3048120" y="3124080"/>
            <a:ext cx="91440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7467480" y="2971800"/>
            <a:ext cx="83844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781680" y="33526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514600" y="3429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895480" y="4648320"/>
            <a:ext cx="198144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934320" y="4648320"/>
            <a:ext cx="198108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34160" y="484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6171840" y="548640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 flipH="1">
            <a:off x="2057400" y="5410080"/>
            <a:ext cx="838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257800" y="5867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838080" y="5791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609480" y="57913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V="1">
            <a:off x="5486400" y="2971440"/>
            <a:ext cx="533520" cy="29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 flipV="1">
            <a:off x="762120" y="3047760"/>
            <a:ext cx="83808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5105520" y="327672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111"/>
                </a:solidFill>
                <a:latin typeface="Arial"/>
              </a:rPr>
              <a:t>Inhibits (stops) further release of the original 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80880" y="320040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motes or encourages more of the original substance to be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ree Primary Hormones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f Sexu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e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sto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267080" y="1600200"/>
          <a:ext cx="4100760" cy="36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00200"/>
                    <a:ext cx="41007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Fe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uberty, triggers lengthening of long bones, and changes in pelv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puberty stimulates the growth of axillary, pubic, facial and chest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argement of Larynx (deepening vo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ens Skin and Increases Oi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s Growth and Density of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Muscles in Size and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sts the Basal Metabolic Rate and Influences Behavior (Sex Dr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culinizes” the Brain (Promotes Aggress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of Hormon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 (Estrog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s reproductive cycles w/Progester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istens Skin and feminize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fetal growth and phys. changes during pregna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 (Testoster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growth of facial &amp; chest hair &amp; growth  of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mass and density of muscles &amp; b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sts BMR, &amp; Masculinize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ffects common to both sex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ex Hormones…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Maturation and Growth of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growth of Pubic and Axillary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8:56:56Z</dcterms:created>
  <dc:creator>John Bojnowski</dc:creator>
  <dc:description/>
  <dc:language>en-US</dc:language>
  <cp:lastModifiedBy>LEGION2</cp:lastModifiedBy>
  <dcterms:modified xsi:type="dcterms:W3CDTF">2016-01-14T10:06:26Z</dcterms:modified>
  <cp:revision>6</cp:revision>
  <dc:subject/>
  <dc:title>Gametes… of the sexes</dc:title>
</cp:coreProperties>
</file>