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5039-5585-4955-9683-7112962E8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HIV spread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dily Flu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men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aginal secre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reast milk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ly Fl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ginal secre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intercour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ral sex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al sex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inter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l s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to Blood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haring needles or syring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ttooing - Pierc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ccidental needle stick in a medical set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o Blood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needles or sy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ing - Pie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idental needle stick in a medical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idental Cas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 to baby during pregnancy and deliver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’s milk to bab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uring Dental Procedur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al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to baby during pregnancy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’s milk to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Dental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following body fluids are NOT infectiou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aliv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ar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we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ec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rin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body fluids are NOT infect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true signs of having HIV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ne may experience flu – like symptoms of chills, fever, night sweats, rashes, etc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me will have no signs or symptom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true signs of having H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ill have no signs o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HIV Work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gets into the bloodstrea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targets white blood cells (T4 cells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 slowly destroys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rces T4 cells to make copies of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ventually the cell di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ves on to other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n be up to 10 years before person shows sig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IV Wor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gets into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targets white blood cells (T4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lowly destroys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T4 cells to make copie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the cell 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on to other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p to 10 years before person shows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hases of HIV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n with no signs or symptoms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– does not mean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– T4 cells are less than 200 cells per microliter of blood or serious conditions from long-term, damage to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pportunistic Infection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n with no signs or sympto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– does not mean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ic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s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LISA – blood test that identifies whether a person has antibodies for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stern Blot Test – done to confirm the results of the Elisa test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ubation Window – it can take 6 wks to 6 mths for anti. to form after exposure to HIV. This test should be done at least 6 wks after a person is or thinks they are infecte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 – blood test that identifies whether a person has antibodies for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Blot Test – done to confirm the results of the Elisa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 - A disease caused by an agent that can pass from one living thing to anoth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mmunicable disease – an infectious disease that is passed from one person to another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ble disease – an infectious disease that is passed from one person to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 – Acquired: a condition one must acquire or get infected with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e: it affects the body’s immune system, the part of the body which usually works to fight off germs such as bacteria and viruse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 – Deficiency: makes it not work properl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 – Syndrome: a group of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Acquired: a condition one must acquire or get infected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– Deficiency: makes it not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– Syndrome: a group of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of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common signs or symptoms for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ople may experience opportunistic infections – when the immune system is weakened and can attack the body.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X.- pneumon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of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common signs or symptoms for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-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is not spread by: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sual contact – dry mouth kissing, hugging, being sneezed on or coughed 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quito bit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is not sprea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ual contact – dry mouth kissing, hugging, being sneezed on or coughed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bstinence -  100%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ave Safe Sex - Practice Monogamy –  (when two people have intercourse with only each other for their entire lives)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use dirty needl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este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inence - 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afe Sex - Practice Monogamy –  (when two people have intercourse with only each other for their entire liv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dirty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Now that we have covered HIV and AIDS, 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the difference in them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re they the same thing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y do these two things always get linked together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s one more dangerous then the other?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we have covered HIV and AI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in them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y the same thing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se two things always get linked together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more dangerous then the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acts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an STD?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 - is serious, sometimes painful, and can cause a lot of serious damage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STD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 - is serious, sometimes painful, and can cause a lot of serious dam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STD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 is spread during close, sexual activity.  It is spread during vaginal, anal and oral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and Hepatitis are also spread by contact with infected bloo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T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and Hepatitis are also spread by contact with infec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t STD germs need to live in warm, moist areas.  That’s why they infect the mouth, rectum and sex orga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do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ou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hope the STD will go away.  It won’t!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hope the STD will go away.  It won’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causes Inf.Di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acteria - a type of microorganism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rep throat, food poisoning, urinary tract infectio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es – a type of agent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ld, flu, cold sores, measles, mon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Inf.D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- a type of microorganism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p throat, food poisoning, urinary tract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– a type of agent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, flu, cold sores, measles, mo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n unusual discharge or smell from your vagin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in your pelvic area – the area   between your belly button and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or itching around your vagin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n unusual discharge or smell from your vag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in your pelvic area – the area   between your belly button and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or itching around your va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leeding from your vagina that is not your regular perio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deep inside your vagina when you have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leeding from your vagina that is not your regular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deep inside your vagina when you have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 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 drip or discharge from the penis, sores, bumps, or rednes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 drip or discharge from the penis, sores, bumps, or red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th 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Sores, bumps or blisters near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and pain when you urinate or have a bowel movemen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Need to urinate oft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ores, bumps or blisters near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and pain when you urinate or have a bowel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ed to urinate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 ……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Itching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a swelling or redness in your thro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Flu-like feelings with fever, chills and ach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Itching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a swelling or redness in your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Flu-like feelings with fever, chills and 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…..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swelling in your groin, the area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..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welling in your groin, the area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lk to your partn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Look closely at your partner – signs of ST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se a latex cond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your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your partner – signs of S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latex co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Know the signs and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reated - don’t have sex until your treatment is complete. Your partner needs to be treated to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e 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reated - don’t have sex until your treatment is complete. Your partner needs to be treated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are they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act with contaminated object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rson to pers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imals that spread disease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od and wat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with contaminate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to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spread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efens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ki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arfare on germs (sweat and oils produce acids that kill bacterial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ucus membrane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omach ac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elpful microorganis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lamma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ens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warfare on germs (sweat and oils produce acids that kill bacter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membra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ful micro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m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ap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-cells – cells that regulate the action of 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odies – substances that stick to the surface of pathogens slowing their acti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-cells – cells in the immune system that produce antibodi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cells – cells that regulate the action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cells – cells in the immune system that produce antibodi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mmunization – injection of a small amount of a pathogen that will provide protection against an infectious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iotics – drugs that kill or limit the growth of bacter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drugs that kill or limit the growth of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 – Human: virus can only infect hum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o-deficiency: the effect of the virus is to create a deficiency, a failure to work properly with the body’s immune system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 – Virus: one of its characteristics is that it is incapable reproducing by itself.  It reproduces by taking over the machinery of the human cell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Human: virus can only infect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o-deficiency: the effect of the virus is to create a deficiency, a failure to work properly with the body’s immun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– Virus: one of its characteristics is that it is incapable reproducing by itself.  It reproduces by taking over the machinery of the huma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876-83B7-4E36-A8A9-5BA00ACE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979-D4B6-4F1E-B1CD-424B84E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72F-3753-42EB-A2D0-02606BCC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7EF-2955-42B3-A000-4667FC02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4193-D49E-4125-A55A-6499931B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9D05-6310-4AFB-9677-A13D71BB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EB51-8CCB-4A64-9AA3-61EDB916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F34B-2D77-47F6-844A-F3E77103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D651-E17F-4C1C-8BF6-BF31CF57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BB61-8630-4AF9-ADFF-BFAE164A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8024-3115-45DE-B13F-051A2582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2DC-7A5F-4344-AA4E-AF528ACB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453B-C82E-4116-87A9-3BE89981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69AB-DF29-4891-AD2B-8F846019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13E7-1E6F-4FA2-8E3A-0C45E475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258A-9743-448F-B437-87C08C9D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4FE3-B4F7-4DD3-A211-D25C5FF3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1FC-6D0F-4D4A-B30B-1DCDEC44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E00-919C-4C4F-911E-3C4043B2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EFE-CCE9-4E4E-9E6F-67CEEC67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E19-7868-495B-9801-64D5525A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730-CE2E-444A-B551-0869C4DC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2F7-DFA5-4708-86A2-D197840A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B59-BBDF-443F-85FF-1FCAF3F0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7174-844A-4662-9D5E-1E028186FC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AEA9-7A9D-43CE-A04B-6973B5E8E5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is HIV spread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dily Flu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loo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me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ginal secre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exual Contac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xual intercour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ral sex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al se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lood Cont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aring needles or syring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ttooing - Pierc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ccidental needle stick in a medical set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ncidental Cas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 to baby during pregnancy and delive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’s milk to bab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uring Dental Proced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following body fluids ar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ectio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liv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e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igns and symptoms HI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no true signs of having HIV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will have no signs or sympto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HIV Work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gets into the bloodstr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targets white blood cells (T4 cell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rus slowly destroys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ces T4 cells to make copies of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ually the cell 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ves on to other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be up to 10 years before person shows sig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ases of HIV inf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ection with no signs or symptom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– does not mean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ns and sympto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portunistic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SA – blood test that identifies whether a person has antibodies for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lot Test – done to confirm the results of the Elisa te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AID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ble disease – an infectious disease that is passed from one person to anoth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– Acquired: a condition one must acquire or get infected wi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 – Deficiency: makes it not work proper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– Syndrome: a group of symp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s and symptoms of A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no common signs or symptoms for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.- pneumon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IDS is not spread by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sual contact – dry mouth kissing, hugging, being sneezed on or coughed o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squito bi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Abstinence -  100%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Safe Sex - Practice Monogamy –  (when two people have intercourse with only each other for their entire l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use dirty need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t tes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Now that we have covered HIV and AIDS, 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at is the difference in them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Are they the same thing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y do these two things always get linked together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Is one more dangerous then the other?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STD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acts</a:t>
            </a:r>
            <a:br>
              <a:rPr sz="4000"/>
            </a:b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x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mitted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an STD?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xually Transmitted Disease - is serious, sometimes painful, and can cause a lot of serious damage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STD Spre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and Hepatitis are also spread by contact with infected bl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84836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hat to d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et checked ou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on’t hope the STD will go away.  It won’t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uses Inf.D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ria - a type of microorganism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p throat, food poisoning, urinary tract infec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ruses – a type of agent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, flu, cold sores, measles, mo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unusual discharge or smell from your vag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in your pelvic area – the area   between your belly button and sex org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ning or itching around your vagi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leeding from your vagina that is not your regular perio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 Pain deep inside your vagina when you hav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ex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a drip or discharge from the penis, sores, bumps, or redne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th men and wo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Sores, bumps or blisters near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burning and pain when you urinate or have a bowel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Need to urinate of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Itching around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a swelling or redness in your thr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Flu-like feelings with fever, chills and 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…..men and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swelling in your groin, the area around your sex orga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lk to your part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ok closely at your partner – signs of ST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 a latex cond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t check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tect yourse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now the signs and sympto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t treated 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’t have sex until your treatment is complete. Your partner needs to be treated to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y sp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 with contaminated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 to per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that spread disea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 and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enses against inf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mical warfare on germs (sweat and oils produce acids that kill bacteria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cus membra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mach ac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lpful micro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amm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-cells – cells that regulate the action of the immune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-cells – cells in the immune system that produce antibodies against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biotics – drugs that kill or limit the growth of bacter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uma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virus can only infect huma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mmuno-deficiency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the effect of the virus is to create a deficiency, a failure to work properly with the body’s immune system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iru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one of its characteristics is that it is incapable reproducing by itself.  It reproduces by taking over the machinery of the human cel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6:42:26Z</dcterms:created>
  <dc:creator>workshop</dc:creator>
  <dc:description/>
  <dc:language>en-US</dc:language>
  <cp:lastModifiedBy>LEGION2</cp:lastModifiedBy>
  <dcterms:modified xsi:type="dcterms:W3CDTF">2016-01-14T10:13:31Z</dcterms:modified>
  <cp:revision>37</cp:revision>
  <dc:subject/>
  <dc:title>STD Facts</dc:title>
</cp:coreProperties>
</file>