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4886-6C34-461F-993C-7561436F1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nfectious Diseases</a:t>
            </a:r>
            <a:br>
              <a:rPr sz="1200"/>
            </a:br>
            <a:br>
              <a:rPr sz="1200"/>
            </a:br>
            <a:br>
              <a:rPr sz="1200"/>
            </a:b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ectious Diseases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ow is HIV spread</a:t>
            </a:r>
            <a:br>
              <a:rPr sz="1200"/>
            </a:b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Bodily Fluid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Blood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emen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Vaginal secretio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Breast milk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HIV sprea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ily Flu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ginal secre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exual Contact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exual intercourse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Oral sex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nal sex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interco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al se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Blood to Blood Contact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haring needles or syring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attooing - Piercing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ccidental needle stick in a medical setting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to Blood 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 needles or syri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ttooing - Pier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idental needle stick in a medical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ncidental Cas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Mother to baby during pregnancy and delivery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Mother’s milk to baby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During Dental Procedur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idental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 to baby during pregnancy and deli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’s milk to 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Dental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he following body fluids are NOT infectiou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aliva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ear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weat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Fec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Urine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body fluids are NOT infect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igns and symptoms HIV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here are no true signs of having HIV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One may experience flu – like symptoms of chills, fever, night sweats, rashes, etc. 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ome will have no signs or symptoms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nd symptoms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o true signs of having HI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may experience flu – like symptoms of chills, fever, night sweats, rashes, etc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will have no signs or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ow HIV Works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IV gets into the bloodstrea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IV targets white blood cells (T4 cells)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Virus slowly destroys T4 cell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Forces T4 cells to make copies of HIV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Eventually the cell di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Moves on to other T4 cell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an be up to 10 years before person shows sig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IV Wor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gets into the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targets white blood cells (T4 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 slowly destroys T4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 T4 cells to make copies of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 the cell 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s on to other T4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up to 10 years before person shows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Phases of HIV infectio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nfection with no signs or symptoms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IV – does not mean AID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igns and symptoms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IDS – T4 cells are less than 200 cells per microliter of blood or serious conditions from long-term, damage to immune syste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Opportunistic Infections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 of HIV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n with no signs or sympto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– does not mean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nd sympto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S – T4 cells are less than 200 cells per microliter of blood or serious conditions from long-term, damage to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stic Infe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esting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ELISA – blood test that identifies whether a person has antibodies for HIV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estern Blot Test – done to confirm the results of the Elisa test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ncubation Window – it can take 6 wks to 6 mths for anti. to form after exposure to HIV. This test should be done at least 6 wks after a person is or thinks they are infected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SA – blood test that identifies whether a person has antibodies for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ern Blot Test – done to confirm the results of the Elisa 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ubation Window – it can take 6 wks to 6 mths for anti. to form after exposure to HIV. This test should be done at least 6 wks after a person is or thinks they are inf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ID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nfectious Diseases - A disease caused by an agent that can pass from one living thing to another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ommunicable disease – an infectious disease that is passed from one person to another. 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us Diseases - A disease caused by an agent that can pass from one living thing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ble disease – an infectious disease that is passed from one person to anothe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 – Acquired: a condition one must acquire or get infected with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 – Immune: it affects the body’s immune system, the part of the body which usually works to fight off germs such as bacteria and viruses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D – Deficiency: makes it not work properly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 – Syndrome: a group of symptom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– Acquired: a condition one must acquire or get infected wi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– Immune: it affects the body’s immune system, the part of the body which usually works to fight off germs such as bacteria and vir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– Deficiency: makes it not work prope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– Syndrome: a group of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igns and symptoms of AID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here are no common signs or symptoms for AID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People may experience opportunistic infections – when the immune system is weakened and can attack the body.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EX.- pneumonia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nd symptoms of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o common signs or symptoms for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may experience opportunistic infections – when the immune system is weakened and can attack the bod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- pneu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IDS is not spread by: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asual contact – dry mouth kissing, hugging, being sneezed on or coughed on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Mosquito bit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S is not sprea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ual contact – dry mouth kissing, hugging, being sneezed on or coughed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quito b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ow to Protect yourself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bstinence -  100%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ave Safe Sex - Practice Monogamy –  (when two people have intercourse with only each other for their entire lives)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Don’t use dirty needl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Get tested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Protect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inence - 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afe Sex - Practice Monogamy –  (when two people have intercourse with only each other for their entire liv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use dirty nee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e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Now that we have covered HIV and AIDS, </a:t>
            </a:r>
            <a:br>
              <a:rPr sz="1200"/>
            </a:b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hat is the difference in them?</a:t>
            </a:r>
            <a:br>
              <a:rPr sz="1200"/>
            </a:b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re they the same thing?</a:t>
            </a:r>
            <a:br>
              <a:rPr sz="1200"/>
            </a:b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hy do these two things always get linked together?</a:t>
            </a:r>
            <a:br>
              <a:rPr sz="1200"/>
            </a:b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s one more dangerous then the other?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hat we have covered HIV and AID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difference in them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y the same thing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these two things always get linked together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e more dangerous then the oth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TD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Facts</a:t>
            </a:r>
            <a:br>
              <a:rPr sz="1200"/>
            </a:b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exually Transmitted Disease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ly Transmitted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hat is an STD?</a:t>
            </a:r>
            <a:br>
              <a:rPr sz="1200"/>
            </a:b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exually Transmitted Disease - is serious, sometimes painful, and can cause a lot of serious damage. 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STD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ly Transmitted Disease - is serious, sometimes painful, and can cause a lot of serious damag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ow is STD Spread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TD is spread during close, sexual activity.  It is spread during vaginal, anal and oral sex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IV and Hepatitis are also spread by contact with infected blood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STD Sp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D is spread during close, sexual activity.  It is spread during vaginal, anal and oral se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and Hepatitis are also spread by contact with infec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Most STD germs need to live in warm, moist areas.  That’s why they infect the mouth, rectum and sex organs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TD germs need to live in warm, moist areas.  That’s why they infect the mouth, rectum and sex org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hat to do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Get checked out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Don’t hope the STD will go away.  It won’t!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checked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hope the STD will go away.  It won’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hat causes Inf.Dis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Bacteria - a type of microorganism that can cause disease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trep throat, food poisoning, urinary tract infections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Viruses – a type of agent that can cause disease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old, flu, cold sores, measles, mono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Inf.D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- a type of microorganism that can cause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p throat, food poisoning, urinary tract inf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– a type of agent that can cause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, flu, cold sores, measles, mo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hat to watch for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ome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an unusual discharge or smell from your vagina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pain in your pelvic area – the area   between your belly button and sex orga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burning or itching around your vagina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watch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n unusual discharge or smell from your vagi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pain in your pelvic area – the area   between your belly button and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urning or itching around your vag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Bleeding from your vagina that is not your regular period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Pain deep inside your vagina when you have sex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leeding from your vagina that is not your regular peri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Pain deep inside your vagina when you have se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hat to watch for </a:t>
            </a:r>
            <a:br>
              <a:rPr sz="1200"/>
            </a:b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Me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a drip or discharge from the penis, sores, bumps, or redness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watch for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 drip or discharge from the penis, sores, bumps, or red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Both men and wome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 Sores, bumps or blisters near your sex orga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burning and pain when you urinate or have a bowel movement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Need to urinate ofte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men and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Sores, bumps or blisters near your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urning and pain when you urinate or have a bowel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Need to urinate of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ontinued ……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 Itching around your sex orga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 a swelling or redness in your throat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 Flu-like feelings with fever, chills and ach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d 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Itching around your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a swelling or redness in your thr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Flu-like feelings with fever, chills and a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ontinued…..men and wome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swelling in your groin, the area around your sex orga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d…..men and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welling in your groin, the area around your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ow to protect yourself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alk to your partner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Look closely at your partner – signs of STD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Use a latex cond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Get checked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protect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your part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losely at your partner – signs of ST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 latex con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check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Protect yourself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Know the signs and symptom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Get treated - don’t have sex until your treatment is complete. Your partner needs to be treated too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the signs and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reated - don’t have sex until your treatment is complete. Your partner needs to be treated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ow are they spread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ir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ontact with contaminated object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Person to perso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nimals that spread disease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Food and water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they sp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with contaminate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to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 that spread dis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Defenses against infectio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ki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hemical warfare on germs (sweat and oils produce acids that kill bacterial)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Mucus membranes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tomach acid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elpful microorganism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nflammatio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he immune syste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fenses against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warfare on germs (sweat and oils produce acids that kill bacteri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cus membra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mach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pful micro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lam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eapo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-cells – cells that regulate the action of the immune syste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ntibodies – substances that stick to the surface of pathogens slowing their action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B-cells – cells in the immune system that produce antibodies against infectio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-cells – cells that regulate the action of the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– substances that stick to the surface of pathogens slowing their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-cells – cells in the immune system that produce antibodies against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mmunization – injection of a small amount of a pathogen that will provide protection against an infectious disease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ntibiotics – drugs that kill or limit the growth of bacteria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zation – injection of a small amount of a pathogen that will provide protection against an infectious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s – drugs that kill or limit the growth of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IV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 – Human: virus can only infect huma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 – Immuno-deficiency: the effect of the virus is to create a deficiency, a failure to work properly with the body’s immune system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V – Virus: one of its characteristics is that it is incapable reproducing by itself.  It reproduces by taking over the machinery of the human cell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– Human: virus can only infect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– Immuno-deficiency: the effect of the virus is to create a deficiency, a failure to work properly with the body’s immune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– Virus: one of its characteristics is that it is incapable reproducing by itself.  It reproduces by taking over the machinery of the human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E9A5-F8FF-4EB8-8185-269BF8806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B0CE-1628-4D5B-A00D-D5495259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49BB-2362-4211-A74A-D607E911D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C5D3-5CF9-4379-AE5F-57A31BCC1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4AF8-56FD-4B02-9A84-CE88FA2E7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3523-1B0F-49F1-ACD2-E1A7B401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B6B4-55CB-4206-B40C-32532D2B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F382-9BEB-446F-97CB-6CE8ADD9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D6E3-A820-4D5D-B61B-12A1D09B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D05E-8C8C-449E-9CE7-9142B1FB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2F8C-1223-4BC0-96E2-E7974A59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D4D0-7377-471C-8872-98B6A2A9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7406-DCC0-40E4-BB21-48FB7943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7BD2-4F52-4277-BDF3-24E9D094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5555-42FE-4EA9-8DF4-E11C8B42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5B00-5E15-42DE-8CD9-8E2C67278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B3DE-25EA-45CA-9D40-A42686D5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B3BE-C658-4C5B-A427-1E4845CD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8D5F-3574-45BA-8C5C-67D6993D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1CAA-AB34-41AC-8176-AFA43D48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DFBD-18BA-42C1-AA64-22F4AED9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C641-D000-46BD-BFFF-902F0C43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6B23-B1C4-4828-B495-3F8F3F94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6DCB-4E1E-4B15-B32F-91A103DE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9B08-1924-4B12-BEDA-477BBA65CC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B737-5C04-436D-8BA6-97014C4112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Infectious Diseases</a:t>
            </a: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How is HIV spread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Bodily Fluid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1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Blood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1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emen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1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aginal secretion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1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Breast milk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Sexual Contact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exual intercours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ral sex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nal sex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Bloo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o Blood Contac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haring needles or syring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attooing - Pierc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ccidental needle stick in a medical sett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Incidental Case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other to baby during pregnancy and deliver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other’s milk to bab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uring Dental Procedur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following body fluids ar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fectiou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aliv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ear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we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Fec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igns and symptoms HIV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re are no true signs of having HIV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e may experience flu – like symptoms of chills, fever, night sweats, rashes, etc.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me will have no signs or symptom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How HIV Work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V gets into the bloodstre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V targets white blood cells (T4 cell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irus slowly destroys T4 ce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ces T4 cells to make copies of HIV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ntually the cell d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ves on to other T4 ce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 be up to 10 years before person shows sig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hases of HIV infec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fection with no signs or symptom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V – does not mean AI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gns and symptom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IDS – T4 cells are less than 200 cells per microliter of blood or serious conditions from long-term, damage to immune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pportunistic Infection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Testing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ISA – blood test that identifies whether a person has antibodies for HIV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stern Blot Test – done to confirm the results of the Elisa tes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cubation Window – it can take 6 wks to 6 mths for anti. to form after exposure to HIV. This test should be done at least 6 wks after a person is or thinks they are infecte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AIDS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533520"/>
            <a:ext cx="8229600" cy="60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Diseases - A disease caused by an agent that can pass from one living thing to anoth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unicable disease – an infectious disease that is passed from one person to anothe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– Acquired: a condition one must acquire or get infected wit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 – Immune: it affects the body’s immune system, the part of the body which usually works to fight off germs such as bacteria and virus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 – Deficiency: makes it not work proper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 – Syndrome: a group of sympto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gns and symptoms of A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no common signs or symptoms for AI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ople may experience opportunistic infections – when the immune system is weakened and can attack the bod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.- pneumoni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IDS is not spread by: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asual contact – dry mouth kissing, hugging, being sneezed on or coughed on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osquito bit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to Protect yoursel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Arial"/>
              </a:rPr>
              <a:t>Abstinence -  100%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ve Safe Sex - Practice Monogamy –  (when two people have intercourse with only each other for their entire liv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n’t use dirty need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t test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Arial"/>
              </a:rPr>
              <a:t>Now that we have covered HIV and AIDS, </a:t>
            </a:r>
            <a:br>
              <a:rPr sz="5200"/>
            </a:br>
            <a:r>
              <a:rPr b="0" lang="en-US" sz="5200" spc="-1" strike="noStrike">
                <a:solidFill>
                  <a:srgbClr val="ffffff"/>
                </a:solidFill>
                <a:latin typeface="Arial"/>
              </a:rPr>
              <a:t>What is the difference in them?</a:t>
            </a:r>
            <a:br>
              <a:rPr sz="5200"/>
            </a:br>
            <a:r>
              <a:rPr b="0" lang="en-US" sz="5200" spc="-1" strike="noStrike">
                <a:solidFill>
                  <a:srgbClr val="ffffff"/>
                </a:solidFill>
                <a:latin typeface="Arial"/>
              </a:rPr>
              <a:t>Are they the same thing?</a:t>
            </a:r>
            <a:br>
              <a:rPr sz="5200"/>
            </a:br>
            <a:r>
              <a:rPr b="0" lang="en-US" sz="5200" spc="-1" strike="noStrike">
                <a:solidFill>
                  <a:srgbClr val="ffffff"/>
                </a:solidFill>
                <a:latin typeface="Arial"/>
              </a:rPr>
              <a:t>Why do these two things always get linked together?</a:t>
            </a:r>
            <a:br>
              <a:rPr sz="5200"/>
            </a:br>
            <a:r>
              <a:rPr b="0" lang="en-US" sz="5200" spc="-1" strike="noStrike">
                <a:solidFill>
                  <a:srgbClr val="ffffff"/>
                </a:solidFill>
                <a:latin typeface="Arial"/>
              </a:rPr>
              <a:t>Is one more dangerous then the other?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STD</a:t>
            </a: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Facts</a:t>
            </a:r>
            <a:br>
              <a:rPr sz="4000"/>
            </a:b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exual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mitted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at is an STD?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xually Transmitted Disease - is serious, sometimes painful, and can cause a lot of serious damage.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How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s STD Sprea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D is spread during close, sexual activity.  It is spread during vaginal, anal and oral sex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V and Hepatitis are also spread by contact with infected blo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761760" y="685800"/>
            <a:ext cx="7848360" cy="53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Most STD germs need to live in warm, moist areas.  That’s why they infect the mouth, rectum and sex organs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What to do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Get checked ou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Don’t hope the STD will go away.  It won’t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auses Inf.Di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teria - a type of microorganism that can cause disea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ep throat, food poisoning, urinary tract infectio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ruses – a type of agent that can cause disea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ld, flu, cold sores, measles, mon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to watch fo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om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unusual discharge or smell from your vag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in in your pelvic area – the area   between your belly button and sex orga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rning or itching around your vagin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leeding from your vagina that is not your regular period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* Pain deep inside your vagina when you hav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sex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at to watch fo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M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* a drip or discharge from the penis, sores, bumps, or redness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Both men and wom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*  Sores, bumps or blisters near your sex orga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* burning and pain when you urinate or have a bowel mov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*Need to urinate oft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inued …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*  Itching around your sex orga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*  a swelling or redness in your thro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*  Flu-like feelings with fever, chills and a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inued…..men and w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* swelling in your groin, the area around your sex organ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How to protect yourself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alk to your partn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ook closely at your partner – signs of ST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Use a latex cond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et checked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rotect yourself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Know the signs and symptom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et treated -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n’t have sex until your treatment is complete. Your partner needs to be treated too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y sp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ct with contaminated ob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son to pers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imals that spread diseas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od and wa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fenses against inf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k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emical warfare on germs (sweat and oils produce acids that kill bacterial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ucus membran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omach aci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lpful microorganis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flamm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immune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ap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-cells – cells that regulate the action of the immune sys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ibodies – substances that stick to the surface of pathogens slowing their ac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-cells – cells in the immune system that produce antibodies against infe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76960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munization – injection of a small amount of a pathogen that will provide protection against an infectious diseas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tibiotics – drugs that kill or limit the growth of bacteri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HIV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Human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: virus can only infect huma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Immuno-deficiency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: the effect of the virus is to create a deficiency, a failure to work properly with the body’s immune system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Virus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: one of its characteristics is that it is incapable reproducing by itself.  It reproduces by taking over the machinery of the human cel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1T16:42:26Z</dcterms:created>
  <dc:creator>workshop</dc:creator>
  <dc:description/>
  <dc:language>en-US</dc:language>
  <cp:lastModifiedBy>LEGION2</cp:lastModifiedBy>
  <dcterms:modified xsi:type="dcterms:W3CDTF">2016-01-14T10:13:31Z</dcterms:modified>
  <cp:revision>37</cp:revision>
  <dc:subject/>
  <dc:title>STD Facts</dc:title>
</cp:coreProperties>
</file>