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3088-AC9B-42C6-88FC-7FD024A7F2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F1B-8CB0-47C2-A7FF-5EFC80EE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DD2-39F3-486A-9362-70FD539C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963-E9EE-4189-A54F-FEAAF285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E8D-B42F-4C78-BBB5-ABE88B91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76E-4571-4B50-AAB2-35BEF635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0AF-163E-4B9A-88E8-B0E40537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538-9105-4D9D-8B85-EFF9BC0B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58B-F063-4645-B0CA-D68559C0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829-7617-4957-88A3-C51AD613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D3B-D2B4-4500-B1C5-DA0691A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76F-597E-4D66-8362-33190C5E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0E1-E527-423A-BC30-49E1B4BD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48E5-D884-45CA-A19D-BD60588362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ifecyc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 cartoon.  A man wearing a hat which is labeled “The Public” holds a handkerchief.  He says “Use the Handkerchief and Do Your Bit to Protect Me!”  A young boy listens.  At the bottom of the image, a caption reads “Colds, Influenza, Pneumonia and Tuberculosis are spread this way.”"/>
          <p:cNvPicPr/>
          <p:nvPr/>
        </p:nvPicPr>
        <p:blipFill>
          <a:blip r:embed="rId1"/>
          <a:stretch/>
        </p:blipFill>
        <p:spPr>
          <a:xfrm>
            <a:off x="4896000" y="155736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s are offered to people aged 65 or over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Currently this group has some immunity and are not being targe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en and women stand and sit in front of the Clarendon Store wearing masks. "/>
          <p:cNvPicPr/>
          <p:nvPr/>
        </p:nvPicPr>
        <p:blipFill>
          <a:blip r:embed="rId1"/>
          <a:stretch/>
        </p:blipFill>
        <p:spPr>
          <a:xfrm>
            <a:off x="4716360" y="2133720"/>
            <a:ext cx="3743280" cy="28558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nfluenza-virus-82101"/>
          <p:cNvPicPr/>
          <p:nvPr/>
        </p:nvPicPr>
        <p:blipFill>
          <a:blip r:embed="rId1"/>
          <a:stretch/>
        </p:blipFill>
        <p:spPr>
          <a:xfrm>
            <a:off x="4643280" y="2206800"/>
            <a:ext cx="4032360" cy="2990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34:50Z</dcterms:created>
  <dc:creator>idavies</dc:creator>
  <dc:description/>
  <dc:language>en-US</dc:language>
  <cp:lastModifiedBy>LEGION2</cp:lastModifiedBy>
  <dcterms:modified xsi:type="dcterms:W3CDTF">2016-01-14T10:15:57Z</dcterms:modified>
  <cp:revision>8</cp:revision>
  <dc:subject/>
  <dc:title>Influenza</dc:title>
</cp:coreProperties>
</file>