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01B9-CB99-4C3D-B080-05E5A529EA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are offered to people aged 65 or over (Note: Currently this group has some immunity and are not being targe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are offered to people aged 65 or over (Note: Currently this group has some immunity and are not being targe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430-E11D-43B3-BBF7-B42291AC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18F7-EF6A-48BD-B844-EBF6EB55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E79-DB89-4BE3-AB39-ECCCBC9F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A8A6-8CB8-47BD-A254-E3962117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19A-7D3D-4EBA-A28D-DEE6A254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C787-8300-4678-9470-21003734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B87-C7CF-4304-965F-2E448611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61C-45AF-4249-9620-E0413B50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16B4-3925-4BB5-8486-A045C29C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E3A-A460-4A15-AAA4-34FAAA11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590E-FF36-480E-B1A5-C943B2AC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C688-DA69-4252-8F8E-7BE51C99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C4BD-82B4-4360-A37B-01E8E10004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lifecyc"/>
          <p:cNvPicPr/>
          <p:nvPr/>
        </p:nvPicPr>
        <p:blipFill>
          <a:blip r:embed="rId1"/>
          <a:stretch/>
        </p:blipFill>
        <p:spPr>
          <a:xfrm>
            <a:off x="1692360" y="1484280"/>
            <a:ext cx="5715000" cy="51721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A cartoon.  A man wearing a hat which is labeled “The Public” holds a handkerchief.  He says “Use the Handkerchief and Do Your Bit to Protect Me!”  A young boy listens.  At the bottom of the image, a caption reads “Colds, Influenza, Pneumonia and Tuberculosis are spread this way.”"/>
          <p:cNvPicPr/>
          <p:nvPr/>
        </p:nvPicPr>
        <p:blipFill>
          <a:blip r:embed="rId1"/>
          <a:stretch/>
        </p:blipFill>
        <p:spPr>
          <a:xfrm>
            <a:off x="4896000" y="1557360"/>
            <a:ext cx="3808440" cy="4464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ccines are offered to people aged 65 or over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 Currently this group has some immunity and are not being target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en and women stand and sit in front of the Clarendon Store wearing masks. "/>
          <p:cNvPicPr/>
          <p:nvPr/>
        </p:nvPicPr>
        <p:blipFill>
          <a:blip r:embed="rId1"/>
          <a:stretch/>
        </p:blipFill>
        <p:spPr>
          <a:xfrm>
            <a:off x="4716360" y="2133720"/>
            <a:ext cx="3743280" cy="28558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influenza-virus-82101"/>
          <p:cNvPicPr/>
          <p:nvPr/>
        </p:nvPicPr>
        <p:blipFill>
          <a:blip r:embed="rId1"/>
          <a:stretch/>
        </p:blipFill>
        <p:spPr>
          <a:xfrm>
            <a:off x="4643280" y="2206800"/>
            <a:ext cx="4032360" cy="2990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8:34:50Z</dcterms:created>
  <dc:creator>idavies</dc:creator>
  <dc:description/>
  <dc:language>en-US</dc:language>
  <cp:lastModifiedBy>LEGION2</cp:lastModifiedBy>
  <dcterms:modified xsi:type="dcterms:W3CDTF">2016-01-14T10:15:57Z</dcterms:modified>
  <cp:revision>8</cp:revision>
  <dc:subject/>
  <dc:title>Influenza</dc:title>
</cp:coreProperties>
</file>