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D0D2-CFA2-4633-9143-16F7FA0C12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are offered to people aged 65 or over (Note: Currently this group has some immunity and are not being targe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F00-A95E-471D-B7D2-ADEC1D62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76F-086D-4083-8E03-3E9C3DCB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EE0-25C0-4630-BA11-09D0CA35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AFD-7A13-483D-9360-66490215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6AB-CE08-45F1-850B-A9B30F1B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5D7-334D-4035-A70E-F00D0FF3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34B-E505-463A-9079-2020DAB9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2A1-FD99-4958-9623-57D23703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912-2EDF-49C9-BBBC-9B38BC1E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9EE-356A-434F-BF52-7CB76392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1B5-C5F1-4FA5-9CE3-ADEA5AB6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E4B-356E-4793-BBC9-DB5D2C5E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D2A8-7DF7-414B-A6CE-C996EE39C8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uan Da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tigenic shift and antigenic dr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produce small changes in antigens are referred to as antigenic drift and these occur in the same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s which result in a major change and produce new strains are referred to as antigenic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fe cycle of the ‘flu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lifecyc"/>
          <p:cNvPicPr/>
          <p:nvPr/>
        </p:nvPicPr>
        <p:blipFill>
          <a:blip r:embed="rId1"/>
          <a:stretch/>
        </p:blipFill>
        <p:spPr>
          <a:xfrm>
            <a:off x="1692360" y="1484280"/>
            <a:ext cx="5715000" cy="5172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irus is spread by inhalation or by direct co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rvoirs of infection are primarily humans, but birds and pigs can act as reservo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ultiple host status makes for mixing of flu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education campaigns are used to reduce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lation of infected people is desirable but not alway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 cartoon.  A man wearing a hat which is labeled “The Public” holds a handkerchief.  He says “Use the Handkerchief and Do Your Bit to Protect Me!”  A young boy listens.  At the bottom of the image, a caption reads “Colds, Influenza, Pneumonia and Tuberculosis are spread this way.”"/>
          <p:cNvPicPr/>
          <p:nvPr/>
        </p:nvPicPr>
        <p:blipFill>
          <a:blip r:embed="rId1"/>
          <a:stretch/>
        </p:blipFill>
        <p:spPr>
          <a:xfrm>
            <a:off x="4896000" y="1557360"/>
            <a:ext cx="3808440" cy="4464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mu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s are offered to people aged 65 or over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Currently this group has some immunity and are not being targe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nically at risk groups – asthmatics, immuno-compromised patients, diabetics, people with chronic respiratory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lth care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ccine effectiveness varies between 40 –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(oseltamivir) – inhibits the neuraminidase and thus prevents the spread of the virus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iflu can therefore be used to reduce the length of illness and its transmission within a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istance of H1N1 strain to oseltamivir has been reported at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can be a bit of a swin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vention is better than c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contact with infected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how the population of Eyam avoided spreading the plag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yam - Plague Village - Derbys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is an acute, viral respiratory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ver, chills, headache, aches and pains throughout the body, sore throat which may lead to bronchitis or pneumo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miting and diarrhoea may also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deaths have been attributed to influ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ndemic is a world wide spread of infection occurring in many countries simult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approximately every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u pandemics occur because a new strain of the virus emerges for which people have no immunity and there are no vaccine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nde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flu viruses occur due to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tation occurs because different strains of influenza virus can exchange genes by infecting differen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ian influenza viruses can exchange genes with human influenza viruses creating hybrid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918 - 1919 pande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killed between 20 – 40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e masks were worn but provided little protection agains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en and women stand and sit in front of the Clarendon Store wearing masks. "/>
          <p:cNvPicPr/>
          <p:nvPr/>
        </p:nvPicPr>
        <p:blipFill>
          <a:blip r:embed="rId1"/>
          <a:stretch/>
        </p:blipFill>
        <p:spPr>
          <a:xfrm>
            <a:off x="4716360" y="2133720"/>
            <a:ext cx="3743280" cy="28558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use of influenza is the influenza vir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, B and C viruses are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luenza A viruses are associated with serious illness and pan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luenz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u virus is an RNA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genome codes for five viral proteins and is made of eight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virus has a lipid envelope with two glycoprotein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nfluenza-virus-82101"/>
          <p:cNvPicPr/>
          <p:nvPr/>
        </p:nvPicPr>
        <p:blipFill>
          <a:blip r:embed="rId1"/>
          <a:stretch/>
        </p:blipFill>
        <p:spPr>
          <a:xfrm>
            <a:off x="4643280" y="2206800"/>
            <a:ext cx="4032360" cy="2990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lu virus glyco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- this glycoprotein plays a part in infection and provides the “H” in the strai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emagglutinin attaches the virus  to cells and allows the viral envelope to fuse with the cell membrane and ent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– has a mushroom shape, its role is to allow the release of viruses to infect oth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N terminol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 refers to Haemagglutinin types and each is given a number H1, H2 e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raminidase is designated N and different forms are available as well e.g. H5N1 (avian) and H1N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combinations of H and N glycoproteins give rise to different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8:34:50Z</dcterms:created>
  <dc:creator>idavies</dc:creator>
  <dc:description/>
  <dc:language>en-US</dc:language>
  <cp:lastModifiedBy>LEGION2</cp:lastModifiedBy>
  <dcterms:modified xsi:type="dcterms:W3CDTF">2016-01-14T10:15:57Z</dcterms:modified>
  <cp:revision>8</cp:revision>
  <dc:subject/>
  <dc:title>Influenza</dc:title>
</cp:coreProperties>
</file>