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6E56-A99A-4868-A56D-24F7A841D8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4240B-DAB8-4113-8515-D62283AF7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AA3F0-11F3-4812-9470-792E70168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BDA7A-772F-4D99-BF97-11AF10403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742F3-8B25-42FA-B124-315999AA4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B597-6EA8-4C22-8821-BD2764436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697D-46A9-4B71-9E70-33616FF19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73F4F-8282-44DA-B32C-E8D7D7BCF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C9F9-6FC2-4E89-8CFE-7035BB69A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48007-89BD-4FA3-866B-15F605E06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0139D-F963-4461-AFB4-388857CA6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E163-1E9A-41A3-BE55-7C8A578A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BCF03-3EE5-48E8-8048-F42843EBB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3E4A-83A6-4902-994C-49EBC27026AA}" type="datetime2">
              <a:rPr b="0" lang="ur-PK" sz="1200" spc="-1" strike="noStrike">
                <a:solidFill>
                  <a:srgbClr val="ffffff"/>
                </a:solidFill>
                <a:latin typeface="Verdana"/>
                <a:cs typeface="Arial"/>
              </a:rPr>
              <a:t>جمعرات, 30,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120A-E667-48EB-9324-626C3B677104}"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1A52-41AA-474D-A7D6-EEDBE2549E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E1F1-7B08-421A-91D7-20801009DF52}"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B4DC-8EFD-4326-8165-E75BFFCE0DC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9F8F-6AE2-4CF1-B0B4-18A5FA1AA854}"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B3E5-2AE6-4AF5-BA58-7BC3571E5E4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91C9-3854-4812-A9E9-74778D5C0E1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E523-DAFE-46FA-B836-ACDD97454D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53C4-F776-489F-9D54-D575CF813E3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A9BE-D259-4B6D-8752-65A1EAC9572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0018-BE2C-40A4-AA4B-25448EB4748D}"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DF80-1B31-4421-B457-F37CC11D2FB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EB39-7371-4D9D-814B-97E1ABC75E4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51A8-AF6A-4118-BA79-DE67B4ACDEFB}"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F90D-FF85-431A-89E6-9782BEF49FA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EEB7-4EED-4375-81D6-D86592E530D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925D-4310-4E81-BB7E-758E13A5CAD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E187-CDCB-4F1F-8AF4-4A6407ECD8B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8387-2D07-49F6-8799-82CD7599297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B5A7-C493-48C1-9195-74CCF207CAE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B28E-A355-4986-93A7-DF59D9755D3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68B6-D456-4A4C-A246-7FC3F74D911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3A20-46DA-432D-B255-9CB04A23842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76BF-3B79-4E23-A29E-8069CD99302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3DE3-699A-41BE-9F39-045190A3E84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3A68-617F-4ACA-BA92-1B501B770B8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CB74-4E5D-4FC5-91D3-3CE5A2318B8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361C-A607-4A27-9618-FEAF8B2D6CB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A49A-EA4B-4B55-96C4-1D3582354E6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20AD-0D3B-40B0-B219-37533F23F0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482C-508D-4203-AF3E-F537D0244DF8}"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F82A-43CC-45E0-9155-1E37E952106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CEEF-00E0-4609-AC8F-8253C5F5CDF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2C35-C036-430B-9F4D-C9013545033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E715-AF7E-44FB-90DF-786C713ED02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DD35-7494-4B51-8CF1-DAE66238073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2E48-0CB4-4476-B743-E618246D4AB4}"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39C7-9FFC-4C9E-A068-F3E4F20670E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D525-4264-4354-ADD1-547E206CF69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3B1E-FC5E-493B-BEFE-F42BE169B9D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FD45-4AA4-4D79-909A-2F4CBEE350B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00FC-9DAA-4355-B4F5-2BBB0ECC333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80EE-09AA-4409-BAFD-37C66BA081C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595C-DDAA-4457-80A5-E1A6056217F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53C6-8A28-4C49-B434-48BF033A928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BA7F-BA41-4736-87FE-597D02C6B3D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DF91-FC7E-470A-8F1E-91E15650805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41B1-3CB4-4EF6-B488-E7588F869D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9468-ACD4-4995-B830-EFC5E873C8F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E593-8A52-4B3A-95A2-58D4BCD4DC8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C864-32DB-4B21-9055-F722519D7CC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2774-A017-4739-951F-7223AD4DBA9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FFB5-0AA9-4368-9628-08580F829B7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48AD-1488-4FF4-9DDD-7B050ED716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2DCA-B85B-4EEF-AA44-09A6058674B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ACB8-4595-4C58-93D1-E2F434B62CC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6833-6486-4B26-A95B-F2F394F9936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