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4B77-F9DD-4FBE-A383-89DD0E32BC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3C4DF-1C51-4FDD-8292-A7E06E4B6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6A66-3D23-4911-9D3C-0B39FBFE6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FBBD9-E2EE-4F32-A89D-53633BE5A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D505C-14C0-44E6-B09D-13B5187C0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7D053-2E99-4E09-B88A-D35DB4A1F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EF1AB-471D-4461-9D75-36457EB10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1D737-B46A-4737-95CE-1BD80705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C302C-020A-4D01-81AA-C11C9C07F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AA462-28FE-4BA9-BED0-239FF0A9B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202E-F378-4D16-A5DE-782363B1A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B768-F38A-4CBD-8A8B-62DF494B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E10E-8E90-4E0A-8C46-A4C64E065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0A3E-2FBF-4985-BDA9-77CB9F8CE272}" type="datetime2">
              <a:rPr b="0" lang="ur-PK" sz="1200" spc="-1" strike="noStrike">
                <a:solidFill>
                  <a:srgbClr val="ffffff"/>
                </a:solidFill>
                <a:latin typeface="Verdana"/>
                <a:cs typeface="Arial"/>
              </a:rPr>
              <a:t>بده, 29,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9E2E-4C53-4571-85BA-A7D2C459F2B8}"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09AB-A103-47E8-BFDA-1D68EFD1BDB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32E2-7DCB-4497-B828-A90C910C270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A396-2836-42AE-A13B-D0676912880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6629-6A76-4E64-AC4B-DE3FD099424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9DF3-C67E-406D-BFE5-6DF9AB1908F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A772-768E-4020-942A-EDB62A2400C8}"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9128-9112-4F82-9FCC-2FEC8C196AE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F44F-DE9B-4D08-AFD9-4BE4EF2BC83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0EA6-5AD0-4A22-B3C9-0AFDCE9C569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1A73-C069-4127-B495-C13853F4E04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0F3B-409F-470D-88C1-A41A0A3CAB0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B602-33F0-4D61-8318-66A9B556877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AAEA-CEA3-4322-8FB5-FCE15E815E61}"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69F3-EF1E-47E9-AE43-FBB488AD260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57B0-36E3-4E6D-840A-6BBFA98E6D5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ABF6-451F-47B4-BB09-B4FA10DA6EB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6851-DDEE-4B65-A67A-D79AF1E4BC81}"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A8B3-CD18-4456-911C-D1A10069DE0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D750-5FDB-4188-B863-FB164884640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F863-FF71-41FD-A5DD-865D8E59D9A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BF5B-D9E5-40A5-91F8-300DD90AC08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D45E-5A57-400E-A31D-9ECB25A69D1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72F4-2B7A-4C51-A449-8748F3D0AD6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1A94-B4C6-4969-ADBA-CEE97D11BAD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D62B-B966-499E-9EEC-7C6DD86949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0E62-8E15-46F3-A0A4-0E5698A64006}"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805E-87B4-4E5B-9B6D-9AD5E2BA372B}"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2551-DF9B-4E55-8D4B-3B376045034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DACA-4781-4A95-902D-F17D9592DBD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3A0E-C9E9-45E8-B03A-FABE1DF81CEA}"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3B3E-2C25-4D5E-96D2-3BAEC23207D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063F-C6F1-4A01-9740-F28E7137472D}"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93B0-7D3F-4453-92AE-30B906AAA265}"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4354-3784-48B6-9ADA-34994079F308}"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3471-39DE-4F72-A7CD-0BB61930722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A5E6-53DA-415B-98D5-E543FC669A8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6F3D-C217-4682-8E64-557E482122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9954-016C-472F-A274-C73E5C72011C}"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2D3D-55AA-4787-91CA-0741C1C925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EDB9-480A-42A2-973E-6B84C02C734E}"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72DF-F47C-482D-BB9A-6B2931100C8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B9D5-D46B-4BA6-B46E-425D4D13CAAE}"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8D99-9910-42BC-900C-00A4629F281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0B4A-E8E4-432D-8DBB-037C9927405F}"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9B3E-96C4-4D09-8AB4-6D356813E43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E69D-3111-4EE9-8406-D72C89A49E18}"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E69A-5E84-4BCD-9AEF-6A1FE3190F6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48BA-71AC-43BA-93B1-20ACB9004CC4}"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0DF9-218C-4D81-A679-BAB1E3E1764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1237-08F2-4EC9-B60D-A53502B266D9}"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4EA9-D33B-4923-8C6C-7C9863331E11}"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9958-BFE4-4FE3-AF4F-7F6480C91D3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7D6C-6437-4EA5-8EDF-923B236851A6}"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EA42-550E-4F90-B676-36E0DC6A7582}"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FFDF-DBD4-42E3-A8F1-EB669D7C438D}"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F78E-B90D-4B35-B54B-779E4B41CF06}" type="datetime2">
              <a:rPr b="0" lang="ur-PK" sz="1200" spc="-1" strike="noStrike">
                <a:solidFill>
                  <a:srgbClr val="ffffff"/>
                </a:solidFill>
                <a:latin typeface="Verdana"/>
                <a:cs typeface="Arial"/>
              </a:rPr>
              <a:t>بده, 29,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