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3253-E528-42B5-81B9-2669EC133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RIJUAN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JU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ysical Consequ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ens especially-reproductive orga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es-sperm production and testosterone levels l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emales- raises testosterone level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ns especially-reproductiv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s-sperm production and testosterone levels 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s- raises testosterone lev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ateway Drug??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rijuana, Tobacco and Alcohol are all considered Gateway dru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an indicator that if any of the three have been used it is a good possibility that the user will move on to use more dangerous and addictive dru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does NOT mean that every person will do th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eway Drug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juana, Tobacco and Alcohol are all considered Gateway dru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n indicator that if any of the three have been used it is a good possibility that the user will move on to use more dangerous and addictive dru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oes NOT mean that every person will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8% of high school students reported using marijuana in the past mon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st commonly used illicit dru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ly 69 million Americans over the age of 12 have tried marijuana at least once in their life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% of high school students reported using marijuana in the past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ly used illicit dru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69 million Americans over the age of 12 have tried marijuana at least once in their life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cent of Students Reporting Marijuana Use, 2005–2006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Students Reporting Marijuana Use, 2005–200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green, brown, or gray mixture of dried, shredded leaves, stems, seeds, and flowers of the hemp plan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ind-altering (psychoactive) dru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 joint = 20 cigarettes worth of chemical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n, brown, or gray mixture of dried, shredded leaves, stems, seeds, and flowers of the hemp pla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nd-altering (psychoactive) dr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joint = 20 cigarettes worth of chemic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are over 2,000 chemical compounds in marijuana once it is li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C is the main active chemical and is stored in fat cells for long periods of time (stored up to 30 day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C can also be stored in brain, lungs, ovaries, and test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C content is ris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960’s    THC level = 1-2%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day     THC level = 21%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stronger and more damaging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over 2,000 chemical compounds in marijuana once it is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C is the main active chemical and is stored in fat cells for long periods of time (stored up to 30 d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C can also be stored in brain, lungs, ovaries, and te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C content is r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’s    THC level = 1-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    THC level = 2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tronger and more damag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blems caused by Marijuan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pairs Motor Contr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s reaction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-term memory lo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ual Impair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ps time sen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reases Heart Rat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creases blood sug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xiety/Panic reac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ung Proble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lated Pupi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Ey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ens immune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caused by Mariju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airs Motor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s reaction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-term memory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Impair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s time s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s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s blood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xiety/Panic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ated Pup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ens immu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ny of the same respiratory problems that tobacco smokers ha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cer of the respiratory tract and lungs may also be promoted by marijuana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0 percent to 70 percent more carcinogenic hydrocarbons than tobacco smok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 Term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of the same respiratory problems that tobacco smoker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r of the respiratory tract and lungs may also be promoted by marijuana smok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 percent to 70 percent more carcinogenic hydrocarbons than tobacco smok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ick Fa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ction time for motor skills, such as driving is reduced by 41% after smoking 1 joint and is reduced 63% after smoking 2 joi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verage age of first trying marijuana is 14 years old!!!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aily use of 1 to 3 marijuana joints can produce the same lung damage and potential cancer risk as smoking five times as many cigarett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time for motor skills, such as driving is reduced by 41% after smoking 1 joint and is reduced 63% after smoking 2 joi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age of first trying marijuana is 14 years old!!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ily use of 1 to 3 marijuana joints can produce the same lung damage and potential cancer risk as smoking five times as many cigaret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rijuana and Addi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ises levels of dopamine-produces a pleasurable feeling.   Can be inten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wear off dramatically-Cras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rs get addicted to the dopamine release (intense pleasurable feeling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juana and Add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ses levels of dopamine-produces a pleasurable feeling.   Can be int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ar off dramatically-Cr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s get addicted to the dopamine release (intense pleasurable feel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911B-D354-418E-8557-CB5689A0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5F50-97CA-4AE3-A403-B199C857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D38-2E5F-4F34-BB6B-42AE6513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0EE-4AF2-401A-A4EC-9F8FD14A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56C4-A1A9-4615-A2B2-6306321B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BE85-BA98-432C-8804-CEDDB739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FE09-8E89-4BA4-B819-143ACF8B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4237-2756-45B1-85AA-99D4DFF5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620C-7AE2-49FC-9F2E-11BCBD2E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1E8A-94D6-42D2-9C7D-BA45F015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BF71-8C4C-4A5A-B6B3-70BA33B5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420-71F5-4F26-9FAA-14CA22CB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3C3E-2BF9-4AD1-9356-83AC6105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1A91-AF6A-4357-AF20-203AA6E2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432D-7AA0-4404-92A5-8BBAF8B4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48A7-B829-4166-AE0D-F412E60E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C48B-3194-4073-A921-44013F39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4661-C1CD-4BEC-BFAB-1069F2F1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FA0-8A8E-4182-92D1-D0F646AC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27FC-F798-400F-B288-12AED4B1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718-AA5D-46D1-83B9-676F743C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D3B-1992-4551-BED4-A5F50703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8EF-950F-4892-A901-B8824A23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881-7EF4-4F50-8ABA-90B8B4D7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79B0-9A17-4B61-86B8-83ACB8B893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ED5F-B61F-4D23-8E78-C9FA91D1963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60948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imes New Roman"/>
              </a:rPr>
              <a:t>MARIJUANA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6" name="Picture 3" descr="marijuana"/>
          <p:cNvPicPr/>
          <p:nvPr/>
        </p:nvPicPr>
        <p:blipFill>
          <a:blip r:embed="rId1"/>
          <a:stretch/>
        </p:blipFill>
        <p:spPr>
          <a:xfrm>
            <a:off x="228600" y="3581280"/>
            <a:ext cx="3581280" cy="2948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51802581"/>
          <p:cNvPicPr/>
          <p:nvPr/>
        </p:nvPicPr>
        <p:blipFill>
          <a:blip r:embed="rId2"/>
          <a:stretch/>
        </p:blipFill>
        <p:spPr>
          <a:xfrm>
            <a:off x="5181480" y="1828800"/>
            <a:ext cx="3686400" cy="45910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Physical Consequen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Teens especially-reproductive organ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Males-sperm production and testosterone levels low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Females- raises testosterone levels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ateway Drug??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arijuana, Tobacco and Alcohol are all considered Gateway drug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t is an indicator that if any of the three have been used it is a good possibility that the user will move on to use more dangerous and addictive drug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is does NOT mean that every person will do thi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 rot="21023400">
            <a:off x="1789200" y="1233720"/>
            <a:ext cx="76197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6.8% of high school students reported using marijuana in the past mont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 rot="21381000">
            <a:off x="-220320" y="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most commonly used illicit drug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 rot="886800">
            <a:off x="-304920" y="4282200"/>
            <a:ext cx="91440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Nearly 69 million Americans over the age of 12 have tried marijuana at least once in their lifeti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04920" y="29880"/>
            <a:ext cx="848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Arial"/>
              </a:rPr>
              <a:t>Percent of Students Reporting Marijuana Use, 2005–2006</a:t>
            </a:r>
            <a:r>
              <a:rPr b="1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52280" y="1905120"/>
            <a:ext cx="8839080" cy="4170240"/>
            <a:chOff x="152280" y="1905120"/>
            <a:chExt cx="8839080" cy="4170240"/>
          </a:xfrm>
        </p:grpSpPr>
        <p:sp>
          <p:nvSpPr>
            <p:cNvPr id="115" name="Rectangle 4"/>
            <p:cNvSpPr/>
            <p:nvPr/>
          </p:nvSpPr>
          <p:spPr>
            <a:xfrm>
              <a:off x="7772400" y="5318280"/>
              <a:ext cx="1218960" cy="75708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42.3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6629400" y="5318280"/>
              <a:ext cx="1143000" cy="75708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44.8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5486400" y="5318280"/>
              <a:ext cx="1143000" cy="75708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31.8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" name="Rectangle 7"/>
            <p:cNvSpPr/>
            <p:nvPr/>
          </p:nvSpPr>
          <p:spPr>
            <a:xfrm>
              <a:off x="4343400" y="5318280"/>
              <a:ext cx="1143000" cy="75708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34.1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Rectangle 8"/>
            <p:cNvSpPr/>
            <p:nvPr/>
          </p:nvSpPr>
          <p:spPr>
            <a:xfrm>
              <a:off x="3124080" y="5318280"/>
              <a:ext cx="1219320" cy="75708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15.7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1904760" y="5318280"/>
              <a:ext cx="1219320" cy="75708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16.5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Rectangle 10"/>
            <p:cNvSpPr/>
            <p:nvPr/>
          </p:nvSpPr>
          <p:spPr>
            <a:xfrm>
              <a:off x="152280" y="5318280"/>
              <a:ext cx="1752480" cy="75708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  <a:ea typeface="Arial"/>
                </a:rPr>
                <a:t>Lifetime </a:t>
              </a:r>
              <a:endParaRPr b="0" lang="en-US" sz="3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Rectangle 11"/>
            <p:cNvSpPr/>
            <p:nvPr/>
          </p:nvSpPr>
          <p:spPr>
            <a:xfrm>
              <a:off x="7772400" y="4253040"/>
              <a:ext cx="1218960" cy="10652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31.5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Rectangle 12"/>
            <p:cNvSpPr/>
            <p:nvPr/>
          </p:nvSpPr>
          <p:spPr>
            <a:xfrm>
              <a:off x="6629400" y="4253040"/>
              <a:ext cx="1143000" cy="10652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33.6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Rectangle 13"/>
            <p:cNvSpPr/>
            <p:nvPr/>
          </p:nvSpPr>
          <p:spPr>
            <a:xfrm>
              <a:off x="5486400" y="4253040"/>
              <a:ext cx="1143000" cy="10652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25.2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Rectangle 14"/>
            <p:cNvSpPr/>
            <p:nvPr/>
          </p:nvSpPr>
          <p:spPr>
            <a:xfrm>
              <a:off x="4343400" y="4253040"/>
              <a:ext cx="1143000" cy="10652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26.6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3124080" y="4253040"/>
              <a:ext cx="1219320" cy="10652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11.7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Rectangle 16"/>
            <p:cNvSpPr/>
            <p:nvPr/>
          </p:nvSpPr>
          <p:spPr>
            <a:xfrm>
              <a:off x="1904760" y="4253040"/>
              <a:ext cx="1219320" cy="10652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12.2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Rectangle 17"/>
            <p:cNvSpPr/>
            <p:nvPr/>
          </p:nvSpPr>
          <p:spPr>
            <a:xfrm>
              <a:off x="152280" y="4253040"/>
              <a:ext cx="1752480" cy="10652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Past year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" name="Rectangle 18"/>
            <p:cNvSpPr/>
            <p:nvPr/>
          </p:nvSpPr>
          <p:spPr>
            <a:xfrm>
              <a:off x="7772400" y="3187800"/>
              <a:ext cx="1218960" cy="10652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18.3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6629400" y="3187800"/>
              <a:ext cx="1143000" cy="10652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19.8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5486400" y="3187800"/>
              <a:ext cx="1143000" cy="10652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14.2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Rectangle 21"/>
            <p:cNvSpPr/>
            <p:nvPr/>
          </p:nvSpPr>
          <p:spPr>
            <a:xfrm>
              <a:off x="4343400" y="3187800"/>
              <a:ext cx="1143000" cy="10652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15.2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3124080" y="3187800"/>
              <a:ext cx="1219320" cy="10652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6.5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Rectangle 23"/>
            <p:cNvSpPr/>
            <p:nvPr/>
          </p:nvSpPr>
          <p:spPr>
            <a:xfrm>
              <a:off x="1904760" y="3187800"/>
              <a:ext cx="1219320" cy="10652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6.6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Rectangle 24"/>
            <p:cNvSpPr/>
            <p:nvPr/>
          </p:nvSpPr>
          <p:spPr>
            <a:xfrm>
              <a:off x="152280" y="3187800"/>
              <a:ext cx="1752480" cy="10652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Past month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Rectangle 25"/>
            <p:cNvSpPr/>
            <p:nvPr/>
          </p:nvSpPr>
          <p:spPr>
            <a:xfrm>
              <a:off x="7772400" y="2610000"/>
              <a:ext cx="1218960" cy="57780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2006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Rectangle 26"/>
            <p:cNvSpPr/>
            <p:nvPr/>
          </p:nvSpPr>
          <p:spPr>
            <a:xfrm>
              <a:off x="6629400" y="2610000"/>
              <a:ext cx="1143000" cy="57780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2005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Rectangle 27"/>
            <p:cNvSpPr/>
            <p:nvPr/>
          </p:nvSpPr>
          <p:spPr>
            <a:xfrm>
              <a:off x="5486400" y="2610000"/>
              <a:ext cx="1143000" cy="57780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2006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Rectangle 28"/>
            <p:cNvSpPr/>
            <p:nvPr/>
          </p:nvSpPr>
          <p:spPr>
            <a:xfrm>
              <a:off x="4343400" y="2610000"/>
              <a:ext cx="1143000" cy="57780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2005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Rectangle 29"/>
            <p:cNvSpPr/>
            <p:nvPr/>
          </p:nvSpPr>
          <p:spPr>
            <a:xfrm>
              <a:off x="3124080" y="2610000"/>
              <a:ext cx="1219320" cy="57780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2006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Rectangle 30"/>
            <p:cNvSpPr/>
            <p:nvPr/>
          </p:nvSpPr>
          <p:spPr>
            <a:xfrm>
              <a:off x="1904760" y="2610000"/>
              <a:ext cx="1219320" cy="57780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2005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Rectangle 31"/>
            <p:cNvSpPr/>
            <p:nvPr/>
          </p:nvSpPr>
          <p:spPr>
            <a:xfrm>
              <a:off x="6629400" y="1905120"/>
              <a:ext cx="2361960" cy="70488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12</a:t>
              </a:r>
              <a:r>
                <a:rPr b="1" i="1" lang="en-US" sz="3200" spc="-1" strike="noStrike" baseline="30000">
                  <a:solidFill>
                    <a:srgbClr val="ffffcc"/>
                  </a:solidFill>
                  <a:latin typeface="Arial"/>
                  <a:ea typeface="Arial"/>
                </a:rPr>
                <a:t>th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 Grade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Rectangle 32"/>
            <p:cNvSpPr/>
            <p:nvPr/>
          </p:nvSpPr>
          <p:spPr>
            <a:xfrm>
              <a:off x="4343400" y="1905120"/>
              <a:ext cx="2286000" cy="70488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10</a:t>
              </a:r>
              <a:r>
                <a:rPr b="1" i="1" lang="en-US" sz="3200" spc="-1" strike="noStrike" baseline="30000">
                  <a:solidFill>
                    <a:srgbClr val="ffffcc"/>
                  </a:solidFill>
                  <a:latin typeface="Arial"/>
                  <a:ea typeface="Arial"/>
                </a:rPr>
                <a:t>th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 Grade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Rectangle 33"/>
            <p:cNvSpPr/>
            <p:nvPr/>
          </p:nvSpPr>
          <p:spPr>
            <a:xfrm>
              <a:off x="1904760" y="1905120"/>
              <a:ext cx="2438640" cy="70488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8</a:t>
              </a:r>
              <a:r>
                <a:rPr b="1" i="1" lang="en-US" sz="3200" spc="-1" strike="noStrike" baseline="30000">
                  <a:solidFill>
                    <a:srgbClr val="ffffcc"/>
                  </a:solidFill>
                  <a:latin typeface="Arial"/>
                  <a:ea typeface="Arial"/>
                </a:rPr>
                <a:t>th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 Grade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Rectangle 34"/>
            <p:cNvSpPr/>
            <p:nvPr/>
          </p:nvSpPr>
          <p:spPr>
            <a:xfrm>
              <a:off x="152280" y="1905120"/>
              <a:ext cx="1752480" cy="128268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  <a:ea typeface="Arial"/>
                </a:rPr>
                <a:t> 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Line 35"/>
            <p:cNvSpPr/>
            <p:nvPr/>
          </p:nvSpPr>
          <p:spPr>
            <a:xfrm>
              <a:off x="152280" y="1905120"/>
              <a:ext cx="8839080" cy="0"/>
            </a:xfrm>
            <a:prstGeom prst="line">
              <a:avLst/>
            </a:prstGeom>
            <a:ln cap="rnd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Line 36"/>
            <p:cNvSpPr/>
            <p:nvPr/>
          </p:nvSpPr>
          <p:spPr>
            <a:xfrm>
              <a:off x="152280" y="6075360"/>
              <a:ext cx="8839080" cy="0"/>
            </a:xfrm>
            <a:prstGeom prst="line">
              <a:avLst/>
            </a:prstGeom>
            <a:ln cap="rnd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Line 37"/>
            <p:cNvSpPr/>
            <p:nvPr/>
          </p:nvSpPr>
          <p:spPr>
            <a:xfrm>
              <a:off x="152280" y="1905120"/>
              <a:ext cx="0" cy="4170240"/>
            </a:xfrm>
            <a:prstGeom prst="line">
              <a:avLst/>
            </a:prstGeom>
            <a:ln cap="rnd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Line 38"/>
            <p:cNvSpPr/>
            <p:nvPr/>
          </p:nvSpPr>
          <p:spPr>
            <a:xfrm>
              <a:off x="8991360" y="1905120"/>
              <a:ext cx="0" cy="4170240"/>
            </a:xfrm>
            <a:prstGeom prst="line">
              <a:avLst/>
            </a:prstGeom>
            <a:ln cap="rnd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Line 39"/>
            <p:cNvSpPr/>
            <p:nvPr/>
          </p:nvSpPr>
          <p:spPr>
            <a:xfrm>
              <a:off x="152280" y="3187800"/>
              <a:ext cx="8839080" cy="0"/>
            </a:xfrm>
            <a:prstGeom prst="line">
              <a:avLst/>
            </a:prstGeom>
            <a:ln cap="rnd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Line 40"/>
            <p:cNvSpPr/>
            <p:nvPr/>
          </p:nvSpPr>
          <p:spPr>
            <a:xfrm>
              <a:off x="1904760" y="1905120"/>
              <a:ext cx="0" cy="4170240"/>
            </a:xfrm>
            <a:prstGeom prst="line">
              <a:avLst/>
            </a:prstGeom>
            <a:ln cap="rnd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Line 41"/>
            <p:cNvSpPr/>
            <p:nvPr/>
          </p:nvSpPr>
          <p:spPr>
            <a:xfrm>
              <a:off x="3124080" y="2610000"/>
              <a:ext cx="0" cy="3465360"/>
            </a:xfrm>
            <a:prstGeom prst="line">
              <a:avLst/>
            </a:prstGeom>
            <a:ln cap="rnd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Line 42"/>
            <p:cNvSpPr/>
            <p:nvPr/>
          </p:nvSpPr>
          <p:spPr>
            <a:xfrm>
              <a:off x="1904760" y="2610000"/>
              <a:ext cx="7086600" cy="0"/>
            </a:xfrm>
            <a:prstGeom prst="line">
              <a:avLst/>
            </a:prstGeom>
            <a:ln cap="rnd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Line 43"/>
            <p:cNvSpPr/>
            <p:nvPr/>
          </p:nvSpPr>
          <p:spPr>
            <a:xfrm>
              <a:off x="4343400" y="1905120"/>
              <a:ext cx="0" cy="4170240"/>
            </a:xfrm>
            <a:prstGeom prst="line">
              <a:avLst/>
            </a:prstGeom>
            <a:ln cap="rnd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Line 44"/>
            <p:cNvSpPr/>
            <p:nvPr/>
          </p:nvSpPr>
          <p:spPr>
            <a:xfrm>
              <a:off x="6629400" y="1905120"/>
              <a:ext cx="0" cy="4170240"/>
            </a:xfrm>
            <a:prstGeom prst="line">
              <a:avLst/>
            </a:prstGeom>
            <a:ln cap="rnd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Line 45"/>
            <p:cNvSpPr/>
            <p:nvPr/>
          </p:nvSpPr>
          <p:spPr>
            <a:xfrm>
              <a:off x="5486400" y="2610000"/>
              <a:ext cx="0" cy="3465360"/>
            </a:xfrm>
            <a:prstGeom prst="line">
              <a:avLst/>
            </a:prstGeom>
            <a:ln cap="rnd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Line 46"/>
            <p:cNvSpPr/>
            <p:nvPr/>
          </p:nvSpPr>
          <p:spPr>
            <a:xfrm>
              <a:off x="7772400" y="2610000"/>
              <a:ext cx="0" cy="3465360"/>
            </a:xfrm>
            <a:prstGeom prst="line">
              <a:avLst/>
            </a:prstGeom>
            <a:ln cap="rnd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Line 47"/>
            <p:cNvSpPr/>
            <p:nvPr/>
          </p:nvSpPr>
          <p:spPr>
            <a:xfrm>
              <a:off x="152280" y="4253040"/>
              <a:ext cx="8839080" cy="0"/>
            </a:xfrm>
            <a:prstGeom prst="line">
              <a:avLst/>
            </a:prstGeom>
            <a:ln cap="rnd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Line 48"/>
            <p:cNvSpPr/>
            <p:nvPr/>
          </p:nvSpPr>
          <p:spPr>
            <a:xfrm>
              <a:off x="152280" y="5318280"/>
              <a:ext cx="8839080" cy="0"/>
            </a:xfrm>
            <a:prstGeom prst="line">
              <a:avLst/>
            </a:prstGeom>
            <a:ln cap="rnd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green, brown, or gray mixture of dried, shredded leaves, stems, seeds, and flowers of the hemp plant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A mind-altering (psychoactive) dru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1 joint = 20 cigarettes worth of chemicals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ere are over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2,000 chemical compounds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in marijuana once it is li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-24012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C is the main active chemical and is stored in fat cells for long periods of time (stored up to 30 days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-24012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C can also be stored in brain, lungs, ovaries, and test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-24012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C content is ris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840" indent="-19980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960’s    THC level = 1-2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840" indent="-19980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oday     THC level = 21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840" indent="-19980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t is stronger and more damaging!!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Problems caused by Mariju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mpairs Motor Contr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lows reaction ti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hort-term memory los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Visual Impairm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Warps time sens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creases Heart Ra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419360" y="91440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ecreases blood sug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nxiety/Panic reacti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Lung Problem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ilated Pupil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ed Ey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Weakens immune syste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Long Term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Many of the same respiratory problems that tobacco smokers hav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ancer of the respiratory tract and lungs may also be promoted by marijuana smok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cc"/>
                </a:solidFill>
                <a:uFillTx/>
                <a:latin typeface="Times New Roman"/>
              </a:rPr>
              <a:t>50 percent to 70 percent more carcinogenic hydrocarbons than tobacco smoke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Quick Fa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Reaction time for motor skills, such as driving is reduced by 41% after smoking 1 joint and is reduced 63% after smoking 2 joints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verage age of first trying marijuana is 14 years old!!!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The daily use of 1 to 3 marijuana joints can produce the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same lung damage and potential cancer risk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as smoking five times as many cigarette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Marijuana and Addi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Raises levels of dopamine-produces a pleasurable feeling.   Can be intense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Can wear off dramatically-Cras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Users get addicted to the dopamine release (intense pleasurable feeling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7:48:40Z</dcterms:created>
  <dc:creator>Nancy</dc:creator>
  <dc:description/>
  <dc:language>en-US</dc:language>
  <cp:lastModifiedBy>LEGION2</cp:lastModifiedBy>
  <cp:lastPrinted>2008-07-09T23:29:11Z</cp:lastPrinted>
  <dcterms:modified xsi:type="dcterms:W3CDTF">2016-01-14T10:30:11Z</dcterms:modified>
  <cp:revision>9</cp:revision>
  <dc:subject/>
  <dc:title>MARIJUANA</dc:title>
</cp:coreProperties>
</file>