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gif" ContentType="image/gif"/>
  <Override PartName="/ppt/media/image6.png" ContentType="image/png"/>
  <Override PartName="/ppt/media/image12.jpeg" ContentType="image/jpeg"/>
  <Override PartName="/ppt/media/image4.gif" ContentType="image/gif"/>
  <Override PartName="/ppt/media/image8.png" ContentType="image/png"/>
  <Override PartName="/ppt/media/image11.jpeg" ContentType="image/jpeg"/>
  <Override PartName="/ppt/media/image13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50172-B91A-4C99-8FF4-EA01DDB87D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ous Syst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the end of the lesson you should be able t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transmission of impulses from senses to central nervous system and back to muscl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reflex action and the pathway of the reflex arc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function of reflex respons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role of the central nervous system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the end of the lesson you should be able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transmission of impulses from senses to central nervous system and back to mus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reflex action and the pathway of the reflex ar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function of reflex respo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role of the central nervous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ynaps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kins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kins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yna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kins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kin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rvous syst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sic nerve cell structu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sic nerve cell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ain types of nerve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ory neuron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y neuron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or neuron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ain types of nerv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ory neur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y neur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or neur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ory neur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s impulses from receptors e.g pain receptors in skin to the CNS( brain or spinal  cord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ory neu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s impulses from receptors e.g pain receptors in skin to the CNS( brain or spinal  cor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y neur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s impulses from sensory nerves to motor nerv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y neu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s impulses from sensory nerves to motor ner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or neur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s impulses from CNS to effector e.g. muscle to bring about movement or gland to bring about secretion of hormone e.g ADH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or neu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s impulses from CNS to effector e.g. muscle to bring about movement or gland to bring about secretion of hormone e.g AD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mission of signa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mission of sig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E71A-6E09-4821-A332-E60FE85BA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A4A3-447C-4DE4-95BE-50E906E1D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AE3C-5DD0-4C28-A214-DA608C680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02DA-A021-45AC-860A-C19AA247B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DA560-DBCE-4D14-A093-9714EA5FB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495BF-803E-4C14-BD95-6ABA48907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66F06-7609-4620-BA91-82A7C5512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3F0D3-5577-4942-B919-ADD7E868A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DA1FB-5543-4AEB-BFAE-0C71F04E1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58F18-48E0-4644-A0CC-F4352A463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54FAE-4528-45EF-95AC-513AE05AC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E7AC-D33C-4349-90AA-B398692D6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112DD-43B3-4366-AA1F-5860045DA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82328-7CE8-4DA4-B3F2-C29B9FA8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523BA-93E7-42E0-9751-414502FCC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55C5F-4723-44FB-B063-3D839035C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69E12-D596-4EB3-A418-9E8FA48D7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047D-466F-4E48-AEAD-DC823DED1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2D83-80DE-47D2-8972-576250802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D168-B726-40D5-872E-E33DBA977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CF19-6180-4708-A68A-8A53623CD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577E-ACB4-44DA-94B2-189157C55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AA72-5E0B-4C81-BC15-1BD68E935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23D1-849A-4C75-AFD4-AC57B3191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6DD39-3EED-4442-9B61-0D58D346B52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EB81B-92E2-46FA-BE85-1BF6509D931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cc"/>
                </a:solidFill>
                <a:latin typeface="Comic Sans MS"/>
              </a:rPr>
              <a:t>Nervous System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1827000"/>
            <a:ext cx="8381880" cy="47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omic Sans MS"/>
              </a:rPr>
              <a:t>By the end of the lesson you should be able to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omic Sans MS"/>
              </a:rPr>
              <a:t>Describe the transmission of impulses from senses to central nervous system and back to muscl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omic Sans MS"/>
              </a:rPr>
              <a:t>Describe the reflex action and the pathway of the reflex arc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omic Sans MS"/>
              </a:rPr>
              <a:t>Describe the function of reflex respons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omic Sans MS"/>
              </a:rPr>
              <a:t>Describe the role of the central nervous system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cc"/>
                </a:solidFill>
                <a:latin typeface="Arial"/>
              </a:rPr>
              <a:t>The Synapse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1828800" y="1600200"/>
            <a:ext cx="5832360" cy="506268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8800" y="6248520"/>
            <a:ext cx="136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arkins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328680" y="548640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arkins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nervoussystematlas"/>
          <p:cNvPicPr/>
          <p:nvPr/>
        </p:nvPicPr>
        <p:blipFill>
          <a:blip r:embed="rId1"/>
          <a:stretch/>
        </p:blipFill>
        <p:spPr>
          <a:xfrm>
            <a:off x="2340000" y="0"/>
            <a:ext cx="404172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"/>
          <p:cNvSpPr/>
          <p:nvPr/>
        </p:nvSpPr>
        <p:spPr>
          <a:xfrm>
            <a:off x="5702760" y="5562720"/>
            <a:ext cx="187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nervous syst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Nervous System"/>
          <p:cNvPicPr/>
          <p:nvPr/>
        </p:nvPicPr>
        <p:blipFill>
          <a:blip r:embed="rId1"/>
          <a:stretch/>
        </p:blipFill>
        <p:spPr>
          <a:xfrm>
            <a:off x="2124000" y="549360"/>
            <a:ext cx="4532400" cy="568800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cc"/>
                </a:solidFill>
                <a:latin typeface="Comic Sans MS"/>
              </a:rPr>
              <a:t>Basic nerve cell structure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06" name="Picture 3" descr="basicneuron"/>
          <p:cNvPicPr/>
          <p:nvPr/>
        </p:nvPicPr>
        <p:blipFill>
          <a:blip r:embed="rId1"/>
          <a:stretch/>
        </p:blipFill>
        <p:spPr>
          <a:xfrm>
            <a:off x="1763640" y="1484280"/>
            <a:ext cx="5832720" cy="3525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longn"/>
          <p:cNvPicPr/>
          <p:nvPr/>
        </p:nvPicPr>
        <p:blipFill>
          <a:blip r:embed="rId2"/>
          <a:stretch/>
        </p:blipFill>
        <p:spPr>
          <a:xfrm>
            <a:off x="1835280" y="5445000"/>
            <a:ext cx="5903640" cy="92880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cc"/>
                </a:solidFill>
                <a:latin typeface="Comic Sans MS"/>
              </a:rPr>
              <a:t>3 main types of nerve cells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10" name="Picture 3" descr="Senseneuron"/>
          <p:cNvPicPr/>
          <p:nvPr/>
        </p:nvPicPr>
        <p:blipFill>
          <a:blip r:embed="rId1"/>
          <a:stretch/>
        </p:blipFill>
        <p:spPr>
          <a:xfrm>
            <a:off x="684360" y="1628640"/>
            <a:ext cx="2360520" cy="2808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neuron1"/>
          <p:cNvPicPr/>
          <p:nvPr/>
        </p:nvPicPr>
        <p:blipFill>
          <a:blip r:embed="rId2"/>
          <a:stretch/>
        </p:blipFill>
        <p:spPr>
          <a:xfrm>
            <a:off x="5796000" y="1628640"/>
            <a:ext cx="2790720" cy="29718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3" name="Object 6"/>
          <p:cNvGraphicFramePr/>
          <p:nvPr/>
        </p:nvGraphicFramePr>
        <p:xfrm>
          <a:off x="3203640" y="1700280"/>
          <a:ext cx="2665440" cy="277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1700280"/>
                    <a:ext cx="266544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Text Box 7"/>
          <p:cNvSpPr/>
          <p:nvPr/>
        </p:nvSpPr>
        <p:spPr>
          <a:xfrm>
            <a:off x="1258920" y="486900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nsory neuro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3995640" y="494172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lay neuro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6804000" y="494172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tor neuro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cc"/>
                </a:solidFill>
                <a:latin typeface="Comic Sans MS"/>
              </a:rPr>
              <a:t>Sensory neurons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5076720" y="1989000"/>
            <a:ext cx="165600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Picture 12" descr="Scan10025"/>
          <p:cNvPicPr/>
          <p:nvPr/>
        </p:nvPicPr>
        <p:blipFill>
          <a:blip r:embed="rId1"/>
          <a:srcRect l="11818" t="47247" r="9800" b="37787"/>
          <a:stretch/>
        </p:blipFill>
        <p:spPr>
          <a:xfrm>
            <a:off x="304920" y="1752480"/>
            <a:ext cx="8305560" cy="373392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13"/>
          <p:cNvSpPr/>
          <p:nvPr/>
        </p:nvSpPr>
        <p:spPr>
          <a:xfrm>
            <a:off x="228600" y="548496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arries impulses from receptors e.g pain receptors in skin to the CNS( brain or spinal  cord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cc"/>
                </a:solidFill>
                <a:latin typeface="Comic Sans MS"/>
              </a:rPr>
              <a:t>Relay neuron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26" name="Picture 8" descr="Scan10026"/>
          <p:cNvPicPr/>
          <p:nvPr/>
        </p:nvPicPr>
        <p:blipFill>
          <a:blip r:embed="rId1"/>
          <a:srcRect l="23575" t="35840" r="24497" b="46341"/>
          <a:stretch/>
        </p:blipFill>
        <p:spPr>
          <a:xfrm>
            <a:off x="1219320" y="1905120"/>
            <a:ext cx="7467480" cy="350496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9"/>
          <p:cNvSpPr/>
          <p:nvPr/>
        </p:nvSpPr>
        <p:spPr>
          <a:xfrm>
            <a:off x="228600" y="525780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arries impulses from sensory nerves to motor nerv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cc"/>
                </a:solidFill>
                <a:latin typeface="Comic Sans MS"/>
              </a:rPr>
              <a:t>Motor neuron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30" name="Picture 13" descr="Scan10027"/>
          <p:cNvPicPr/>
          <p:nvPr/>
        </p:nvPicPr>
        <p:blipFill>
          <a:blip r:embed="rId1"/>
          <a:srcRect l="11818" t="29424" r="9800" b="49904"/>
          <a:stretch/>
        </p:blipFill>
        <p:spPr>
          <a:xfrm>
            <a:off x="838080" y="1828800"/>
            <a:ext cx="7696440" cy="40384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14"/>
          <p:cNvSpPr/>
          <p:nvPr/>
        </p:nvSpPr>
        <p:spPr>
          <a:xfrm>
            <a:off x="0" y="53038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arries impulses from CNS to effector e.g. muscle to bring about movement or gland to bring about secretion of hormone e.g AD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cc"/>
                </a:solidFill>
                <a:latin typeface="Arial"/>
              </a:rPr>
              <a:t>Transmission of signa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34" name="Picture 4" descr="synapse"/>
          <p:cNvPicPr/>
          <p:nvPr/>
        </p:nvPicPr>
        <p:blipFill>
          <a:blip r:embed="rId1"/>
          <a:stretch/>
        </p:blipFill>
        <p:spPr>
          <a:xfrm>
            <a:off x="4572000" y="1700280"/>
            <a:ext cx="3959280" cy="3375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synapse"/>
          <p:cNvPicPr/>
          <p:nvPr/>
        </p:nvPicPr>
        <p:blipFill>
          <a:blip r:embed="rId2"/>
          <a:stretch/>
        </p:blipFill>
        <p:spPr>
          <a:xfrm>
            <a:off x="1442880" y="1984320"/>
            <a:ext cx="3392640" cy="268452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2</dc:creator>
  <dc:description>Nervous system</dc:description>
  <cp:keywords>Nervous system</cp:keywords>
  <dc:language>en-US</dc:language>
  <cp:lastModifiedBy>LEGION2</cp:lastModifiedBy>
  <dcterms:modified xsi:type="dcterms:W3CDTF">2016-01-14T10:40:52Z</dcterms:modified>
  <cp:revision>8</cp:revision>
  <dc:subject>Nervous system</dc:subject>
  <dc:title>Nervou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