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3BA3-0C7A-4986-9EB2-86FA1C65B0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235-2555-4B16-B1D0-21456792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B1D-A124-4AB3-9D94-20219885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CF0-994A-432A-8524-860F910D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499-9FB1-41AA-B832-69A39711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D6B9-3F61-48DC-927E-4A01C8C1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D463-A9D8-4736-8B89-071DDB69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BCB4-F5F8-4291-9903-BDF2CC4D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50F6-137A-41D7-8E57-C620D606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752D-E548-436A-852C-B3081CC0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A480-D1CB-48AD-AD44-CE328691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23F5-045B-41FB-A993-A7133AA8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950-3A9C-408B-BF15-DBD42A03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B3A3-D92A-449A-BF72-72FD3BA5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429C-58B2-4CCA-9F12-885BADF0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9FDA-1DE9-4FCB-9F22-EEC2A406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505D-821A-4733-8CC0-4292671A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4BCA-8EFA-4E31-A932-C7D6B03B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2AF-53ED-4B48-9287-0D6E9551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1BB-26BD-4B0B-9C5D-6EB4326C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F45-7B56-40D8-84BC-FD757F84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1D4-96B4-44B2-B7AE-600D541E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79C-41A8-4CFD-B543-77787228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863-77A0-4BCB-B9D8-FB4C3C5E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43B-A9AC-433B-BEAE-48E3F51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A668-55F3-4BE4-937E-3D19A5618C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E042-7968-4298-84BC-72BC3A08C8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2</cp:lastModifiedBy>
  <dcterms:modified xsi:type="dcterms:W3CDTF">2016-01-14T10:43:22Z</dcterms:modified>
  <cp:revision>40</cp:revision>
  <dc:subject/>
  <dc:title>Biology 3201</dc:title>
</cp:coreProperties>
</file>