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6632-82BC-4025-A5CE-B6BADD206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093-3C03-4153-B3EE-7EC7FA3D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6CE-FF36-4D7E-8744-15AF6DD0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5B0-2647-4D06-B997-5298F07B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784-0532-41AC-88CA-F7F4F775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9BEC-13EF-44F8-B0D2-0772A9E6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C35C-2142-4E0F-BB39-D0351D41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AE25-60B1-4473-90C5-C56F0709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452D-4C01-4F80-AFAE-415B59EF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FA75-231E-461C-8671-3E073E40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2363-D9B4-4B74-BABE-97A59FF8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6A3A-8EE4-4112-B995-8DFE7F8D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735-0E8F-4E58-A198-E291A38B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1B6F-D6C0-43B9-A9BC-93F3D274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1E6A-F910-4FF7-B323-66C05CC2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CEC2-FDE1-41C8-A802-9BA70912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6473-4B5E-49EB-A289-57F05E09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D377-BC67-4D1B-8DE1-549CA191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82B-4A23-4235-924B-6068A967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F10-B70B-4B24-8B79-5F4F1771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26D-F338-4D22-AC9B-7BF1BE76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CED-EDCE-4796-8441-FA5F3283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ADF-9491-4669-A171-9B069BB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EE6-70B8-4F77-83FC-9B54EE67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066-B2AF-4387-996B-10676919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3B39-7430-4AB1-801E-C431EF1ECB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748C-0BFA-4A83-B4C7-23E3DB059E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2</cp:lastModifiedBy>
  <dcterms:modified xsi:type="dcterms:W3CDTF">2016-01-14T10:43:22Z</dcterms:modified>
  <cp:revision>40</cp:revision>
  <dc:subject/>
  <dc:title>Biology 3201</dc:title>
</cp:coreProperties>
</file>