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glas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DFA9-98F6-43B1-A25C-69CE99A73C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UCLEAR MAGNETIC RESONANCE SPECTROSCOP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an ideal tool for Diagnosis &amp;     Drug Desig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. HASEENA BANU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sst.Professor,SriPadmavathi School of Pharmacy,Tiruchanoor,Tirupat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CLEAR MAGNETIC RESONANCE SPECTR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an ideal tool for Diagnosis &amp;     Drug Desig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. HASEENA BA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t.Professor,SriPadmavathi School of Pharmacy,Tiruchanoor,Tirup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MR IN PHARMACEUTICAL RESEARC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eading technology for 3-D structure   determination of bio-macromolecu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udying protein struct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R by NMR – Novel lead compound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ical  shift mapping – Structural information on the binding modes and site posi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lecular dynamics, conformational analy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HAP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MR – SOL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MR IN PHARMACEUTICAL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ding technology for 3-D structure   determination of bio-macro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ying protein stru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R by NMR – Novel lead compou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ical  shift mapping – Structural information on the binding modes and site 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lecular dynamics, conformational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MR –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al genomic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ing gene products in diseas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rgets of drug desig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velopment of Novel drug delivery syste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hancing HTS assay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usands of compoun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yogenic NMR technology / cryoprob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 genom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ing gene products in dise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s of drug de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of Novel drug delivery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ing HTS ass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sands of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yogenic NMR technology / cryop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MR Nobel Prize Laureat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Nobel Prize in Physics 1943, Ohostern, USA – Discovery of magnetic moment of prot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Nobel Prizein Physics 1952- IsidorJ. Rafi,USA – Discovery of new methods for nuclear magnetic preci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Nobel Prize in Chemistry 1991 – Felix Bloch, USA and Edward M. Purcell, USA – Methodology of high resolution NM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Nobel Prize in Chemistry 2002 – Kurt Wuthrich, Switzerland – Determining 3-D Structure by NM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Nobel Prize in Medicine 2003 – Paul C. Lauterbur, USA and Peter Mans field, U.K. – Discoveries concerning MRI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MR Nobel Prize Lau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el Prize in Physics 1943, Ohostern, USA – Discovery of magnetic moment of 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el Prizein Physics 1952- IsidorJ. Rafi,USA – Discovery of new methods for nuclear magnetic prec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el Prize in Chemistry 1991 – Felix Bloch, USA and Edward M. Purcell, USA – Methodology of high resolution NM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el Prize in Chemistry 2002 – Kurt Wuthrich, Switzerland – Determining 3-D Structure by NM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el Prize in Medicine 2003 – Paul C. Lauterbur, USA and Peter Mans field, U.K. – Discoveries concerning M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ANKING YOU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SIC PRINCIP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T TECHNIQU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LICATIONS OF NMR IN MEDIC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INICAL APPLICATIONS IN DIAGNO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UG DEVELOP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MR Nobel prize laureat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TECHN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 OF NMR IN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 APPLICATIONS IN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MR Nobel prize lau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SIC PRINCIPLE  IN 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omic nuclei – tiny magne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external magnetic field - allign or opp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irradiated with EMR of proper frequency – Reson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√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α β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ME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mical shift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in lattice relaxation tim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PRINCIPLE  IN 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clei – tiny mag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external magnetic field - allign or opp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rradiated with EMR of proper frequency – Reso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√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α β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shif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 lattice relaxatio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FFERENT TECHNIQU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ased on nucle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1 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13  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13  NMR &amp; P31 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15  NMR &amp; O17 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W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T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D_NMR &amp;3D_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SY _CORRELATION SPECTROSCOP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RI_MAGNETIC RESONANCE IMAG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SR_ELECTRON SPIN RESONANCE SPECTROSCOP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ERENT TECHN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ed on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1 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13  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13  NMR &amp; P31 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15  NMR &amp; O17 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W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T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D_NMR &amp;3D_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SY _CORRELATION SPECTR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RI_MAGNETIC RESONANCE IMA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R_ELECTRON SPIN RESONANCE SPECTR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PPLICATIONS OF NMR IN MEDICIN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LINICAL APPLICATION OF PROTON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MAGING IN DIAGNO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A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stinguishing gray matter &amp; white mat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maging posterior fossae, brain stem, spinal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r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tect demyelinating lesions, tumors,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emorrhages, infar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S OF NMR IN MEDICIN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NICAL APPLICATION OF PROTO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ING IN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inguishing gray matter &amp; white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ing posterior fossae, brain stem, spinal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tect demyelinating lesions, tumors,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morrhages, infar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BDOM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tabolic liver disea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asures liver iron over load in hemochromato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ocal areas of inflammation in chronic active hepati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stinguishing renal cortex &amp; medull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o evaluate transplanted  kidne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ELV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fferentiates between  Benign prostatic hyperplasia   &amp; prostatic carcinom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tects bladder tumou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D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abolic liver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asures liver iron over load in hemochroma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cal areas of inflammation in chronic active hepat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inguishing renal cortex &amp; med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evaluate transplanted 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LV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erentiates between  Benign prostatic hyperplasia   &amp; prostatic carc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tects bladder tum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DIASTINUM, HILUM, LU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ssessing  abnormalit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spiratory gat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EA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omographic images of heart muscle, chambers, valvular structu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CHO-PLANAR TECHNIQU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scrimination between infarcted, ischemic &amp; normal myocard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EA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D-NMR &amp; single-slice planar imaging in detecting breast abnormalit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DIASTINUM, HILUM,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essing  abnorm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piratory g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mographic images of heart muscle, chambers, valvular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CHO-PLANAR TECH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rimination between infarcted, ischemic &amp; normal myocar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D-NMR &amp; single-slice planar imaging in detecting breast abnorm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USCULO SKELETAL SYSTE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monstrates Osteo  myelitis, tumor metastasis in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ertebral bodies &amp; pelvic bo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mages of muscles, tendons, ligam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LOOD VESSELS &amp; FLO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therosclerotic vascular diseas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ssess blood flow in major vessel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VIVO SPECTROSCOP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ical shift phenomen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agnosis of rare disease to inborn errors-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c Ardle’s syndrom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VIVO Analysis of Bone flouride conten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SCULO SKELETA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monstrates Osteo  myelitis, tumor metastasis i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tebral bodies &amp; pelvic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es of muscles, tendons, liga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 VESSELS &amp;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herosclerotic vascular dise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ess blood flow in major vess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IVO SPECTR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ical shift phenome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nosis of rare disease to inborn errors-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c Ardle’s syndr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IVO Analysis of Bone flouride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TTING  NMR  IMAGING INTO   PERSPECTI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iminates risk of x-radi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cellent spatial &amp; contrast resolutio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ecting diseases at earlier stag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 NMR  IMAGING INTO   PERSP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minates risk of x-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lent spatial &amp; contrast resolu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cting diseases at earlier s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0E4C-CD56-4EBF-8B04-009BE9B2F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CDC3-1D73-4A84-B2F5-6D6B96D3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668F-24B9-4AD7-8713-DF79075A7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B0E6-23B4-42CE-AE60-FD2E5BA7B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282E3-F27B-465E-8064-19D25AA78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9684-1551-4A05-95F2-4533CFBA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B2E65-7BFC-44C5-BCB4-81EDFAAB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EBD5-D575-4962-9622-D57C20E9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6A9B-3187-4B28-900F-321A875B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57477-6E57-4951-80FC-6E52BDEC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AEA2-3DEC-4FA1-B488-8094818F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1345-066D-4474-A19A-50B9C29A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F169-503D-4BF4-8A56-03754BC6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1556-4E1E-46ED-97A3-D476B99D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74A5F-78E0-4D85-9C4F-5614B536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73C1-32C7-4747-98C9-BCB1FB618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F5ED-A9B3-445F-929B-4C6903901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B0E0C-63B6-4F22-8A46-9B9951897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01934-DACF-4773-9411-0E9F5AB5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726D7-42D8-40A9-ACA5-C12BE84C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AC106-E62E-4214-8FD8-1AED875B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E7E02-90DA-4354-B006-9C5F214F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2790-1707-440A-95ED-4037BE8B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1BA9A-5D9B-44EA-BF5D-CEF3C4B0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C9111-FF60-492A-AA83-7BC0AFB2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57C0E-89F1-4750-80D9-78025E2C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0BE2C-1DDD-4E44-839D-BCA898D8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133B6-66CD-47DF-8408-378759E0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28E49-F14F-4AB6-9222-FCAF1FAD9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F5F76-8E23-414F-941D-E214BEC9B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7BD1FA-E2BD-464D-A550-AA102CA75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ED86B0-8FD6-4C02-95DF-283059B0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238368-C596-4866-AD00-DA50FDC0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E427-707F-4FB9-8043-16C83E93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5276EE-B93A-4C4D-A0EB-2EAEC65B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A371FD-5542-4C6E-AB79-9A779181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73C74E-32E4-46FB-BD01-A7829381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66BDFE-2500-47AC-A32C-8460AA60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0C3591-1454-49F9-8433-741A2E2E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5F1DDF-9583-4CE2-A4F8-07E5645C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B07182-5873-49E4-8DB8-241D7894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4A9660-5EE9-4DF5-8A9B-9F58AC804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681519-DA84-4D4C-AFC1-3A436F2F1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43A9-5DBB-4E65-A7A6-2015B187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C857-6925-46E7-91D0-1ABD75BA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27E0-4520-4D44-9E02-1A1FD06B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F9B9-BFA4-4BF7-AEF9-C887DC64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D200-B563-4525-80EC-F80B2232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DB69-C98C-4933-85B3-EF7D6CA31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7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9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0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81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2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83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8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9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0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A84F-B0C3-42BB-B422-54047ABFF6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3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3387-B2A3-4543-A379-EC4199FB8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14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16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7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18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19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20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25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26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27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8025-3C18-414A-A167-142FBC706E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4"/>
          <p:cNvSpPr/>
          <p:nvPr/>
        </p:nvSpPr>
        <p:spPr>
          <a:xfrm>
            <a:off x="685800" y="152280"/>
            <a:ext cx="77724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43babd"/>
                </a:solidFill>
                <a:uFillTx/>
                <a:latin typeface="Arial"/>
              </a:rPr>
              <a:t>NUCLEAR MAGNETIC RESONANCE SPECTROSCOPY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762120" y="2438280"/>
            <a:ext cx="76197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an ideal tool for Diagnosis &amp;     Drug Design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efb"/>
                </a:solidFill>
                <a:uFillTx/>
                <a:latin typeface="Arial"/>
              </a:rPr>
              <a:t>B. HASEENA BANU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efb"/>
                </a:solidFill>
                <a:latin typeface="Arial"/>
              </a:rPr>
              <a:t>Asst.Professor,SriPadmavathi School of Pharmacy,Tiruchanoor,Tirupa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NMR IN PHARMACEUTICAL RESEARCH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eading technology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for 3-D structure   determination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of bio-macromolecul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tudying protein structure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SAR by NMR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– Novel lead compounds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hemical  shift mapping – Structural information on the binding modes and site posit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olecular dynamics, conformational analysi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HAP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NMR – SOLV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ff"/>
                </a:solidFill>
                <a:latin typeface="Tahoma"/>
              </a:rPr>
              <a:t>Structural genomics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dentifying gene products in disease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argets of drug design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Tahoma"/>
              </a:rPr>
              <a:t>Development of Novel drug delivery system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00"/>
                </a:solidFill>
                <a:latin typeface="Tahoma"/>
              </a:rPr>
              <a:t>Enhancing HTS assay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ousands of compound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ryogenic NMR technology / cryoprob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NMR Nobel Prize Laureat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bel Prize in Physics </a:t>
            </a:r>
            <a:r>
              <a:rPr b="0" lang="en-US" sz="2800" spc="-1" strike="noStrike">
                <a:solidFill>
                  <a:srgbClr val="3de158"/>
                </a:solidFill>
                <a:latin typeface="Tahoma"/>
              </a:rPr>
              <a:t>194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Ohostern, USA – Discovery of magnetic moment of pro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bel Prizein Physics </a:t>
            </a:r>
            <a:r>
              <a:rPr b="0" lang="en-US" sz="2800" spc="-1" strike="noStrike">
                <a:solidFill>
                  <a:srgbClr val="3de158"/>
                </a:solidFill>
                <a:latin typeface="Tahoma"/>
              </a:rPr>
              <a:t>195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IsidorJ. Rafi,USA – Discovery of new methods for nuclear magnetic preci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bel Prize in Chemistry </a:t>
            </a:r>
            <a:r>
              <a:rPr b="0" lang="en-US" sz="2800" spc="-1" strike="noStrike">
                <a:solidFill>
                  <a:srgbClr val="3de158"/>
                </a:solidFill>
                <a:latin typeface="Tahoma"/>
              </a:rPr>
              <a:t>199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Felix Bloch, USA and Edward M. Purcell, USA – Methodology of high resolution NM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bel Prize in Chemistry </a:t>
            </a:r>
            <a:r>
              <a:rPr b="0" lang="en-US" sz="2800" spc="-1" strike="noStrike">
                <a:solidFill>
                  <a:srgbClr val="3de158"/>
                </a:solidFill>
                <a:latin typeface="Tahoma"/>
              </a:rPr>
              <a:t>200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Kurt Wuthrich, Switzerland – Determining 3-D Structure by NM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bel Prize in Medicine </a:t>
            </a:r>
            <a:r>
              <a:rPr b="0" lang="en-US" sz="2800" spc="-1" strike="noStrike">
                <a:solidFill>
                  <a:srgbClr val="3de158"/>
                </a:solidFill>
                <a:latin typeface="Tahoma"/>
              </a:rPr>
              <a:t>200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Paul C. Lauterbur, USA and Peter Mans field, U.K. – Discoveries concerning MR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e12d6"/>
                </a:solidFill>
                <a:latin typeface="Arial"/>
              </a:rPr>
              <a:t>THANKING YOU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de158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 </a:t>
            </a: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INTRODUCTION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BASIC PRINCIPLE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DIFFERENT TECHNIQUES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 </a:t>
            </a: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APPLICATIONS OF NMR IN MEDICINE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CLINICAL APPLICATIONS IN DIAGNOSIS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DRUG DEVELOPMENT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 </a:t>
            </a: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NMR Nobel prize laureates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12d6"/>
                </a:solidFill>
                <a:latin typeface="Tahoma"/>
              </a:rPr>
              <a:t>BASIC PRINCIPLE  IN NM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omic nuclei – tiny magne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external magnetic field - allign or opp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irradiated with EMR of proper frequency – Reson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√ 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  <a:ea typeface="Arial"/>
              </a:rPr>
              <a:t>α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  <a:ea typeface="Arial"/>
              </a:rPr>
              <a:t>β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  <a:ea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2800" spc="-1" strike="noStrike">
                <a:solidFill>
                  <a:srgbClr val="2e12d6"/>
                </a:solidFill>
                <a:latin typeface="Tahoma"/>
                <a:ea typeface="Arial"/>
              </a:rPr>
              <a:t>PARAME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hemical shift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Spin lattice relaxation t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600" y="190080"/>
            <a:ext cx="8686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9900"/>
                </a:solidFill>
                <a:latin typeface="Arial"/>
              </a:rPr>
              <a:t>DIFFERENT TECHNIQUES</a:t>
            </a:r>
            <a:endParaRPr b="0" lang="en-US" sz="45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ased on nuclei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1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13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13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 &amp; P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31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15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 &amp; O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17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W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T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2D_NMR &amp;3D_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OSY _CORRELATION SPECTROSCOPY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RI_MAGNETIC RESONANCE IMAGING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SR_ELECTRON SPIN RESONANCE SPECTROSCOPY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2e12d6"/>
                </a:solidFill>
                <a:latin typeface="Arial"/>
              </a:rPr>
              <a:t>APPLICATIONS OF NMR IN MEDICINE</a:t>
            </a:r>
            <a:br>
              <a:rPr sz="4800"/>
            </a:b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09120" y="19807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NICAL APPLICATION OF PROT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AGING IN DIAGNO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BR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tinguishing gray matter &amp; white ma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aging posterior fossae, brain stem, spinal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ect demyelinating lesions, tumors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morrhages, infar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ABDO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abolic liver dise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s liver iron over load in hemochromato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cal areas of inflammation in chronic active hepati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KIDNE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istinguishing renal cortex &amp; medul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o evaluate transplanted  kidn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PELV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fferentiates between  Benign prostatic hyperplasia   &amp; prostatic carcino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ects bladder tum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ff"/>
                </a:solidFill>
                <a:latin typeface="Tahoma"/>
              </a:rPr>
              <a:t>MEDIASTINUM, HILUM, LUNG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Assessing  abnormalitie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ffff"/>
                </a:solidFill>
                <a:uFillTx/>
                <a:latin typeface="Tahoma"/>
              </a:rPr>
              <a:t>Respiratory gating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ff"/>
                </a:solidFill>
                <a:latin typeface="Tahoma"/>
              </a:rPr>
              <a:t>HEART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Tomographic images of heart muscle, chambers, valvular structure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ECHO-PLANAR TECHNIQUE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Discrimination between infarcted, ischemic &amp; normal myocardium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ff"/>
                </a:solidFill>
                <a:latin typeface="Tahoma"/>
              </a:rPr>
              <a:t>BREAST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3D-NMR &amp; 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single-slice planar imaging in detecting breast abnormalitie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1532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Tahoma"/>
              </a:rPr>
              <a:t>MUSCULO SKELETAL SYSTEM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emonstrates Osteo  myelitis, tumor metastasis in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vertebral bodies &amp; pelvic bon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mages of muscles, tendons, ligamen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Tahoma"/>
              </a:rPr>
              <a:t>BLOOD VESSELS &amp; FLOW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therosclerotic vascular disease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ssess blood flow in major vessel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Tahoma"/>
              </a:rPr>
              <a:t>INVIVO SPECTROSCOP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hemical shift phenomen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iagnosis of rare disease to inborn errors-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Mc Ardle’s syndrome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INVIVO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nalysis of Bone flouride content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433440"/>
            <a:ext cx="777240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261ce4"/>
                </a:solidFill>
                <a:latin typeface="Arial"/>
              </a:rPr>
              <a:t>PUTTING  NMR  IMAGING INTO   PERSPECTIVE</a:t>
            </a:r>
            <a:endParaRPr b="0" lang="en-US" sz="4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liminates risk of x-radi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xcellent spatial &amp; contrast resolu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etecting diseases at earlier sta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3T08:06:39Z</dcterms:created>
  <dc:creator>Reddy</dc:creator>
  <dc:description>APPLICATIONS OF NMR IN MEDICINE</dc:description>
  <cp:keywords>APPLICATIONS OF NMR IN MEDICINE</cp:keywords>
  <dc:language>en-US</dc:language>
  <cp:lastModifiedBy>LEGION2</cp:lastModifiedBy>
  <dcterms:modified xsi:type="dcterms:W3CDTF">2016-01-14T10:46:12Z</dcterms:modified>
  <cp:revision>58</cp:revision>
  <dc:subject>APPLICATIONS OF NMR IN MEDICINE</dc:subject>
  <dc:title>APPLICATIONS OF NMR IN MEDICINE</dc:title>
</cp:coreProperties>
</file>