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glas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F0ED-D173-4988-9402-FB828ECD2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14C-9BFA-452E-81DC-8F7CF897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A34-06E8-4569-AC43-A8AE43BF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9AA-F0BD-4318-BED1-5AE8CAC6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58A-8029-4C28-968F-BA789E03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A45A-453C-4917-B3F0-625A3F1C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C7F3-9F98-4DEC-A1B6-79659695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C777-3BB7-4020-B95F-D9BF3544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02A7-E270-4463-BF86-40964B4A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825F-5A5D-4FD1-B99A-35CEA1F7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26E4-D32C-4922-957C-9B1B51ED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8B28-9FD4-4F36-90A4-9B76567F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07D-07D0-4EB4-9965-882BF78C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966F-E03B-45C5-8737-FC35CABC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4B05-8FD8-40AE-9D6D-01D08281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E23B-ADB2-4505-92D7-931B8A93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9307-6099-4F1C-99B7-33454761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3211-7E3A-4640-8E4F-2F259494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06E9E-E946-4B45-AB8C-49AAD0A2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AD8C-6444-49BC-9969-6A6EFD83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A9D0-1498-49C0-9B6D-E289660B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2484-A402-4D45-BD68-9B9AFC7F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FB3D-CF64-4572-BA5F-3DD6F0B7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A8E-FE2E-4282-A68F-21D26C36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00AE2-311C-411F-93E9-2EF03826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0DFF-8461-4915-9EBA-228F0C71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B2E8-153C-4B77-A2D5-C2C9781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C5B4-A67A-47C0-B8CA-513DA2B7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79A0-C8BE-4156-9402-65829859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56E46-7324-4341-9E5E-FC3886BF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CCF0-125C-41CD-834B-84FD578C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1A856-0E11-4E16-A4BB-3FA0C484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D242B-AFCF-45C5-B1EF-DE19F1CA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D07B86-CE42-46D3-9FA7-A9A36418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2DA-3CB8-43CD-B90E-637718BB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F8E16-7B84-4EBF-B5F9-796D5F21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BE33D-6298-499C-B88B-583473EB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D9731-3826-4A24-82C7-BC4EB396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9B04E9-D73D-4A1A-916B-221FCA2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103D5-6431-4860-A2B2-6113BBAC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B75E3-094B-4154-8F2F-FD521CA4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4EFE4-2D79-4DF8-A359-19BFD07B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5C54A-2FAF-4BC5-AFA0-679BDFAD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BCF87-A6A6-4AD4-BBC3-D18BFBA0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833-1494-4695-BD84-B4200E87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321-7BBE-4B39-8478-2D8E7BA4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645-7997-49F2-BEE2-105D9C0F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BD7-C04F-4531-A8FE-7A1B14FD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6C0-F3AD-446C-8E8A-B8793A35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EF08-B4E2-41B6-8C85-A91E2B483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AD28-0E38-42A5-B056-3C1E432B75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8F66-D5E9-4B24-84F9-851791D29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BF45-BDA1-4969-9851-0DCE1B55C3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3babd"/>
                </a:solidFill>
                <a:uFillTx/>
                <a:latin typeface="Arial"/>
              </a:rPr>
              <a:t>NUCLEAR MAGNETIC RESONANCE SPECTROSCOPY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62120" y="24382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n ideal tool for Diagnosis &amp;     Drug Desig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efb"/>
                </a:solidFill>
                <a:uFillTx/>
                <a:latin typeface="Arial"/>
              </a:rPr>
              <a:t>B. HASEENA BAN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fb"/>
                </a:solidFill>
                <a:latin typeface="Arial"/>
              </a:rPr>
              <a:t>Asst.Professor,SriPadmavathi School of Pharmacy,Tiruchanoor,Tirup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IN PHARMACEUTICAL RESEAR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ing technology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or 3-D structure   determina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bio-macromolec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udying protein struc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R by NM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ovel lead compoun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 shift mapping – Structural information on the binding modes and site posi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lecular dynamics, conformational analy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AP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MR – SOL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ahoma"/>
              </a:rPr>
              <a:t>Structural genomic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dentifying gene products in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s of drug des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Development of Novel drug delivery sys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Tahoma"/>
              </a:rPr>
              <a:t>Enhancing HTS ass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ousands of compou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yogenic NMR technology / cryopr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Nobel Prize Laure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4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hostern, USA – Discovery of magnetic moment of pro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5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sidorJ. Rafi,USA – Discovery of new methods for nuclear magnetic pr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Felix Bloch, USA and Edward M. Purcell, USA – Methodology of high resolution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Kurt Wuthrich, Switzerland – Determining 3-D Structure by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Medicine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aul C. Lauterbur, USA and Peter Mans field, U.K. – Discoveries concerning M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e12d6"/>
                </a:solidFill>
                <a:latin typeface="Arial"/>
              </a:rPr>
              <a:t>THANKING YOU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e158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INTRODUCT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ASIC PRINCIPL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IFFERENT TECHNIQU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APPLICATIONS OF NMR IN MEDICIN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LINICAL APPLICATIONS IN DIAGNOSI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RUG DEVELOPMEN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NMR Nobel prize laureat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12d6"/>
                </a:solidFill>
                <a:latin typeface="Tahoma"/>
              </a:rPr>
              <a:t>BASIC PRINCIPLE  IN NM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clei – tiny mag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xternal magnetic field - allign or op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rradiated with EMR of proper frequency – Re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√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2e12d6"/>
                </a:solidFill>
                <a:latin typeface="Tahoma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emical shif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pin lattice relaxa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9008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00"/>
                </a:solidFill>
                <a:latin typeface="Arial"/>
              </a:rPr>
              <a:t>DIFFERENT TECHNIQUES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nucle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P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3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5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O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7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W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T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D_NMR &amp;3D_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Y _CORRELATION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RI_MAGNETIC RESONANCE IMAG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R_ELECTRON SPIN RESONANCE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e12d6"/>
                </a:solidFill>
                <a:latin typeface="Arial"/>
              </a:rPr>
              <a:t>APPLICATIONS OF NMR IN MEDICINE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APPLICATION OF PRO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IN DIA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ing gray matter &amp; white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posterior fossae, brain stem, spi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demyelinating lesions, tumor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rrhages, infar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ABD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c liver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liver iron over load in hemochromat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al areas of inflammation in chronic active hepat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KIDN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inguishing renal cortex &amp; medu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evaluate transplanted 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s between  Benign prostatic hyperplasia   &amp; prostatic carcin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s bladder tum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MEDIASTINUM, HILUM, LUNG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ssessing 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Respiratory gat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HEAR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mographic images of heart muscle, chambers, valvular structur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CHO-PLANAR TECHN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iscrimination between infarcted, ischemic &amp; normal myocardiu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BREAS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3D-NMR &amp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ingle-slice planar imaging in detecting breast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Tahoma"/>
              </a:rPr>
              <a:t>MUSCULO SKELETAL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monstrates Osteo  myelitis, tumor metastasis i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tebral bodies &amp; pelvic bon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ages of muscles, tendons, liga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BLOOD VESSELS &amp; 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rosclerotic vascular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ss blood flow in major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INVIVO SPECTROSCOP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shift phenomen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agnosis of rare disease to inborn errors-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Mc Ardle’s syndrom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INVIVO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alysis of Bone flouride cont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33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61ce4"/>
                </a:solidFill>
                <a:latin typeface="Arial"/>
              </a:rPr>
              <a:t>PUTTING  NMR  IMAGING INTO   PERSPECTIVE</a:t>
            </a: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iminates risk of x-rad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lent spatial &amp; contras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cting diseases at earlier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06:39Z</dcterms:created>
  <dc:creator>Reddy</dc:creator>
  <dc:description>APPLICATIONS OF NMR IN MEDICINE</dc:description>
  <cp:keywords>APPLICATIONS OF NMR IN MEDICINE</cp:keywords>
  <dc:language>en-US</dc:language>
  <cp:lastModifiedBy>LEGION2</cp:lastModifiedBy>
  <dcterms:modified xsi:type="dcterms:W3CDTF">2016-01-14T10:46:12Z</dcterms:modified>
  <cp:revision>58</cp:revision>
  <dc:subject>APPLICATIONS OF NMR IN MEDICINE</dc:subject>
  <dc:title>APPLICATIONS OF NMR IN MEDICINE</dc:title>
</cp:coreProperties>
</file>