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9.wmf" ContentType="image/x-wmf"/>
  <Override PartName="/ppt/media/image30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3.wmf" ContentType="image/x-wmf"/>
  <Override PartName="/ppt/media/image13.png" ContentType="image/png"/>
  <Override PartName="/ppt/media/image34.wmf" ContentType="image/x-wmf"/>
  <Override PartName="/ppt/media/image36.wmf" ContentType="image/x-wmf"/>
  <Override PartName="/ppt/media/image42.wmf" ContentType="image/x-wmf"/>
  <Override PartName="/ppt/media/image9.png" ContentType="image/png"/>
  <Override PartName="/ppt/media/image37.wmf" ContentType="image/x-wmf"/>
  <Override PartName="/ppt/media/image43.wmf" ContentType="image/x-wmf"/>
  <Override PartName="/ppt/media/image44.wmf" ContentType="image/x-wmf"/>
  <Override PartName="/ppt/media/image41.wmf" ContentType="image/x-wmf"/>
  <Override PartName="/ppt/media/image8.png" ContentType="image/png"/>
  <Override PartName="/ppt/media/image12.png" ContentType="image/png"/>
  <Override PartName="/ppt/media/image40.wmf" ContentType="image/x-wmf"/>
  <Override PartName="/ppt/media/image7.png" ContentType="image/png"/>
  <Override PartName="/ppt/media/image11.png" ContentType="image/png"/>
  <Override PartName="/ppt/media/image38.wmf" ContentType="image/x-wmf"/>
  <Override PartName="/ppt/media/image4.jpeg" ContentType="image/jpeg"/>
  <Override PartName="/ppt/media/image32.png" ContentType="image/png"/>
  <Override PartName="/ppt/media/image2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E8A6-AC93-48C9-B2D8-F455B1D1BA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and Y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you need to keep you healt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and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you need to keep you heal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each of the 6 food groups every day for best 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ps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each of the 6 food groups every day for best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ps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are breads and ce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e and pasta are also from g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s need 6 serving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s are breads and cere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e and pasta are also from 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s need 6 servings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 are carrots, corn, broccoli, beans, peppers, tomatoes, spinach, lettuce, cabbage, and squ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need 2½ cups of vegetables every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getables are carrots, corn, broccoli, beans, peppers, tomatoes, spinach, lettuce, cabbage, and squ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need 2½ cups of vegetables every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 include apples, oranges, pineapple, strawberries, mangoes, kiwi, pears, peaches, and apricots – but there are many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1 ½ cups of fruit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 include apples, oranges, pineapple, strawberries, mangoes, kiwi, pears, peaches, and apricots – but there are many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1 ½ cups of fruit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, yogurt and cheese build strong teeth and b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3 cups or serving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 and Che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k, yogurt and cheese build strong teeth and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3 cups or servings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and beans build strong muscles and b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can be beef, pork, chicken, fish and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eggs are in this group,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and B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and beans build strong muscles and b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can be beef, pork, chicken, fish and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eggs are in this group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ter, margarine, salad dressing and fried foo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mostly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good in small amounts -  don’t get the large fri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ter, margarine, salad dressing and fried foo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mostly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good in small amounts -  don’t get the large fr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healthy to stay healt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swe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fried and fatty f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ots of veggies and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mi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every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’re on your wa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healthy to stay heal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swe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fried and fatty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ots of veggies and 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nk lot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every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’re on your w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BF27-A862-47CE-A0CF-CC1D8460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DD0C-E919-41EB-9967-7EFE34C6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9E2A-68B0-43C9-B2FA-0D62DB4B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8FD3-018B-471B-8B64-ACBAB92C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BB9D-2467-441F-95C8-4D91A3B7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B31D-5B1A-4A33-8744-99FF071E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1339-92CF-46F2-872C-6F08FCF8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639F-6131-4DE2-8ED7-32E6DC69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40BB-3A3D-4093-A442-54AFFF18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9D64-CB92-453D-95CA-C313CEE4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C1EE-BE84-4792-BD32-189BF2A8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C3A4-86F4-4A6D-AA6B-FA91B187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F5DE-3CB9-4F5D-91CE-8A0102EF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D4A3-15E0-481A-BFF5-68F2B741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4F74-2EBD-4E07-B1D5-DDC42324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1F2A-CA3B-49F1-AA23-7E436387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EDE0-C471-42EB-A3B4-995977B0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1F0B3-B14F-482E-B6E2-70016B23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5D83B-FCD7-48AE-9A83-0AF38EC3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F97AA-701C-4C9A-A797-5091D77D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94DEE-BB40-4417-A4EE-26A9947C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B3FA8-5B2C-49F6-8B24-C3ECBDF3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AD54-9CC8-4B86-BF2D-2A7AA17C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33196-10AE-479D-A918-2AF8D06F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3192B-CEB6-4760-9E81-01A5D3C0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E9E97-C27D-4E8C-93DE-F0F10361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87822-FFA2-4DF2-8750-7B78E295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368BD-76E3-47C7-8A81-C40329C8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A7A6B-777C-422B-88B4-D4495069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0C52C-EC6C-4C7A-B3F4-8C99309F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939BD-4A27-4F8B-9605-59E529F3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9CBF3-B480-4477-B019-9DA1C526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EE8DE-F468-44F0-B63A-44DBD4F5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0089-24BA-4EA0-ABE1-B894A24F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BB929-3F2A-4EC3-B54B-5FDFA03F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8240B-40EC-4327-BCB2-18707969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B6208-5900-4317-BBB5-AEA17B4F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FE095-873D-49E9-B289-38D5ACA5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39DE5-6416-4665-ABFD-383614D0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9BDA0-D220-4B48-AABA-B646DE93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D2238-B5AE-4D45-A4DA-E4D30B6B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53AC2-20B6-4AD8-9217-1F6F8142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5648C-85AF-49C9-981A-9F5ECB46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3DE9-A5A7-46F1-859A-FF7D1F01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C509-02F2-40D6-A1B6-0AD9A642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14AD-50CE-4A8B-9981-6C13F90C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6AB9-9F07-43EB-BCE3-CAC77E88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F182-1A1D-43DC-A8A5-FE5E136E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4B4E-500E-495F-8334-99724902139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173B-E69A-40D4-9C7C-87D0895A782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D9BC-ABA8-4B01-9E44-4B17AFBCBA2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63DD-6CF6-498E-84D5-BA26C8AC186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you need to keep you health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2" descr="C:\Documents and Settings\carolyn.kinne\Local Settings\Temporary Internet Files\Content.IE5\60TCN93U\MCj04380710000[1].png"/>
          <p:cNvPicPr/>
          <p:nvPr/>
        </p:nvPicPr>
        <p:blipFill>
          <a:blip r:embed="rId2"/>
          <a:stretch/>
        </p:blipFill>
        <p:spPr>
          <a:xfrm>
            <a:off x="0" y="2819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carolyn.kinne\Local Settings\Temporary Internet Files\Content.IE5\E2LUDJLQ\MCj04369000000[1].png"/>
          <p:cNvPicPr/>
          <p:nvPr/>
        </p:nvPicPr>
        <p:blipFill>
          <a:blip r:embed="rId3"/>
          <a:stretch/>
        </p:blipFill>
        <p:spPr>
          <a:xfrm>
            <a:off x="-152280" y="46483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C:\Documents and Settings\carolyn.kinne\Local Settings\Temporary Internet Files\Content.IE5\XKKQW3N2\MCj04368970000[1].png"/>
          <p:cNvPicPr/>
          <p:nvPr/>
        </p:nvPicPr>
        <p:blipFill>
          <a:blip r:embed="rId4"/>
          <a:stretch/>
        </p:blipFill>
        <p:spPr>
          <a:xfrm>
            <a:off x="3276720" y="48769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C:\Documents and Settings\carolyn.kinne\Local Settings\Temporary Internet Files\Content.IE5\MNV8FF4K\MCj04369070000[1].png"/>
          <p:cNvPicPr/>
          <p:nvPr/>
        </p:nvPicPr>
        <p:blipFill>
          <a:blip r:embed="rId5"/>
          <a:stretch/>
        </p:blipFill>
        <p:spPr>
          <a:xfrm>
            <a:off x="7238880" y="3581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C:\Documents and Settings\carolyn.kinne\Local Settings\Temporary Internet Files\Content.IE5\E2LUDJLQ\MCj04369030000[1].png"/>
          <p:cNvPicPr/>
          <p:nvPr/>
        </p:nvPicPr>
        <p:blipFill>
          <a:blip r:embed="rId6"/>
          <a:stretch/>
        </p:blipFill>
        <p:spPr>
          <a:xfrm>
            <a:off x="6781680" y="7621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C:\Documents and Settings\carolyn.kinne\Local Settings\Temporary Internet Files\Content.IE5\60TCN93U\MCj04368990000[1].png"/>
          <p:cNvPicPr/>
          <p:nvPr/>
        </p:nvPicPr>
        <p:blipFill>
          <a:blip r:embed="rId7"/>
          <a:stretch/>
        </p:blipFill>
        <p:spPr>
          <a:xfrm>
            <a:off x="380880" y="9144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C:\Documents and Settings\carolyn.kinne\Local Settings\Temporary Internet Files\Content.IE5\E2LUDJLQ\MCj04363570000[1].png"/>
          <p:cNvPicPr/>
          <p:nvPr/>
        </p:nvPicPr>
        <p:blipFill>
          <a:blip r:embed="rId8"/>
          <a:stretch/>
        </p:blipFill>
        <p:spPr>
          <a:xfrm>
            <a:off x="1447920" y="43434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C:\Documents and Settings\carolyn.kinne\Local Settings\Temporary Internet Files\Content.IE5\XKKQW3N2\MCj04369060000[1].png"/>
          <p:cNvPicPr/>
          <p:nvPr/>
        </p:nvPicPr>
        <p:blipFill>
          <a:blip r:embed="rId9"/>
          <a:stretch/>
        </p:blipFill>
        <p:spPr>
          <a:xfrm>
            <a:off x="2362320" y="7621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C:\Documents and Settings\carolyn.kinne\Local Settings\Temporary Internet Files\Content.IE5\MNV8FF4K\MCj04368960000[1].png"/>
          <p:cNvPicPr/>
          <p:nvPr/>
        </p:nvPicPr>
        <p:blipFill>
          <a:blip r:embed="rId10"/>
          <a:stretch/>
        </p:blipFill>
        <p:spPr>
          <a:xfrm>
            <a:off x="4343400" y="6858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C:\Documents and Settings\carolyn.kinne\Local Settings\Temporary Internet Files\Content.IE5\E2LUDJLQ\MCj04369090000[1].png"/>
          <p:cNvPicPr/>
          <p:nvPr/>
        </p:nvPicPr>
        <p:blipFill>
          <a:blip r:embed="rId11"/>
          <a:stretch/>
        </p:blipFill>
        <p:spPr>
          <a:xfrm>
            <a:off x="4495680" y="3733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C:\Documents and Settings\carolyn.kinne\Local Settings\Temporary Internet Files\Content.IE5\60TCN93U\MCj04369110000[1].png"/>
          <p:cNvPicPr/>
          <p:nvPr/>
        </p:nvPicPr>
        <p:blipFill>
          <a:blip r:embed="rId12"/>
          <a:stretch/>
        </p:blipFill>
        <p:spPr>
          <a:xfrm>
            <a:off x="5867280" y="49528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od Group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each of the 6 food groups every day for best nutr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groups are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nstantia"/>
              </a:rPr>
              <a:t>Grain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nstantia"/>
              </a:rPr>
              <a:t>Veget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Frui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Milk and chee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onstantia"/>
              </a:rPr>
              <a:t>Oil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Meat and bea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3" descr="C:\Documents and Settings\carolyn.kinne\Local Settings\Temporary Internet Files\Content.IE5\XKKQW3N2\MCj04109690000[1].wmf"/>
          <p:cNvPicPr/>
          <p:nvPr/>
        </p:nvPicPr>
        <p:blipFill>
          <a:blip r:embed="rId1"/>
          <a:stretch/>
        </p:blipFill>
        <p:spPr>
          <a:xfrm>
            <a:off x="4572000" y="2971800"/>
            <a:ext cx="37479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ff6600"/>
                </a:solidFill>
                <a:latin typeface="Calibri"/>
              </a:rPr>
              <a:t>Grai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ains are breads and cere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ice and pasta are also from gr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ids need 6 servings a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C:\Documents and Settings\carolyn.kinne\Local Settings\Temporary Internet Files\Content.IE5\MNV8FF4K\MCj02155230000[1].wmf"/>
          <p:cNvPicPr/>
          <p:nvPr/>
        </p:nvPicPr>
        <p:blipFill>
          <a:blip r:embed="rId1"/>
          <a:stretch/>
        </p:blipFill>
        <p:spPr>
          <a:xfrm>
            <a:off x="990720" y="4724280"/>
            <a:ext cx="2485800" cy="1103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C:\Documents and Settings\carolyn.kinne\Local Settings\Temporary Internet Files\Content.IE5\MNV8FF4K\MCj02334950000[1].wmf"/>
          <p:cNvPicPr/>
          <p:nvPr/>
        </p:nvPicPr>
        <p:blipFill>
          <a:blip r:embed="rId2"/>
          <a:stretch/>
        </p:blipFill>
        <p:spPr>
          <a:xfrm>
            <a:off x="4800600" y="4572000"/>
            <a:ext cx="2232000" cy="1727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C:\Documents and Settings\carolyn.kinne\Local Settings\Temporary Internet Files\Content.IE5\XKKQW3N2\MCj02813270000[1].wmf"/>
          <p:cNvPicPr/>
          <p:nvPr/>
        </p:nvPicPr>
        <p:blipFill>
          <a:blip r:embed="rId3"/>
          <a:stretch/>
        </p:blipFill>
        <p:spPr>
          <a:xfrm>
            <a:off x="6248520" y="1676520"/>
            <a:ext cx="17064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b050"/>
                </a:solidFill>
                <a:latin typeface="Calibri"/>
              </a:rPr>
              <a:t>Veget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egetables are carrots, corn, broccoli, beans, peppers, tomatoes, spinach, lettuce, cabbage, and squas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2½ cups of vegetables every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3" descr="C:\Documents and Settings\carolyn.kinne\Local Settings\Temporary Internet Files\Content.IE5\XKKQW3N2\MCj04301290000[1].wmf"/>
          <p:cNvPicPr/>
          <p:nvPr/>
        </p:nvPicPr>
        <p:blipFill>
          <a:blip r:embed="rId1"/>
          <a:stretch/>
        </p:blipFill>
        <p:spPr>
          <a:xfrm>
            <a:off x="4114800" y="4648320"/>
            <a:ext cx="1835280" cy="1447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C:\Documents and Settings\carolyn.kinne\Local Settings\Temporary Internet Files\Content.IE5\E2LUDJLQ\MCj02961510000[1].wmf"/>
          <p:cNvPicPr/>
          <p:nvPr/>
        </p:nvPicPr>
        <p:blipFill>
          <a:blip r:embed="rId2"/>
          <a:stretch/>
        </p:blipFill>
        <p:spPr>
          <a:xfrm>
            <a:off x="6477120" y="3886200"/>
            <a:ext cx="2360520" cy="220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C:\Documents and Settings\carolyn.kinne\Local Settings\Temporary Internet Files\Content.IE5\E2LUDJLQ\MCj02378780000[1].wmf"/>
          <p:cNvPicPr/>
          <p:nvPr/>
        </p:nvPicPr>
        <p:blipFill>
          <a:blip r:embed="rId3"/>
          <a:stretch/>
        </p:blipFill>
        <p:spPr>
          <a:xfrm>
            <a:off x="762120" y="3657600"/>
            <a:ext cx="28130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Frui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uits include apples, oranges, pineapple, strawberries, mangoes, kiwi, pears, peaches, and apricots – but there are many m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1 ½ cups of fruit a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3" descr="C:\Documents and Settings\carolyn.kinne\Local Settings\Temporary Internet Files\Content.IE5\XKKQW3N2\MCj04300510000[1].wmf"/>
          <p:cNvPicPr/>
          <p:nvPr/>
        </p:nvPicPr>
        <p:blipFill>
          <a:blip r:embed="rId1"/>
          <a:stretch/>
        </p:blipFill>
        <p:spPr>
          <a:xfrm>
            <a:off x="838080" y="4038480"/>
            <a:ext cx="1828800" cy="2000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C:\Documents and Settings\carolyn.kinne\Local Settings\Temporary Internet Files\Content.IE5\XKKQW3N2\MCj04125180000[1].wmf"/>
          <p:cNvPicPr/>
          <p:nvPr/>
        </p:nvPicPr>
        <p:blipFill>
          <a:blip r:embed="rId2"/>
          <a:stretch/>
        </p:blipFill>
        <p:spPr>
          <a:xfrm>
            <a:off x="3124080" y="4419720"/>
            <a:ext cx="2176560" cy="1698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C:\Documents and Settings\carolyn.kinne\Local Settings\Temporary Internet Files\Content.IE5\XKKQW3N2\MCj04368910000[1].png"/>
          <p:cNvPicPr/>
          <p:nvPr/>
        </p:nvPicPr>
        <p:blipFill>
          <a:blip r:embed="rId3"/>
          <a:stretch/>
        </p:blipFill>
        <p:spPr>
          <a:xfrm>
            <a:off x="6934320" y="152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C:\Documents and Settings\carolyn.kinne\Local Settings\Temporary Internet Files\Content.IE5\MNV8FF4K\MCj04369140000[1].png"/>
          <p:cNvPicPr/>
          <p:nvPr/>
        </p:nvPicPr>
        <p:blipFill>
          <a:blip r:embed="rId4"/>
          <a:stretch/>
        </p:blipFill>
        <p:spPr>
          <a:xfrm>
            <a:off x="2057400" y="2286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C:\Documents and Settings\carolyn.kinne\Local Settings\Temporary Internet Files\Content.IE5\MNV8FF4K\MCj04368980000[1].png"/>
          <p:cNvPicPr/>
          <p:nvPr/>
        </p:nvPicPr>
        <p:blipFill>
          <a:blip r:embed="rId5"/>
          <a:stretch/>
        </p:blipFill>
        <p:spPr>
          <a:xfrm>
            <a:off x="4495680" y="304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C:\Documents and Settings\carolyn.kinne\Local Settings\Temporary Internet Files\Content.IE5\E2LUDJLQ\MCj04369040000[1].png"/>
          <p:cNvPicPr/>
          <p:nvPr/>
        </p:nvPicPr>
        <p:blipFill>
          <a:blip r:embed="rId6"/>
          <a:stretch/>
        </p:blipFill>
        <p:spPr>
          <a:xfrm>
            <a:off x="6858000" y="26668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C:\Documents and Settings\carolyn.kinne\Local Settings\Temporary Internet Files\Content.IE5\E2LUDJLQ\MCj04368920000[1].png"/>
          <p:cNvPicPr/>
          <p:nvPr/>
        </p:nvPicPr>
        <p:blipFill>
          <a:blip r:embed="rId7"/>
          <a:stretch/>
        </p:blipFill>
        <p:spPr>
          <a:xfrm>
            <a:off x="6781680" y="4876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C:\Documents and Settings\carolyn.kinne\Local Settings\Temporary Internet Files\Content.IE5\60TCN93U\MCj04368930000[1].png"/>
          <p:cNvPicPr/>
          <p:nvPr/>
        </p:nvPicPr>
        <p:blipFill>
          <a:blip r:embed="rId8"/>
          <a:stretch/>
        </p:blipFill>
        <p:spPr>
          <a:xfrm>
            <a:off x="5638680" y="39625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lk and Chee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lk, yogurt and cheese build strong teeth and b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3 cups or servings a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5" descr="C:\Documents and Settings\carolyn.kinne\Local Settings\Temporary Internet Files\Content.IE5\E2LUDJLQ\MCFD00893_0000[1].wmf"/>
          <p:cNvPicPr/>
          <p:nvPr/>
        </p:nvPicPr>
        <p:blipFill>
          <a:blip r:embed="rId1"/>
          <a:stretch/>
        </p:blipFill>
        <p:spPr>
          <a:xfrm>
            <a:off x="2209680" y="3124080"/>
            <a:ext cx="378648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00000"/>
                </a:solidFill>
                <a:latin typeface="Calibri"/>
              </a:rPr>
              <a:t>Meat and Bea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ats and beans build strong muscles and br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ats can be beef, pork, chicken, fish and m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anut butter and eggs are in this group, to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2" descr="C:\Documents and Settings\carolyn.kinne\Local Settings\Temporary Internet Files\Content.IE5\60TCN93U\MCj04130240000[1].wmf"/>
          <p:cNvPicPr/>
          <p:nvPr/>
        </p:nvPicPr>
        <p:blipFill>
          <a:blip r:embed="rId1"/>
          <a:stretch/>
        </p:blipFill>
        <p:spPr>
          <a:xfrm>
            <a:off x="152280" y="4724280"/>
            <a:ext cx="3238560" cy="1570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C:\Documents and Settings\carolyn.kinne\Local Settings\Temporary Internet Files\Content.IE5\XKKQW3N2\MCj04363360000[1].png"/>
          <p:cNvPicPr/>
          <p:nvPr/>
        </p:nvPicPr>
        <p:blipFill>
          <a:blip r:embed="rId2"/>
          <a:stretch/>
        </p:blipFill>
        <p:spPr>
          <a:xfrm>
            <a:off x="4038480" y="4724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C:\Documents and Settings\carolyn.kinne\Local Settings\Temporary Internet Files\Content.IE5\E2LUDJLQ\MCj02904780000[1].wmf"/>
          <p:cNvPicPr/>
          <p:nvPr/>
        </p:nvPicPr>
        <p:blipFill>
          <a:blip r:embed="rId3"/>
          <a:stretch/>
        </p:blipFill>
        <p:spPr>
          <a:xfrm>
            <a:off x="1981080" y="4114800"/>
            <a:ext cx="1967040" cy="723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C:\Documents and Settings\carolyn.kinne\Local Settings\Temporary Internet Files\Content.IE5\60TCN93U\MCj02904810000[1].wmf"/>
          <p:cNvPicPr/>
          <p:nvPr/>
        </p:nvPicPr>
        <p:blipFill>
          <a:blip r:embed="rId4"/>
          <a:stretch/>
        </p:blipFill>
        <p:spPr>
          <a:xfrm>
            <a:off x="685800" y="3276720"/>
            <a:ext cx="1447920" cy="1174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C:\Documents and Settings\carolyn.kinne\Local Settings\Temporary Internet Files\Content.IE5\XKKQW3N2\MCj02904800000[1].wmf"/>
          <p:cNvPicPr/>
          <p:nvPr/>
        </p:nvPicPr>
        <p:blipFill>
          <a:blip r:embed="rId5"/>
          <a:stretch/>
        </p:blipFill>
        <p:spPr>
          <a:xfrm>
            <a:off x="6172200" y="4952880"/>
            <a:ext cx="1374840" cy="1406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C:\Documents and Settings\carolyn.kinne\Local Settings\Temporary Internet Files\Content.IE5\60TCN93U\MCj04125000000[1].wmf"/>
          <p:cNvPicPr/>
          <p:nvPr/>
        </p:nvPicPr>
        <p:blipFill>
          <a:blip r:embed="rId6"/>
          <a:stretch/>
        </p:blipFill>
        <p:spPr>
          <a:xfrm>
            <a:off x="6172200" y="3809880"/>
            <a:ext cx="2292480" cy="936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C:\Documents and Settings\carolyn.kinne\Local Settings\Temporary Internet Files\Content.IE5\60TCN93U\MCj02508190000[1].wmf"/>
          <p:cNvPicPr/>
          <p:nvPr/>
        </p:nvPicPr>
        <p:blipFill>
          <a:blip r:embed="rId7"/>
          <a:stretch/>
        </p:blipFill>
        <p:spPr>
          <a:xfrm>
            <a:off x="4038480" y="3505320"/>
            <a:ext cx="1774800" cy="1398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C:\Documents and Settings\carolyn.kinne\Local Settings\Temporary Internet Files\Content.IE5\XKKQW3N2\MCj02723620000[1].wmf"/>
          <p:cNvPicPr/>
          <p:nvPr/>
        </p:nvPicPr>
        <p:blipFill>
          <a:blip r:embed="rId8"/>
          <a:stretch/>
        </p:blipFill>
        <p:spPr>
          <a:xfrm>
            <a:off x="6172200" y="380880"/>
            <a:ext cx="18874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000"/>
                </a:solidFill>
                <a:latin typeface="Calibri"/>
              </a:rPr>
              <a:t>Oi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tter, margarine, salad dressing and fried food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e mostly oi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il is good in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smal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mounts -  don’t get the large fries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2" descr="C:\Documents and Settings\carolyn.kinne\Local Settings\Temporary Internet Files\Content.IE5\XKKQW3N2\MCj01993200000[1].wmf"/>
          <p:cNvPicPr/>
          <p:nvPr/>
        </p:nvPicPr>
        <p:blipFill>
          <a:blip r:embed="rId1"/>
          <a:stretch/>
        </p:blipFill>
        <p:spPr>
          <a:xfrm>
            <a:off x="380880" y="3962520"/>
            <a:ext cx="2595600" cy="1973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Documents and Settings\carolyn.kinne\Local Settings\Temporary Internet Files\Content.IE5\XKKQW3N2\MCFD00028_0000[1].wmf"/>
          <p:cNvPicPr/>
          <p:nvPr/>
        </p:nvPicPr>
        <p:blipFill>
          <a:blip r:embed="rId2"/>
          <a:stretch/>
        </p:blipFill>
        <p:spPr>
          <a:xfrm>
            <a:off x="3657600" y="3809880"/>
            <a:ext cx="1889280" cy="1870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C:\Documents and Settings\carolyn.kinne\Local Settings\Temporary Internet Files\Content.IE5\E2LUDJLQ\MCj04134480000[1].wmf"/>
          <p:cNvPicPr/>
          <p:nvPr/>
        </p:nvPicPr>
        <p:blipFill>
          <a:blip r:embed="rId3"/>
          <a:stretch/>
        </p:blipFill>
        <p:spPr>
          <a:xfrm>
            <a:off x="6248520" y="3657600"/>
            <a:ext cx="18316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b050"/>
                </a:solidFill>
                <a:latin typeface="Calibri"/>
              </a:rPr>
              <a:t>Eat healthy to stay health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cc"/>
                </a:solidFill>
                <a:latin typeface="Constantia"/>
              </a:rPr>
              <a:t>Limit swe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Limit fried and fatty foo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Constantia"/>
              </a:rPr>
              <a:t>Eat lots of veggies and frui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Drink lots of mil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Drink lots of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f0"/>
                </a:solidFill>
                <a:latin typeface="Constantia"/>
              </a:rPr>
              <a:t>EXERCISE every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90000"/>
              </a:lnSpc>
              <a:spcBef>
                <a:spcPts val="1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Constantia"/>
              </a:rPr>
              <a:t>Now you’re on your way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7:57:50Z</dcterms:created>
  <dc:creator>Ector County ISD Employee</dc:creator>
  <dc:description/>
  <dc:language>en-US</dc:language>
  <cp:lastModifiedBy>RomaK</cp:lastModifiedBy>
  <dcterms:modified xsi:type="dcterms:W3CDTF">2015-09-04T12:16:05Z</dcterms:modified>
  <cp:revision>34</cp:revision>
  <dc:subject/>
  <dc:title>Nutrition and You</dc:title>
</cp:coreProperties>
</file>