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7.jpeg" ContentType="image/jpeg"/>
  <Override PartName="/ppt/media/image12.jpeg" ContentType="image/jpeg"/>
  <Override PartName="/ppt/media/cashreg.wav" ContentType="audio/x-wav"/>
  <Override PartName="/ppt/media/image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drumroll.wav" ContentType="audio/x-wav"/>
  <Override PartName="/ppt/media/image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4086-414B-41F4-9613-2682B5810F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m: How can we describe the types of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trition in living things?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w: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What is nutrition?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Why do living things need nutrition?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How can we describe the type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tion in living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hat is nutri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hy do living things need nutrit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. Heterotrophic nutrition –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tero: other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ophic: (refers to feeding and nutrition)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ed by others.”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Heterotrophs: Organisms that eat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rganic compounds made by others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. Animals or animal-like protist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lled protozoa: amoeba, paramecium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o (first)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zoa (animal, zoo)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Heterotrophic nutrition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tero: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ophic: (refers to feeding and nutrition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d by others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eterotrophs: Organisms that e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ganic compounds made by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. Animals or animal-like pro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led protozoa: amoeba, paramec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o (firs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oa (animal, zo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amples of heterotroph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ramecium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amples of heter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ame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re heterotrophs…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heterotroph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bviously, a   _________________ 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terotroph!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viously, a   _________________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terotrop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re you a heterotroph?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ummary: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types of nutrition on Earth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. Autotrophic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phot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chem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. Heterotrophic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you a heterotro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types of nutrition on Eart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Autotroph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chem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Heterotro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trition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an organism gets food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nutrients,  organic compounds) and makes it available to the cells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trients: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ful portion of food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ugar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mino acid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fat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tarch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c Compounds =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OD!!!!!!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n organism gets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utrients,  organic compounds) and makes it available to the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ent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portion of foo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Compounds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TYPES OF NUTRITION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. Autotrophic  nutrition –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uto (self)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ophic (refers to feeding and nutrition)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“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elf feeding.”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Organisms that make their ow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organic compound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. Phot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TYPES OF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Autotrophic  nutrition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to (self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ophic (refers to feeding and nutr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f feeding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Organisms that make their ow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orga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.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Phot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  (light)  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nthesis  (creating, making)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Light is the source of energy for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the production of food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“Who?”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. Plant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  (light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hesis  (creating, ma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ght is the source of energy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the production of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“Who?”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utotrophs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totro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. Chemosynthesis –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o (chemical)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nthesis (creating, making)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Chemical activity is the source of energy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the production of organic compounds.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?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organisms in environments that do not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y on the sun to make food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. Deep sea organism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Chemosynthesis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 (chem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hesis (creating, ma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hemical activity is the source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production of organic compoun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rganisms in environments that do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y on the sun to make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Deep sea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ot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osynthetic nutrition - Deep sea tube worms and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rthropod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osynthetic nutrition - Deep sea tube worms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throp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far….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trition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totrophic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phot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. chem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totrophs –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sms that can make their own food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photosynthesis or chemosynthesis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far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i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chem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that can make their own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photosynthesis or chemosyn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751D-0A8E-412B-B1A7-F2E9D2FA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349D-EB99-4F8A-894C-B49592D5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1DEA-C740-4025-A6B8-2BFC1C792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0E83-2512-4E9C-8611-B7FA6AE42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397C-7574-43A4-8C10-28B567E94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2258-F5EC-4198-958F-D2FF646E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5BEF-3B24-4993-A1E2-9D1344B4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BD3D-79FA-4CB6-B92F-FFB1C880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A527-5A08-4659-BBF0-88908D13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90E1-1E55-4360-B1DB-E35FE52C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BAC0-1C47-46C8-889D-37BA199E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D2E9-1AD9-4900-B652-4419F155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51E9-335A-4A79-9034-DC329E98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E21A-92BF-4CFC-A220-85F79B9A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5D2E-1778-42D2-B60F-282CA0CB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F47E-661B-42CA-B537-53D0D7F2A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907E-12F0-4269-BC72-F9C762D86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0130-2F3E-4A2E-ABDA-3D5143EA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2DB6-F96D-4A30-BD2C-8BAC604B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159C-2974-442E-8037-974A8495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D108-8B23-43B6-8FA2-9BC22EDD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9D82-C58E-4E67-9143-53E95AAA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0F29-C93A-48BA-BF87-D6481842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18E9-7349-4682-AEAD-920112A1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7A74-A03A-4857-A83E-030B7A0A6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3F0B-5EA2-4EF1-99CA-32C5AE3029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hyperlink" Target="http://gw.d25.k12.id.us/phs/biology/ventlife.jpg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1584360" y="905040"/>
            <a:ext cx="626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i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How can we describe the types of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utrition in living things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 now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What is nutrition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Why do living things need nutrition?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380880" y="304920"/>
            <a:ext cx="8763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eterotrophic nutri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Hetero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ther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rophic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refers to feeding and nutrition)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ed by others.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Heterotrophs: Organisms that eat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rganic compound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made by other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. Animals or animal-like protis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lle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otozo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amoeba, paramecium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ro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first)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zo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animal, zoo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9" descr="Squirrel%20-%201027x768"/>
          <p:cNvPicPr/>
          <p:nvPr/>
        </p:nvPicPr>
        <p:blipFill>
          <a:blip r:embed="rId1"/>
          <a:stretch/>
        </p:blipFill>
        <p:spPr>
          <a:xfrm>
            <a:off x="228600" y="3276720"/>
            <a:ext cx="4419720" cy="3314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paramecium"/>
          <p:cNvPicPr/>
          <p:nvPr/>
        </p:nvPicPr>
        <p:blipFill>
          <a:blip r:embed="rId2"/>
          <a:stretch/>
        </p:blipFill>
        <p:spPr>
          <a:xfrm>
            <a:off x="4419720" y="838080"/>
            <a:ext cx="4724280" cy="2511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Tree%20Frog%20-%201024x768"/>
          <p:cNvPicPr/>
          <p:nvPr/>
        </p:nvPicPr>
        <p:blipFill>
          <a:blip r:embed="rId3"/>
          <a:stretch/>
        </p:blipFill>
        <p:spPr>
          <a:xfrm>
            <a:off x="4876920" y="388620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paramecium"/>
          <p:cNvPicPr/>
          <p:nvPr/>
        </p:nvPicPr>
        <p:blipFill>
          <a:blip r:embed="rId4"/>
          <a:stretch/>
        </p:blipFill>
        <p:spPr>
          <a:xfrm>
            <a:off x="228600" y="68580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2"/>
          <p:cNvSpPr/>
          <p:nvPr/>
        </p:nvSpPr>
        <p:spPr>
          <a:xfrm>
            <a:off x="2364480" y="0"/>
            <a:ext cx="40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amples of heterotroph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1221840" y="914400"/>
            <a:ext cx="209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ramecium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9-765852"/>
          <p:cNvPicPr/>
          <p:nvPr/>
        </p:nvPicPr>
        <p:blipFill>
          <a:blip r:embed="rId1"/>
          <a:stretch/>
        </p:blipFill>
        <p:spPr>
          <a:xfrm>
            <a:off x="2666880" y="785880"/>
            <a:ext cx="3810240" cy="52862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443520" y="219240"/>
            <a:ext cx="349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re heterotrophs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2"/>
          <p:cNvPicPr/>
          <p:nvPr/>
        </p:nvPicPr>
        <p:blipFill>
          <a:blip r:embed="rId1"/>
          <a:stretch/>
        </p:blipFill>
        <p:spPr>
          <a:xfrm>
            <a:off x="1676520" y="68580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1"/>
          <p:cNvSpPr/>
          <p:nvPr/>
        </p:nvSpPr>
        <p:spPr>
          <a:xfrm>
            <a:off x="302760" y="0"/>
            <a:ext cx="555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bviously, a   _________________ 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terotroph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802440" y="533520"/>
            <a:ext cx="5324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e you a heterotroph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ummar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 types of nutrition on Earth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Autotrophic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phot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chem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Heterotrophic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380880" y="762120"/>
            <a:ext cx="7178760" cy="67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utri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ow an organism gets food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utrients,  organic compound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 and makes it available to the cell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utrient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eful portion of food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suga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amino aci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f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starch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rganic Compound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OOD!!!!!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822240" y="295200"/>
            <a:ext cx="763596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2 TYPES OF NUTRI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utotrophic  nutri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u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self)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rophic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refers to feeding and nutrition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f feeding.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Organisms that make their ow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organic compound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ot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hem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304920" y="1461960"/>
            <a:ext cx="7619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ot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ho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light) 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ynthesi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creating, making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Light is the source of energy for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the production of food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“Who?”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. Plan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7" descr="280px-Colpfl27a"/>
          <p:cNvPicPr/>
          <p:nvPr/>
        </p:nvPicPr>
        <p:blipFill>
          <a:blip r:embed="rId1"/>
          <a:stretch/>
        </p:blipFill>
        <p:spPr>
          <a:xfrm>
            <a:off x="990720" y="1523880"/>
            <a:ext cx="2666880" cy="3552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9" descr="plant_photo_1"/>
          <p:cNvPicPr/>
          <p:nvPr/>
        </p:nvPicPr>
        <p:blipFill>
          <a:blip r:embed="rId2"/>
          <a:stretch/>
        </p:blipFill>
        <p:spPr>
          <a:xfrm>
            <a:off x="4724280" y="1676520"/>
            <a:ext cx="3429000" cy="31017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2"/>
          <p:cNvSpPr/>
          <p:nvPr/>
        </p:nvSpPr>
        <p:spPr>
          <a:xfrm>
            <a:off x="2520" y="0"/>
            <a:ext cx="203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utotroph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1358280" y="523800"/>
            <a:ext cx="716364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hemosynthesi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Chem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chemical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ynthesi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creating, making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Chemical activity is the source of energ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 the production of organic compounds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o?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organisms in environments that do not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ly on the sun to make food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. Deep sea organism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chemosynthesis"/>
          <p:cNvPicPr/>
          <p:nvPr/>
        </p:nvPicPr>
        <p:blipFill>
          <a:blip r:embed="rId1"/>
          <a:stretch/>
        </p:blipFill>
        <p:spPr>
          <a:xfrm>
            <a:off x="1523880" y="609480"/>
            <a:ext cx="6019920" cy="45151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1677600" y="5029200"/>
            <a:ext cx="24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ot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4573800" y="5029200"/>
            <a:ext cx="263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em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worm7"/>
          <p:cNvPicPr/>
          <p:nvPr/>
        </p:nvPicPr>
        <p:blipFill>
          <a:blip r:embed="rId1"/>
          <a:stretch/>
        </p:blipFill>
        <p:spPr>
          <a:xfrm>
            <a:off x="228600" y="0"/>
            <a:ext cx="3581280" cy="2530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wormdiscoveries"/>
          <p:cNvPicPr/>
          <p:nvPr/>
        </p:nvPicPr>
        <p:blipFill>
          <a:blip r:embed="rId2"/>
          <a:stretch/>
        </p:blipFill>
        <p:spPr>
          <a:xfrm>
            <a:off x="4343400" y="228600"/>
            <a:ext cx="3809880" cy="2735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arm2"/>
          <p:cNvPicPr/>
          <p:nvPr/>
        </p:nvPicPr>
        <p:blipFill>
          <a:blip r:embed="rId3"/>
          <a:stretch/>
        </p:blipFill>
        <p:spPr>
          <a:xfrm>
            <a:off x="0" y="2819520"/>
            <a:ext cx="4495680" cy="3068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ventlif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3352680"/>
            <a:ext cx="3733920" cy="24163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1"/>
          <p:cNvSpPr/>
          <p:nvPr/>
        </p:nvSpPr>
        <p:spPr>
          <a:xfrm>
            <a:off x="6480" y="5911920"/>
            <a:ext cx="833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hemosynthetic nutri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Deep sea tube worms and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thropo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1127160" y="295200"/>
            <a:ext cx="740736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 far….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utri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utotrophic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. phot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. chem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utotroph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ganisms that can make their own food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y photosynthesis or chemosynthesi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2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2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01:12:25Z</dcterms:created>
  <dc:creator>Michelle H. Feuer</dc:creator>
  <dc:description/>
  <dc:language>en-US</dc:language>
  <cp:lastModifiedBy>LEGION2</cp:lastModifiedBy>
  <dcterms:modified xsi:type="dcterms:W3CDTF">2016-01-14T10:57:37Z</dcterms:modified>
  <cp:revision>14</cp:revision>
  <dc:subject/>
  <dc:title>nutrition</dc:title>
</cp:coreProperties>
</file>