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drumroll.wav" ContentType="audio/x-wav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2012-3ED1-47D6-B13C-5FCA4F16F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How can we describe the types of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 in living things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What is nutrition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Why do living things need nutrition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can we describe the type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in living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nutr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y do living things need nutri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 nutrition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: other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: (refers to feeding and nutrition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ed by others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eterotrophs: Organisms that ea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ganic compounds made by other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Animals or animal-like protis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led protozoa: amoeba, paramecium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o (first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a (animal, zoo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 nutri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: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: (refers to feeding and nutri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d by other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eterotrophs: Organisms that 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c compounds made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Animals or animal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led protozoa: amoeba, parame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 (fir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a (animal, zo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heterotroph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of 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heterotrophs…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heterotroph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bviously, a   _________________ 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troph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viously, a   _________________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e you a heterotroph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 on Earth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you a heterotro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 on Ear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n organism gets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utrients,  organic compounds) and makes it available to the cell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ful portion of food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mino aci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at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tarch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c Compounds =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!!!!!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organism gets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utrients,  organic compounds) and makes it available to the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ortion of f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Compounds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 nutrition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 (self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 (refers to feeding and nutrition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lf feeding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organic compound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 nutri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 (sel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 (refers to feeding and nutr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feeding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orga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 (light)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the production of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Plan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 (light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the production of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trophs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o (chemical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hemical activity is the source of energy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production of organic compounds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rganisms in environments that do no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y on the sun to make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Deep sea organism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 (chem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hemical activity is the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duction of organic compou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rganisms in environments that do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y on the sun to make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Deep sea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tic nutrition - Deep sea tube worms an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thropo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tic nutrition - Deep sea tube worm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far….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s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ms that can make their own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photosynthesis or chemosynthesi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that can make their own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hotosynthesis or chem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D28-90DC-4017-9494-04ACC7D2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9EA-7D29-453D-A658-EC496982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F80-F4BC-4544-9DA6-13F6F936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167-30A0-4060-B6E8-3401C329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5AEF-95FE-448C-A4FC-6D3950F3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9AA1-5BFF-4AB6-A25A-922E2B33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469E-1FF1-4D67-8262-E538E966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FFCB-0C39-4098-B472-8FB9CAC3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D98B-B093-4CB5-B906-E82FB224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D271-247C-45C3-AA5B-E82A4063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0545-B450-4D94-8005-C694F6E6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414-FAF4-4363-A8F2-97EA6B5E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4284-78EF-4E0E-B642-DFB632B6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3CA2-5EE6-4995-8F1B-259824DD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4ECD-E3BB-41F6-BD10-6CD6191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FE37-94AE-466E-ABF4-13C981D3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A4AE-868E-4E59-B4C4-ABDEC42E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55E-555D-4DD4-BC87-EE998E95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5BA-C8A2-4CD4-BED0-ECA750B1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6BD-9DFB-4F25-BC33-64267C66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43B-B92A-40F3-8BE9-6E8E42A2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05D-1B4E-4996-811E-8662569C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331-6F10-460A-86C9-43F9304A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25E-14AC-44C7-9618-5EA8F130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2B43-FAF3-4045-A83F-DB2AAE1C7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408D-05C5-4821-8EA6-C8C3DC2D16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gw.d25.k12.id.us/phs/biology/ventlife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584360" y="90504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How can we describe the types of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in living thing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no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nutritio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Why do living things need nutrition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880" y="30492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terotroph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etero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 by others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eterotrophs: Organisms that ea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de by oth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Animals or animal-like protis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ozo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amoeba, paramecium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first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o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nimal, zoo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Squirrel%20-%201027x768"/>
          <p:cNvPicPr/>
          <p:nvPr/>
        </p:nvPicPr>
        <p:blipFill>
          <a:blip r:embed="rId1"/>
          <a:stretch/>
        </p:blipFill>
        <p:spPr>
          <a:xfrm>
            <a:off x="228600" y="3276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aramecium"/>
          <p:cNvPicPr/>
          <p:nvPr/>
        </p:nvPicPr>
        <p:blipFill>
          <a:blip r:embed="rId2"/>
          <a:stretch/>
        </p:blipFill>
        <p:spPr>
          <a:xfrm>
            <a:off x="4419720" y="838080"/>
            <a:ext cx="472428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Tree%20Frog%20-%201024x768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aramecium"/>
          <p:cNvPicPr/>
          <p:nvPr/>
        </p:nvPicPr>
        <p:blipFill>
          <a:blip r:embed="rId4"/>
          <a:stretch/>
        </p:blipFill>
        <p:spPr>
          <a:xfrm>
            <a:off x="228600" y="6858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2364480" y="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s of heterotroph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221840" y="91440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meci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9-765852"/>
          <p:cNvPicPr/>
          <p:nvPr/>
        </p:nvPicPr>
        <p:blipFill>
          <a:blip r:embed="rId1"/>
          <a:stretch/>
        </p:blipFill>
        <p:spPr>
          <a:xfrm>
            <a:off x="2666880" y="785880"/>
            <a:ext cx="3810240" cy="528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443520" y="21924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heterotrophs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676520" y="685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302760" y="0"/>
            <a:ext cx="55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viously, a   _________________ 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terotrop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802440" y="533520"/>
            <a:ext cx="532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you a heterotroph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types of nutrition on Earth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utotrophic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eterotroph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80880" y="762120"/>
            <a:ext cx="717876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an organism gets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,  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and makes it available to the cell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ful portion of food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ug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amino aci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f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tarc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OD!!!!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22240" y="295200"/>
            <a:ext cx="76359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 TYPES OF NUTRI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ic 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elf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 feeding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that make their ow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organic compou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04920" y="1461960"/>
            <a:ext cx="761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light)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Light is the source of energy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the production of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“Who?”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Pla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7" descr="280px-Colpfl27a"/>
          <p:cNvPicPr/>
          <p:nvPr/>
        </p:nvPicPr>
        <p:blipFill>
          <a:blip r:embed="rId1"/>
          <a:stretch/>
        </p:blipFill>
        <p:spPr>
          <a:xfrm>
            <a:off x="990720" y="1523880"/>
            <a:ext cx="2666880" cy="35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plant_photo_1"/>
          <p:cNvPicPr/>
          <p:nvPr/>
        </p:nvPicPr>
        <p:blipFill>
          <a:blip r:embed="rId2"/>
          <a:stretch/>
        </p:blipFill>
        <p:spPr>
          <a:xfrm>
            <a:off x="4724280" y="1676520"/>
            <a:ext cx="3429000" cy="310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2520" y="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358280" y="523800"/>
            <a:ext cx="71636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hemica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Chemical activity is the source of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production of organic compound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in environments that do no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y on the sun to make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Deep sea organis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emosynthesis"/>
          <p:cNvPicPr/>
          <p:nvPr/>
        </p:nvPicPr>
        <p:blipFill>
          <a:blip r:embed="rId1"/>
          <a:stretch/>
        </p:blipFill>
        <p:spPr>
          <a:xfrm>
            <a:off x="1523880" y="6094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677600" y="50292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3800" y="502920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worm7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253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wormdiscoveries"/>
          <p:cNvPicPr/>
          <p:nvPr/>
        </p:nvPicPr>
        <p:blipFill>
          <a:blip r:embed="rId2"/>
          <a:stretch/>
        </p:blipFill>
        <p:spPr>
          <a:xfrm>
            <a:off x="4343400" y="228600"/>
            <a:ext cx="380988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m2"/>
          <p:cNvPicPr/>
          <p:nvPr/>
        </p:nvPicPr>
        <p:blipFill>
          <a:blip r:embed="rId3"/>
          <a:stretch/>
        </p:blipFill>
        <p:spPr>
          <a:xfrm>
            <a:off x="0" y="281952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ventlif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352680"/>
            <a:ext cx="3733920" cy="2416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6480" y="591192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t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Deep sea tube worms an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thropo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27160" y="295200"/>
            <a:ext cx="7407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 far…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trophic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sms that can make their own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photosynthesis or chemosynthesi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12:25Z</dcterms:created>
  <dc:creator>Michelle H. Feuer</dc:creator>
  <dc:description/>
  <dc:language>en-US</dc:language>
  <cp:lastModifiedBy>LEGION2</cp:lastModifiedBy>
  <dcterms:modified xsi:type="dcterms:W3CDTF">2016-01-14T10:57:37Z</dcterms:modified>
  <cp:revision>14</cp:revision>
  <dc:subject/>
  <dc:title>nutrition</dc:title>
</cp:coreProperties>
</file>