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7.jpeg" ContentType="image/jpeg"/>
  <Override PartName="/ppt/media/image12.jpeg" ContentType="image/jpeg"/>
  <Override PartName="/ppt/media/cashreg.wav" ContentType="audio/x-wav"/>
  <Override PartName="/ppt/media/image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drumroll.wav" ContentType="audio/x-wav"/>
  <Override PartName="/ppt/media/image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960-D7E7-4613-B997-78A88F99F6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How can we describe the types of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 in living things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What is nutrition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Why do living things need nutrition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can we describe the type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 in living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nutri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y do living things need nutrit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 nutrition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: other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: (refers to feeding and nutrition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ed by others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Heterotrophs: Organisms that ea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rganic compounds made by other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Animals or animal-like protis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led protozoa: amoeba, paramecium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o (first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a (animal, zoo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 nutri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: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: (refers to feeding and nutritio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d by other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eterotrophs: Organisms that 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ganic compounds made by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Animals or animal-like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led protozoa: amoeba, parame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o (firs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a (animal, zo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s of heterotroph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s of heterotro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re heterotrophs…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heterotroph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bviously, a   _________________ 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terotroph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viously, a   _________________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terotrop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e you a heterotroph?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ummary: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 on Earth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. Heterotrophic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you a heterotro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 on Eart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an organism gets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nutrients,  organic compounds) and makes it available to the cell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ful portion of food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mino aci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at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tarch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c Compounds =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!!!!!!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organism gets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utrients,  organic compounds) and makes it available to the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ent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portion of foo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Compounds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 TYPES OF NUTRITION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Autotrophic  nutrition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 (self)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ophic (refers to feeding and nutrition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lf feeding.”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organic compound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TYPES OF NUTR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utotrophic  nutri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 (self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hic (refers to feeding and nutri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 feeding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Organisms that make their ow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organic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  (light)  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the production of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Plant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 (light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 is the source of energy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the production of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“Who?”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utotrophs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totro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 –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o (chemical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thesis (creating, making)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hemical activity is the source of energy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production of organic compounds.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?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rganisms in environments that do not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y on the sun to make food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. Deep sea organism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 (chem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thesis (creating, ma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hemical activity is the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production of organic compoun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rganisms in environments that do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y on the sun to make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Deep sea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osynthetic nutrition - Deep sea tube worms an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rthropod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osynthetic nutrition - Deep sea tube worm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 far….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trition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ic: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phot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. chemosynthesis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totrophs –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ms that can make their own food 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 photosynthesis or chemosynthesis.</a:t>
            </a: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far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tr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i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chem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that can make their own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photosynthesis or chemosy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EA93-2B77-49E8-BCFF-ADF3C0FB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17A-1F71-496E-9FA3-90A9CFB2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7A3C-7B5A-464C-B0E9-15BEB179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F65-F7F9-44FF-9793-1C9EDAB6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3437-C68F-4567-BEEF-A83206BF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C85B-D141-4221-9C91-65F0362C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F666-EA7A-4E36-BF7B-6987B2AD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2F5F-71D6-4234-B221-F4E4C23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9F7E-5550-4F2A-86CC-C5AF0379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1B3-B786-4EE7-990A-E2DAEF78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B0CE-7C78-4415-BA31-04A5578A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5D2-20C8-4154-BD48-B34D7FF5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9F3-FF2F-4227-B507-938479B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4F8F-C4AA-47E5-979C-EE49F5D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C9F3-79A2-4705-BA1F-08A2B43C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140A-13B0-4DC1-BF07-3BDFEA4F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3C41-9E15-4F18-8F97-9EE08FE6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3A4-BAAA-4091-9E70-90040575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6D2-FD63-4926-A9C2-5A4F8485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A21B-341C-4EE4-B86F-B53F02DE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966-5044-4CE4-92C0-097BB485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7F3C-1783-4943-A837-A4357AF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F7C-2D47-44E6-B2F8-F22DBADB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1464-ADF0-4439-99D6-8F15D30A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EEA6-C316-46D8-AB8D-3C6CF1BAD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2FE7-DA5A-482F-BEBF-1501B449C9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gw.d25.k12.id.us/phs/biology/ventlife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584360" y="905040"/>
            <a:ext cx="62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im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How can we describe the types of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in living things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now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nutrition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Why do living things need nutrition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80880" y="304920"/>
            <a:ext cx="8763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Heterotroph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Hetero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ther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ed by others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Heterotrophs: Organisms that ea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ade by other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Animals or animal-like protis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tozo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amoeba, paramecium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r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first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zo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animal, zoo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9" descr="Squirrel%20-%201027x768"/>
          <p:cNvPicPr/>
          <p:nvPr/>
        </p:nvPicPr>
        <p:blipFill>
          <a:blip r:embed="rId1"/>
          <a:stretch/>
        </p:blipFill>
        <p:spPr>
          <a:xfrm>
            <a:off x="228600" y="3276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paramecium"/>
          <p:cNvPicPr/>
          <p:nvPr/>
        </p:nvPicPr>
        <p:blipFill>
          <a:blip r:embed="rId2"/>
          <a:stretch/>
        </p:blipFill>
        <p:spPr>
          <a:xfrm>
            <a:off x="4419720" y="838080"/>
            <a:ext cx="4724280" cy="2511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Tree%20Frog%20-%201024x768"/>
          <p:cNvPicPr/>
          <p:nvPr/>
        </p:nvPicPr>
        <p:blipFill>
          <a:blip r:embed="rId3"/>
          <a:stretch/>
        </p:blipFill>
        <p:spPr>
          <a:xfrm>
            <a:off x="4876920" y="3886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aramecium"/>
          <p:cNvPicPr/>
          <p:nvPr/>
        </p:nvPicPr>
        <p:blipFill>
          <a:blip r:embed="rId4"/>
          <a:stretch/>
        </p:blipFill>
        <p:spPr>
          <a:xfrm>
            <a:off x="228600" y="685800"/>
            <a:ext cx="3962520" cy="2971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2364480" y="0"/>
            <a:ext cx="40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amples of heterotroph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1221840" y="91440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ramecium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9-765852"/>
          <p:cNvPicPr/>
          <p:nvPr/>
        </p:nvPicPr>
        <p:blipFill>
          <a:blip r:embed="rId1"/>
          <a:stretch/>
        </p:blipFill>
        <p:spPr>
          <a:xfrm>
            <a:off x="2666880" y="785880"/>
            <a:ext cx="3810240" cy="528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443520" y="2192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re heterotrophs…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"/>
          <p:cNvPicPr/>
          <p:nvPr/>
        </p:nvPicPr>
        <p:blipFill>
          <a:blip r:embed="rId1"/>
          <a:stretch/>
        </p:blipFill>
        <p:spPr>
          <a:xfrm>
            <a:off x="1676520" y="6858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302760" y="0"/>
            <a:ext cx="555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viously, a   _________________ 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eterotroph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802440" y="533520"/>
            <a:ext cx="5324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e you a heterotroph?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types of nutrition on Earth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utotrophic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Heterotrophic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80880" y="762120"/>
            <a:ext cx="7178760" cy="67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w an organism gets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,  organic compound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and makes it available to the cell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en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eful portion of food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ugar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amino aci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fat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starch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rganic Compound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OD!!!!!!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822240" y="295200"/>
            <a:ext cx="763596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2 TYPES OF NUTRITIO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ic 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Au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elf)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rophi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refers to feeding and nutrition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lf feeding.”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that make their ow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organic compound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304920" y="1461960"/>
            <a:ext cx="7619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Pho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light)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Light is the source of energy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the production of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“Who?”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Plant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7" descr="280px-Colpfl27a"/>
          <p:cNvPicPr/>
          <p:nvPr/>
        </p:nvPicPr>
        <p:blipFill>
          <a:blip r:embed="rId1"/>
          <a:stretch/>
        </p:blipFill>
        <p:spPr>
          <a:xfrm>
            <a:off x="990720" y="1523880"/>
            <a:ext cx="2666880" cy="3552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plant_photo_1"/>
          <p:cNvPicPr/>
          <p:nvPr/>
        </p:nvPicPr>
        <p:blipFill>
          <a:blip r:embed="rId2"/>
          <a:stretch/>
        </p:blipFill>
        <p:spPr>
          <a:xfrm>
            <a:off x="4724280" y="1676520"/>
            <a:ext cx="3429000" cy="31017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2"/>
          <p:cNvSpPr/>
          <p:nvPr/>
        </p:nvSpPr>
        <p:spPr>
          <a:xfrm>
            <a:off x="2520" y="0"/>
            <a:ext cx="20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358280" y="523800"/>
            <a:ext cx="71636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si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hemo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chemical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creating, making)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Chemical activity is the source of energy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r the production of organic compounds.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o?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organisms in environments that do not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ly on the sun to make food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. Deep sea organism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chemosynthesis"/>
          <p:cNvPicPr/>
          <p:nvPr/>
        </p:nvPicPr>
        <p:blipFill>
          <a:blip r:embed="rId1"/>
          <a:stretch/>
        </p:blipFill>
        <p:spPr>
          <a:xfrm>
            <a:off x="1523880" y="609480"/>
            <a:ext cx="6019920" cy="45151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1677600" y="5029200"/>
            <a:ext cx="24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573800" y="502920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worm7"/>
          <p:cNvPicPr/>
          <p:nvPr/>
        </p:nvPicPr>
        <p:blipFill>
          <a:blip r:embed="rId1"/>
          <a:stretch/>
        </p:blipFill>
        <p:spPr>
          <a:xfrm>
            <a:off x="228600" y="0"/>
            <a:ext cx="3581280" cy="253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wormdiscoveries"/>
          <p:cNvPicPr/>
          <p:nvPr/>
        </p:nvPicPr>
        <p:blipFill>
          <a:blip r:embed="rId2"/>
          <a:stretch/>
        </p:blipFill>
        <p:spPr>
          <a:xfrm>
            <a:off x="4343400" y="228600"/>
            <a:ext cx="3809880" cy="273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arm2"/>
          <p:cNvPicPr/>
          <p:nvPr/>
        </p:nvPicPr>
        <p:blipFill>
          <a:blip r:embed="rId3"/>
          <a:stretch/>
        </p:blipFill>
        <p:spPr>
          <a:xfrm>
            <a:off x="0" y="281952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ventlif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352680"/>
            <a:ext cx="3733920" cy="2416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6480" y="5911920"/>
            <a:ext cx="833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hemosynthetic 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Deep sea tube worms an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thropod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1127160" y="295200"/>
            <a:ext cx="740736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 far….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utri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utotrophic: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. phot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. chemosynthesi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utotroph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rganisms that can make their own food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photosynthesis or chemosynthesis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01:12:25Z</dcterms:created>
  <dc:creator>Michelle H. Feuer</dc:creator>
  <dc:description/>
  <dc:language>en-US</dc:language>
  <cp:lastModifiedBy>LEGION2</cp:lastModifiedBy>
  <dcterms:modified xsi:type="dcterms:W3CDTF">2016-01-14T10:57:37Z</dcterms:modified>
  <cp:revision>14</cp:revision>
  <dc:subject/>
  <dc:title>nutrition</dc:title>
</cp:coreProperties>
</file>