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EFD91-B2C9-4080-8CBD-E41841DA860A}" type="slidenum">
              <a:rPr b="0" lang="uk-UA" sz="12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ritional Requirement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 SG Bhuvan kum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utritional Requirement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by  SG Bhuvan kumar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ine is require for proper formation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ne and enamel on the teeth and prevents  dental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ine present in the soil get dissolved in the ground water and is major sources for fluorine for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uorosis  is a disease caused due to excess fluorine  in wat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people affected with fluorosis the teeth become yellow and bone deformations are seen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y can’t stand erect and walk proper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LUORINE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luorine is require for proper formation of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Bone and enamel on the teeth and prevents  dental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ari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luorine present in the soil get dissolved in the ground water and is major sources for fluorine for the bod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luorosis  is a disease caused due to excess fluorine  in water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n people affected with fluorosis the teeth become yellow and bone deformations are seen. 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 they can’t stand erect and walk properl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ium is the major element required for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forms about 1.5 to 2% of the body weight in an adul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quired for the formation of bones, teeth, coagulation of blood, for muscle contraction, for  production of milk in lactating fema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require about 400 – 500 mg. of calcium per 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ALCIU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alcium is the major element required for the bod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forms about 1.5 to 2% of the body weight in an adult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is required for the formation of bones, teeth, coagulation of blood, for muscle contraction, for  production of milk in lactating femal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We require about 400 – 500 mg. of calcium per da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on is major element used in the formation o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emoglobi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60-70% of iron in the body is present in blood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iron causes anaem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:  The best sources of iron are liver, eggs, meat, fish, cereals, nuts, green leafy vegetables and dried fruits, oat, me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the major component in haemoglobin and it helps to carry O2 from lungs to the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lso present in proteins involved in electron transport and respi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RON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ron is major element used in the formation of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Haemoglobin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About 60-70% of iron in the body is present in blood. 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Deficiency of iron causes anaemia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urce:  The best sources of iron are liver, eggs, meat, fish, cereals, nuts, green leafy vegetables and dried fruits, oat, meal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is the major component in haemoglobin and it helps to carry O2 from lungs to the cell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is also present in proteins involved in electron transport and respiration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is the most essential constituent of lif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out 90% of water is present in protoplas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 is available to the body through three sources-drinking water, water stored in food and metabolic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WATER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Water is the most essential constituent of life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About 90% of water is present in protoplasm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Water is available to the body through three sources-drinking water, water stored in food and metabolic water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ritional Requirem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trition means either preparation of food or Supply of nutrients for the release of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emical substances required for the production of energy, for the growth and for body building are called Nutri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curement of nutrients is called Nutr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important nutrients required for the body are carbohydrates, fats,  proteins , vitamins and 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nutrients like carbohydrates, proteins, fats and mineral like sodium are required in large quantities and they are known as Macro-nutri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nutrients like vitamins and minerals like iron, zinc molybdenum etc are required in very minute doses, (even in micrograms), are known as micro-nutrie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utritional Requirement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utrition means either preparation of food or Supply of nutrients for the release of energ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chemical substances required for the production of energy, for the growth and for body building are called Nutrient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procurement of nutrients is called Nutrition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important nutrients required for the body are carbohydrates, fats,  proteins , vitamins and mineral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me nutrients like carbohydrates, proteins, fats and mineral like sodium are required in large quantities and they are known as Macro-nutrient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me nutrients like vitamins and minerals like iron, zinc molybdenum etc are required in very minute doses, (even in micrograms), are known as micro-nutrient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HYDRAT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hydrates are a group of compounds with Carbon, Hydrogen and Oxyge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assified into two groups – Simple Carbohydrates and Complex Carbohydr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e Carbohydrates are sugars like Glucose, Fructose etc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x Carbohydrates  are Sucrose, Maltose, Lactose etc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llulose is present in plant cells and it is not digested in the human digestive syst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s no nutritive value  in man but the presence of cellulose in food helps to avoi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ip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ess glucose is converted in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essential amino acids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ycogen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gram of Carbohydrates gives 4 kilo calories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ARBOHYDRATES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arbohydrates are a group of compounds with Carbon, Hydrogen and Oxygen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y are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lassified into two groups – Simple Carbohydrates and Complex Carbohydrat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imple Carbohydrates are sugars like Glucose, Fructose etc.,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omplex Carbohydrates  are Sucrose, Maltose, Lactose etc.,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ellulose is present in plant cells and it is not digested in the human digestive system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has no nutritive value  in man but the presence of cellulose in food helps to avoid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onstipation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xcess glucose is converted into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on-essential amino acids,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glycogen and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One gram of Carbohydrates gives 4 kilo calories of energy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ycogen  is called Animal St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ctose  is called Milk su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crose  is called cane sug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rts persons take glucose to get instant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eat only rice, only carbohydrates are supplied to the body and body building material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proteins) will be deficien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eat only proteins, body will be built up but for daily metabolic activities, energy will not be suppli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nce for healthy growth, all type of nutrients are required for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having all the nutrients in required quantity for the body is called Balanced di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Glycogen  is called Animal Starch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Lactose  is called Milk sugar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ucrose  is called cane sugar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ports persons take glucose to get instant energy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f we eat only rice, only carbohydrates are supplied to the body and body building materials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(proteins) will be deficient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f we eat only proteins, body will be built up but for daily metabolic activities, energy will not be supplied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Hence for healthy growth, all type of nutrients are required for the bod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ood having all the nutrients in required quantity for the body is called Balanced diet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 are body building substances with Carbon, Hydrogen, Oxygen, Nitrogen. and  Sulphur in small amou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 have 24 types of amino acids, out of these 20 are present in most of the 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d on our requirement, amino acids are classified int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sential amino acids    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n-essential amino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essential amino acids are Isoleucine, Leucine, Lysine  etc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 of Non-essential amino acids are Alanine, Arginine,  Aspartic acid et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idine is the essential amino acid only for infants but not for adul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ROTEIN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roteins are body building substances with Carbon, Hydrogen, Oxygen, Nitrogen. and  Sulphur in small amount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roteins have 24 types of amino acids, out of these 20 are present in most of the protein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Based on our requirement, amino acids are classified into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ssential amino acids    and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on-essential amino acid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xamples of essential amino acids are Isoleucine, Leucine, Lysine  etc.,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xamples of Non-essential amino acids are Alanine, Arginine,  Aspartic acid etc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Histidine is the essential amino acid only for infants but not for adult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teins from animal sources like Milk, Meat, Eggs, Fish etc., are rich sources of proteins and are called as Biologically complete prote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 from vegetable sources like Pulses, Beans, Legumes etc, contain less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mount of amino acids when compared to animal sources. Hence they are called as Biologically incomplete prote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 of 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 are used in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ous metabolic pathways as enzym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coordination as hormon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build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air and maintenance of tissu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tenance of osmotic press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duction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proteins from animal sources like Milk, Meat, Eggs, Fish etc., are rich sources of proteins and are called as Biologically complete protein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roteins from vegetable sources like Pulses, Beans, Legumes etc, contain lesser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amount of amino acids when compared to animal sources. Hence they are called as Biologically incomplete protein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unction of protein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roteins are used in -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various metabolic pathways as enzym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hemical coordination as hormon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body building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repair and maintenance of tissue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maintenance of osmotic pressure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production of energy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 are the organic compounds with Carbon, Hydrogen and Oxygen and are made up  of fatty acids and Glycer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ty acids are divided into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turated fatty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saturated fatty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tty acids required for our body and not present in our body are called a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sential fatty acid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:- Linoleic acid, Linolenic ac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 are present in both plant and animal foods like Milk, Ghee, Butter, Cheese, Egg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tc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 sources are usually in the form of Oils like Groundnut oil, Mustard, Sesame, Coconut, Palm etc.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 are solids at 20oC. Liquid fats are called oil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easy to store fats in the body as fats are insoluble in water and can be easily stored in solid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 are the organic compounds with Carbon, Hydrogen and Oxygen and are made up  of fatty acids and Glycerol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ty acids are divided into:-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aturated fatty acid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Unsaturated fatty acid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fatty acids required for our body and not present in our body are called as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ssential fatty acids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x:- Linoleic acid, Linolenic acid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 are present in both plant and animal foods like Milk, Ghee, Butter, Cheese, Eggs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tc.,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lant sources are usually in the form of Oils like Groundnut oil, Mustard, Sesame, Coconut, Palm etc.,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 are solids at 20oC. Liquid fats are called oils.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is easy to store fats in the body as fats are insoluble in water and can be easily stored in solid form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sterol is saturated fatty acid.  Whe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ces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olesterol is consumed, it is deposited along the walls of the arteries and interferes with the blood flow. This may lead to Heart attac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naspathi is prepared by converting unsaturated fatty acids present in vegetable oils to  saturated fatty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C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gram of fats yield 9.45 Kilo calories of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ats under the skin helps in preserving the body h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 are used in the body to generate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quired for the formation of membranes in all the cel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wth and development will not be normal if the required amounts of unsaturated fatty acids a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not provided in the die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holesterol is saturated fatty acid.  When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excess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cholesterol is consumed, it is deposited along the walls of the arteries and interferes with the blood flow. This may lead to Heart attack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Vanaspathi is prepared by converting unsaturated fatty acids present in vegetable oils to  saturated fatty acid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UNCTION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One gram of fats yield 9.45 Kilo calories of energy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fats under the skin helps in preserving the body heat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Fats are used in the body to generate energy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t is required for the formation of membranes in all the cells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Growth and development will not be normal if the required amounts of unsaturated fatty acids are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 not provided in the diet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ions maintain the osmotic balance in the body and also for  the activity of the nervous syst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dium  ion s maintian  salts in plasm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tasium maintains salts in cytoplasm of a ce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D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odine is component of thyroxine, a hormone of thyroid gland, iodine is required fo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duction of thyroid horm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ciency of iodine results in Hypothyroidism and enlargement of the thyroid gland  (a condition is known as goiter) and reduction in metabolic rate and physical grow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prevent the Iodine deficiency, now-a-days iodine is added to the common   salt   (Iodised salt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ly iodine is found i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getables and sea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MINERALS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DIUM :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dium ions maintain the osmotic balance in the body and also for  the activity of the nervous system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Sodium  ion s maintian  salts in plasma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Pottasium maintains salts in cytoplasm of a cell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ODINE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Iodine is component of thyroxine, a hormone of thyroid gland, iodine is required for 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	</a:t>
            </a: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he production of thyroid hormone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Deficiency of iodine results in Hypothyroidism and enlargement of the thyroid gland  (a condition is known as goiter) and reduction in metabolic rate and physical growth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To prevent the Iodine deficiency, now-a-days iodine is added to the common   salt   (Iodised salt)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Naturally iodine is found in 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10199"/>
                </a:solidFill>
                <a:latin typeface="Century Schoolbook"/>
              </a:rPr>
              <a:t>vegetables and sea food.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4EE4-A485-417B-B35F-6AE299A31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2C476-85B1-47BA-B94F-6E758943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E7D4-DF1B-4A52-98D6-09A956CB5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DEDB-7F49-45AF-891F-0E9633497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31C6EE-2C96-4676-A4AA-F6A12A029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7E1AD-DD3F-43AF-9EAF-27339D4D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E75AC2-D254-4BE5-A037-6F671C7C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366E6-1541-49BC-A3E8-357D80FF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6AE840-DCAD-4611-BF27-D3831CCA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630EB2-F60E-4DFC-A10F-9A359C90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2C70C-43CF-4CD2-A0CF-596169C6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647D-C21B-4911-A66C-5E615A23B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B6883-395F-4020-A1D3-4F05AE9A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315CCB-0611-444E-8CDF-B5D01A80B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F918D5-BB64-442E-8B40-151D9AE7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F37DA-BB8A-41A0-ABF3-AD2348A96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39CEC3-91B9-4B2C-B0A3-FD169BDCC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1C79D0-15D9-4283-9589-BEC43C1EA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65E87C-28F1-4BAF-AA56-2831E6041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1656DF-5D7B-4E77-919A-F5FA16D7D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52375B-64DE-4D88-BB4D-15EC6FB3A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CCA9D8-6A1F-484D-8D30-AEB90C8B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6592-2F0A-4EB5-8BB0-039194E70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DDCD99B-679B-4A54-A286-9ABFED4A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AACE7E3-61DE-45F7-87F0-61EA1009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DA166B-50C9-4E35-AADA-01E3AFE2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502644-6B31-4781-A493-657CA63C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C6A6DB-B925-4B17-ABDE-637354C08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821DBD-6E6A-443E-92A2-84D0D703F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F4BB83-643A-418B-955C-5B49370E7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2BE0-5299-47C5-A1E6-85F0E78F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62E6-AF4B-4923-ACF1-9D20DB8D0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601C-185D-43F4-8A01-B4BFB5F1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7061-B51C-40A7-AE04-4C9D6113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EB41-7406-411B-9885-9373C58E8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E401-BE26-4B3A-8562-C75804F1C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101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101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101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C0EB-6F70-42B4-8359-3A30D10E895C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6EEB-0492-4651-889E-E35FDDD635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03CE0-9997-426D-B07B-86C18867D84D}" type="datetime"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3FDD0-1A31-454F-B1A8-9CDCFD619F47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100000">
              <a:srgbClr val="fee7f2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Straight Connector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3" name="Straight Connector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4" name="Straight Connector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5" name="Rectangle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6" name="Straight Connector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7" name="Oval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199"/>
              </a:solidFill>
              <a:latin typeface="Century Schoolbook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6B54-05D7-405A-A3BA-1F69AFCB858D}" type="datetime"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5F9A3-269F-4BFD-B211-D69D1228F08F}" type="slidenum">
              <a:rPr b="1" lang="en-US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1207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Tahoma"/>
              </a:rPr>
              <a:t>Nutritional Requirements</a:t>
            </a:r>
            <a:br>
              <a:rPr sz="4400"/>
            </a:br>
            <a:br>
              <a:rPr sz="4400"/>
            </a:br>
            <a:r>
              <a:rPr b="0" lang="en-US" sz="1800" spc="-1" strike="noStrike">
                <a:solidFill>
                  <a:srgbClr val="000099"/>
                </a:solidFill>
                <a:latin typeface="Bookman Old Style"/>
              </a:rPr>
              <a:t>by  SG Bhuvan kumar</a:t>
            </a:r>
            <a:endParaRPr b="0" lang="en-US" sz="1800" spc="-1" strike="noStrike">
              <a:solidFill>
                <a:srgbClr val="000099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199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228240" y="0"/>
            <a:ext cx="56386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2060"/>
                </a:solidFill>
                <a:uFillTx/>
                <a:latin typeface="Century Schoolbook"/>
              </a:rPr>
              <a:t>FLUOR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Fluorine is require for proper formation of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Bone</a:t>
            </a:r>
            <a:r>
              <a:rPr b="1" lang="en-US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and</a:t>
            </a:r>
            <a:r>
              <a:rPr b="1" lang="en-US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enamel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on the teeth and prevents  </a:t>
            </a: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dental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caries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Fluorine present in the soil get dissolved in the ground water and is major sources for fluorine for the bod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lang="en-US" sz="2200" spc="-1" strike="noStrike">
                <a:solidFill>
                  <a:srgbClr val="002060"/>
                </a:solidFill>
                <a:latin typeface="Century Schoolbook"/>
              </a:rPr>
              <a:t>Fluorosis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 is a disease caused due to </a:t>
            </a:r>
            <a:r>
              <a:rPr b="1" lang="en-US" sz="2200" spc="-1" strike="noStrike">
                <a:solidFill>
                  <a:srgbClr val="002060"/>
                </a:solidFill>
                <a:latin typeface="Century Schoolbook"/>
              </a:rPr>
              <a:t>excess </a:t>
            </a: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fluorine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 in water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In people affected with fluorosis the teeth become yellow and bone deformations are seen.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So they can’t stand erect and walk properly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3" descr="fluorosis3.jpg"/>
          <p:cNvPicPr/>
          <p:nvPr/>
        </p:nvPicPr>
        <p:blipFill>
          <a:blip r:embed="rId1"/>
          <a:stretch/>
        </p:blipFill>
        <p:spPr>
          <a:xfrm>
            <a:off x="6324480" y="2514600"/>
            <a:ext cx="1452600" cy="27432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4" descr="fluorosis.jpg"/>
          <p:cNvPicPr/>
          <p:nvPr/>
        </p:nvPicPr>
        <p:blipFill>
          <a:blip r:embed="rId2"/>
          <a:stretch/>
        </p:blipFill>
        <p:spPr>
          <a:xfrm>
            <a:off x="7010280" y="5430960"/>
            <a:ext cx="1447920" cy="13507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Photo_774.jpg"/>
          <p:cNvPicPr/>
          <p:nvPr/>
        </p:nvPicPr>
        <p:blipFill>
          <a:blip r:embed="rId3"/>
          <a:stretch/>
        </p:blipFill>
        <p:spPr>
          <a:xfrm>
            <a:off x="5943600" y="533520"/>
            <a:ext cx="2722680" cy="1747800"/>
          </a:xfrm>
          <a:prstGeom prst="rect">
            <a:avLst/>
          </a:prstGeom>
          <a:ln w="0">
            <a:noFill/>
          </a:ln>
        </p:spPr>
      </p:pic>
      <p:sp>
        <p:nvSpPr>
          <p:cNvPr id="160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CALC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Calcium is the major element required for the bod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It forms about 1.5 to 2% of the body weight in an adul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It is required for the formation of bones, teeth, coagulation of blood, for muscle contraction, for  production of milk in lactating fem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We require about 400 – 500 mg. of calcium per da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6840" y="380880"/>
            <a:ext cx="79246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IR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ron is major element used in the formation o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Haemoglobi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About </a:t>
            </a: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60-70%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of iron in the body is present in blood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Deficiency of iron causes </a:t>
            </a: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anaemia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Schoolbook"/>
              </a:rPr>
              <a:t>Source: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 The best sources of iron are liver, eggs, meat, fish, cereals, nuts, green leafy vegetables and dried fruits, oat, mea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t is the major component in haemoglobin and it helps to carry O</a:t>
            </a:r>
            <a:r>
              <a:rPr b="0" lang="en-US" sz="2400" spc="-1" strike="noStrike" baseline="-25000">
                <a:solidFill>
                  <a:srgbClr val="002060"/>
                </a:solidFill>
                <a:latin typeface="Century Schoolbook"/>
              </a:rPr>
              <a:t>2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from lungs to the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t is also present in proteins involved in electron transport and respir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432440" indent="-267120">
              <a:lnSpc>
                <a:spcPct val="100000"/>
              </a:lnSpc>
              <a:spcBef>
                <a:spcPts val="400"/>
              </a:spcBef>
              <a:buClr>
                <a:srgbClr val="bdcae9"/>
              </a:buClr>
              <a:buSzPct val="68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4" descr="sicklrbc.jpg"/>
          <p:cNvPicPr/>
          <p:nvPr/>
        </p:nvPicPr>
        <p:blipFill>
          <a:blip r:embed="rId1"/>
          <a:stretch/>
        </p:blipFill>
        <p:spPr>
          <a:xfrm>
            <a:off x="5029200" y="4952880"/>
            <a:ext cx="2514600" cy="170352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456840" y="609120"/>
            <a:ext cx="746748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WAT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Water is the most essential constituent of lif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About </a:t>
            </a:r>
            <a:r>
              <a:rPr b="1" i="1" lang="en-US" sz="2400" spc="-1" strike="noStrike">
                <a:solidFill>
                  <a:srgbClr val="002060"/>
                </a:solidFill>
                <a:latin typeface="Arial"/>
              </a:rPr>
              <a:t>90%</a:t>
            </a: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 of water is present in protoplas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Water is available to the body through three sources-drinking water, water stored in food and metabolic wate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3" descr="water2.jpg"/>
          <p:cNvPicPr/>
          <p:nvPr/>
        </p:nvPicPr>
        <p:blipFill>
          <a:blip r:embed="rId1"/>
          <a:stretch/>
        </p:blipFill>
        <p:spPr>
          <a:xfrm>
            <a:off x="3429000" y="3809880"/>
            <a:ext cx="3352680" cy="268308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541440" y="456840"/>
            <a:ext cx="806112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73"/>
                </a:solidFill>
                <a:uFillTx/>
                <a:latin typeface="Century Schoolbook"/>
              </a:rPr>
              <a:t>Nutritional Requi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Nutrition means either preparation of food or Supply of nutrients for the release of energ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The chemical substances required for the production of energy, for the growth and for body building are called </a:t>
            </a:r>
            <a:r>
              <a:rPr b="1" i="1" lang="en-US" sz="1400" spc="-1" strike="noStrike">
                <a:solidFill>
                  <a:srgbClr val="000073"/>
                </a:solidFill>
                <a:latin typeface="Century Schoolbook"/>
              </a:rPr>
              <a:t>Nutri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The procurement of </a:t>
            </a:r>
            <a:r>
              <a:rPr b="1" i="1" lang="en-US" sz="1400" spc="-1" strike="noStrike">
                <a:solidFill>
                  <a:srgbClr val="000073"/>
                </a:solidFill>
                <a:latin typeface="Century Schoolbook"/>
              </a:rPr>
              <a:t>nutrients</a:t>
            </a: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 is called </a:t>
            </a:r>
            <a:r>
              <a:rPr b="1" i="1" lang="en-US" sz="1400" spc="-1" strike="noStrike" u="sng">
                <a:solidFill>
                  <a:srgbClr val="000073"/>
                </a:solidFill>
                <a:uFillTx/>
                <a:latin typeface="Century Schoolbook"/>
              </a:rPr>
              <a:t>Nutri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entury Schoolbook"/>
              </a:rPr>
              <a:t>The important nutrients required for the body are </a:t>
            </a:r>
            <a:r>
              <a:rPr b="1" i="1" lang="en-US" sz="1400" spc="-1" strike="noStrike">
                <a:solidFill>
                  <a:srgbClr val="ff0000"/>
                </a:solidFill>
                <a:latin typeface="Century Schoolbook"/>
              </a:rPr>
              <a:t>carbohydrates</a:t>
            </a:r>
            <a:r>
              <a:rPr b="1" lang="en-US" sz="1400" spc="-1" strike="noStrike">
                <a:solidFill>
                  <a:srgbClr val="ff0000"/>
                </a:solidFill>
                <a:latin typeface="Century Schoolbook"/>
              </a:rPr>
              <a:t>, </a:t>
            </a:r>
            <a:r>
              <a:rPr b="1" i="1" lang="en-US" sz="1400" spc="-1" strike="noStrike">
                <a:solidFill>
                  <a:srgbClr val="ff0000"/>
                </a:solidFill>
                <a:latin typeface="Century Schoolbook"/>
              </a:rPr>
              <a:t>fats</a:t>
            </a:r>
            <a:r>
              <a:rPr b="1" lang="en-US" sz="1400" spc="-1" strike="noStrike">
                <a:solidFill>
                  <a:srgbClr val="ff0000"/>
                </a:solidFill>
                <a:latin typeface="Century Schoolbook"/>
              </a:rPr>
              <a:t>,  </a:t>
            </a:r>
            <a:r>
              <a:rPr b="1" i="1" lang="en-US" sz="1400" spc="-1" strike="noStrike">
                <a:solidFill>
                  <a:srgbClr val="ff0000"/>
                </a:solidFill>
                <a:latin typeface="Century Schoolbook"/>
              </a:rPr>
              <a:t>proteins</a:t>
            </a:r>
            <a:r>
              <a:rPr b="1" lang="en-US" sz="1400" spc="-1" strike="noStrike">
                <a:solidFill>
                  <a:srgbClr val="ff0000"/>
                </a:solidFill>
                <a:latin typeface="Century Schoolbook"/>
              </a:rPr>
              <a:t> , vitamins and </a:t>
            </a:r>
            <a:r>
              <a:rPr b="1" i="1" lang="en-US" sz="1400" spc="-1" strike="noStrike">
                <a:solidFill>
                  <a:srgbClr val="ff0000"/>
                </a:solidFill>
                <a:latin typeface="Century Schoolbook"/>
              </a:rPr>
              <a:t>mineral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Some nutrients like carbohydrates, proteins, fats and mineral like sodium are required in large quantities and they are known as </a:t>
            </a:r>
            <a:r>
              <a:rPr b="1" i="1" lang="en-US" sz="1400" spc="-1" strike="noStrike">
                <a:solidFill>
                  <a:srgbClr val="000073"/>
                </a:solidFill>
                <a:latin typeface="Century Schoolbook"/>
              </a:rPr>
              <a:t>Macro-nutrients</a:t>
            </a: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73"/>
                </a:solidFill>
                <a:latin typeface="Century Schoolbook"/>
              </a:rPr>
              <a:t>Some nutrients like vitamins and minerals like iron, zinc molybdenum etc are required in very minute doses, (even in micrograms), are known as micro-nutrient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6840" y="304920"/>
            <a:ext cx="746748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Arial"/>
              </a:rPr>
              <a:t>CARBOHYDRAT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arbohydrates are a group of compounds with Carbon, Hydrogen and Oxygen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They are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lassified into two groups – </a:t>
            </a:r>
            <a:r>
              <a:rPr b="1" i="1" lang="en-US" sz="2200" spc="-1" strike="noStrike">
                <a:solidFill>
                  <a:srgbClr val="002060"/>
                </a:solidFill>
                <a:latin typeface="Arial"/>
              </a:rPr>
              <a:t>Simple Carbohydrates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 and </a:t>
            </a:r>
            <a:r>
              <a:rPr b="1" i="1" lang="en-US" sz="2200" spc="-1" strike="noStrike">
                <a:solidFill>
                  <a:srgbClr val="002060"/>
                </a:solidFill>
                <a:latin typeface="Arial"/>
              </a:rPr>
              <a:t>Complex Carbohydrates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Simple Carbohydrates are sugars like Glucose, Fructose etc.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omplex Carbohydrates  are Sucrose, Maltose, Lactose etc.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ellulose is present in plant cells and it is not digested in the human digestive system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It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has no nutritive value  in man but the presence of cellulose in food helps to avoid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onstipation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Excess </a:t>
            </a:r>
            <a:r>
              <a:rPr b="0" lang="en-US" sz="2200" spc="-1" strike="noStrike" u="sng">
                <a:solidFill>
                  <a:srgbClr val="002060"/>
                </a:solidFill>
                <a:uFillTx/>
                <a:latin typeface="Arial"/>
              </a:rPr>
              <a:t>glucose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 is converted into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Arial"/>
              </a:rPr>
              <a:t>non-essential amino acids,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Arial"/>
              </a:rPr>
              <a:t>glycogen and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639720" indent="-272880">
              <a:lnSpc>
                <a:spcPct val="80000"/>
              </a:lnSpc>
              <a:spcBef>
                <a:spcPts val="476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2060"/>
                </a:solidFill>
                <a:latin typeface="Arial"/>
              </a:rPr>
              <a:t>Fats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One gram of Carbohydrates gives 4 kilo calories of ener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6840" y="456840"/>
            <a:ext cx="7467480" cy="601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Schoolbook"/>
              </a:rPr>
              <a:t>Glycogen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is called Animal St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Schoolbook"/>
              </a:rPr>
              <a:t>Lactose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is called Milk su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Century Schoolbook"/>
              </a:rPr>
              <a:t>Sucrose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is called cane sug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Sports persons take glucose to get instant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f we eat only rice, only carbohydrates are supplied to the body and body building materials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(proteins) will be deficient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f we eat only proteins, body will be built up but for daily metabolic activities, energy will not be supplie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Hence for healthy growth, all type of nutrients are required for the bod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Food having all the nutrients in required quantity for the body is called </a:t>
            </a:r>
            <a:r>
              <a:rPr b="1" i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Balanced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 </a:t>
            </a:r>
            <a:r>
              <a:rPr b="1" i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diet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6840" y="0"/>
            <a:ext cx="746748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2060"/>
                </a:solidFill>
                <a:uFillTx/>
                <a:latin typeface="Century Schoolbook"/>
              </a:rPr>
              <a:t>PROTEIN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Proteins are body building substances with Carbon, Hydrogen, Oxygen, Nitrogen. and  Sulphur in small amount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Proteins have 24 types of amino acids, out of these 20 are present in most of the protein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3240" indent="-270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Based on our requirement, amino acids are classified into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05040" indent="-180360">
              <a:lnSpc>
                <a:spcPct val="10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Essential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</a:t>
            </a: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amino acids</a:t>
            </a:r>
            <a:r>
              <a:rPr b="0" lang="en-US" sz="2200" spc="-1" strike="noStrike">
                <a:solidFill>
                  <a:srgbClr val="002060"/>
                </a:solidFill>
                <a:latin typeface="Century Schoolbook"/>
              </a:rPr>
              <a:t>    and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05040" indent="-180360">
              <a:lnSpc>
                <a:spcPct val="10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2060"/>
                </a:solidFill>
                <a:latin typeface="Century Schoolbook"/>
              </a:rPr>
              <a:t>Non-essential amino acid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Century Schoolbook"/>
              </a:rPr>
              <a:t>Examples of essential amino acids are Isoleucine, Leucine, Lysine  etc.,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Examples of Non-essential amino acids are Alanine, Arginine,  Aspartic acid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Histidine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is the essential amino acid only for infants but not for adul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6840" y="228600"/>
            <a:ext cx="7467480" cy="624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The proteins from animal sources like 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Milk, Meat, Eggs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, Fish etc., are rich sources of proteins and are called as </a:t>
            </a: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Biologically complete protei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Proteins from vegetable sources like </a:t>
            </a:r>
            <a:r>
              <a:rPr b="0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Pulses, Beans, Legumes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etc, contain lesser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amount of amino acids when compared to animal sources. Hence they are called as </a:t>
            </a:r>
            <a:r>
              <a:rPr b="1" i="1" lang="en-US" sz="2400" spc="-1" strike="noStrike">
                <a:solidFill>
                  <a:srgbClr val="002060"/>
                </a:solidFill>
                <a:latin typeface="Century Schoolbook"/>
              </a:rPr>
              <a:t>Biologically incomplete protei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Function of protei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Proteins are used in 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various metabolic pathways as enzym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Chemical coordination as horm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body buil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repair and maintenance of tissu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maintenance of osmotic pres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163520" indent="-178560">
              <a:lnSpc>
                <a:spcPct val="100000"/>
              </a:lnSpc>
              <a:spcBef>
                <a:spcPts val="45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Century Schoolbook"/>
              </a:rPr>
              <a:t>the production of energ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380880" y="228600"/>
            <a:ext cx="746784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 u="sng">
                <a:solidFill>
                  <a:srgbClr val="002060"/>
                </a:solidFill>
                <a:uFillTx/>
                <a:latin typeface="Arial"/>
              </a:rPr>
              <a:t>FAT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Fats are the organic compounds with Carbon, Hydrogen and Oxygen and are made up  of fatty acids and Glycerol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Fatty acids are divided into: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lnSpc>
                <a:spcPct val="9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Saturated fatty acid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2" marL="914400" indent="-182520">
              <a:lnSpc>
                <a:spcPct val="90000"/>
              </a:lnSpc>
              <a:spcBef>
                <a:spcPts val="550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Unsaturated fatty acids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The fatty acids required for our body and not present in our body are called as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E</a:t>
            </a:r>
            <a:r>
              <a:rPr b="1" i="1" lang="en-US" sz="2200" spc="-1" strike="noStrike">
                <a:solidFill>
                  <a:srgbClr val="002060"/>
                </a:solidFill>
                <a:latin typeface="Arial"/>
              </a:rPr>
              <a:t>ssential fatty acids.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Ex:- Linoleic acid, Linolenic acid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Fats are present in both plant and animal foods like Milk, Ghee, Butter, Cheese, Eggs 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etc.,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Plant sources are usually in the form of Oils like Groundnut oil, Mustard, Sesame, Coconut, Palm etc.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Fats are solids at 20</a:t>
            </a:r>
            <a:r>
              <a:rPr b="0" lang="en-US" sz="2200" spc="-1" strike="noStrike" baseline="30000">
                <a:solidFill>
                  <a:srgbClr val="00206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C. Liquid fats are called oils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2060"/>
                </a:solidFill>
                <a:latin typeface="Arial"/>
              </a:rPr>
              <a:t>It is easy to store fats in the body as fats are insoluble in water and can be easily stored in solid form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456840" y="380520"/>
            <a:ext cx="7467480" cy="609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Cholesterol is saturated fatty acid.  When 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excess 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cholesterol is consumed, it is deposited along the walls of the arteries and interferes with the blood flow. This may lead to </a:t>
            </a:r>
            <a:r>
              <a:rPr b="1" i="1" lang="en-US" sz="2000" spc="-1" strike="noStrike">
                <a:solidFill>
                  <a:srgbClr val="002060"/>
                </a:solidFill>
                <a:latin typeface="Century Schoolbook"/>
              </a:rPr>
              <a:t>Heart attac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Vanaspathi is prepared by converting unsaturated fatty acids present in vegetable oils to  saturated fatty acid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 u="sng">
                <a:solidFill>
                  <a:srgbClr val="002060"/>
                </a:solidFill>
                <a:uFillTx/>
                <a:latin typeface="Century Schoolbook"/>
              </a:rPr>
              <a:t>FUNCTIONS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One gram of fats yield 9.45 Kilo calories of ener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The fats under the skin helps in preserving the body hea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Fats are used in the body to generate energy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It is required for the formation of membranes in all the cell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Growth and development will not be normal if the required amounts of unsaturated fatty acids are 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400" spc="-1" strike="noStrike">
                <a:solidFill>
                  <a:srgbClr val="002060"/>
                </a:solidFill>
                <a:latin typeface="Century Schoolbook"/>
              </a:rPr>
              <a:t> not provided in the di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57200" y="-360"/>
            <a:ext cx="8153280" cy="647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MINER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2060"/>
                </a:solidFill>
                <a:uFillTx/>
                <a:latin typeface="Century Schoolbook"/>
              </a:rPr>
              <a:t>SODIUM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Sodium ions maintain the osmotic balance in the body and also for  the activity of the nervous syst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Sodium  ion s maintian  salts in plasm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Pottasium maintains salts in cytoplasm of a c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2060"/>
                </a:solidFill>
                <a:uFillTx/>
                <a:latin typeface="Century Schoolbook"/>
              </a:rPr>
              <a:t>IOD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Iodine is component of thyroxine, a hormone of thyroid gland, iodine is required for 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	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the production of thyroid hormo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Deficiency of iodine results in </a:t>
            </a:r>
            <a:r>
              <a:rPr b="0" lang="en-US" sz="2000" spc="-1" strike="noStrike" u="sng">
                <a:solidFill>
                  <a:srgbClr val="002060"/>
                </a:solidFill>
                <a:uFillTx/>
                <a:latin typeface="Century Schoolbook"/>
              </a:rPr>
              <a:t>Hypothyroidism and enlargement of the thyroid gland  </a:t>
            </a: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(a condition is known as goiter) and reduction in metabolic rate and physical growt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To prevent the Iodine deficiency, now-a-days iodine is added to the common   salt   (Iodised salt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Naturally iodine is found 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entury Schoolbook"/>
              </a:rPr>
              <a:t>vegetables and sea foo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3" descr="dewey18.jpg"/>
          <p:cNvPicPr/>
          <p:nvPr/>
        </p:nvPicPr>
        <p:blipFill>
          <a:blip r:embed="rId1"/>
          <a:stretch/>
        </p:blipFill>
        <p:spPr>
          <a:xfrm>
            <a:off x="4114800" y="5029200"/>
            <a:ext cx="1393920" cy="1414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" descr="goitre.jpg"/>
          <p:cNvPicPr/>
          <p:nvPr/>
        </p:nvPicPr>
        <p:blipFill>
          <a:blip r:embed="rId2"/>
          <a:stretch/>
        </p:blipFill>
        <p:spPr>
          <a:xfrm>
            <a:off x="5715000" y="4933800"/>
            <a:ext cx="2260440" cy="1543320"/>
          </a:xfrm>
          <a:prstGeom prst="rect">
            <a:avLst/>
          </a:prstGeom>
          <a:ln w="0">
            <a:noFill/>
          </a:ln>
        </p:spPr>
      </p:pic>
      <p:sp>
        <p:nvSpPr>
          <p:cNvPr id="155" name="Місце для нижнього колонтитула 1"/>
          <p:cNvSpPr/>
          <p:nvPr/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39d"/>
                </a:solidFill>
                <a:latin typeface="Century Schoolbook"/>
              </a:rPr>
              <a:t>www.sliderbase.com</a:t>
            </a:r>
            <a:endParaRPr b="0" lang="en-US" sz="1200" spc="-1" strike="noStrike">
              <a:solidFill>
                <a:srgbClr val="010199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9T08:37:21Z</dcterms:created>
  <dc:creator>Masum</dc:creator>
  <dc:description/>
  <dc:language>en-US</dc:language>
  <cp:lastModifiedBy>LEGION2</cp:lastModifiedBy>
  <dcterms:modified xsi:type="dcterms:W3CDTF">2016-01-14T11:00:13Z</dcterms:modified>
  <cp:revision>66</cp:revision>
  <dc:subject/>
  <dc:title>Slide 1</dc:title>
</cp:coreProperties>
</file>