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9C73-34C7-418F-9802-30D336A282AB}" type="slidenum"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y  SG Bhuvan kum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is require for proper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can’t stand erect and walk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is require for proper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i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 they can’t stand erect and walk properl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is the major element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orms about 1.5 to 2% of the body weight in an ad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equire about 400 – 500 mg. of calcium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 is the major element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forms about 1.5 to 2% of the body weight in an adul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e require about 400 – 500 mg. of calcium per da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 is major element used in the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emoglob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60-70% of iron in the body is present in bloo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ron causes anae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 is major element used in the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emoglobi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60-70% of iron in the body is present in blood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ron causes anaemi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the most essential constituent of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90% of water is present in protopla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the most essential constituent of life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90% of water is present in protoplas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urement of nutrients is calle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curement of nutrients is called Nutriti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arbohydrates are sugars like Glucose, Fructose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arbohydrates  are Sucrose, Maltose, Lactose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ip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glucose is convert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Carbohydrates gives 4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y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imple Carbohydrates are sugars like Glucose, Fructose 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mplex Carbohydrates  are Sucrose, Maltose, Lactose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nstip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glucose is convert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Carbohydrates gives 4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 is called Animal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 is called Milk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rose  is called cane su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persons take glucose to get instan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eins) will be defic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 is called Animal Starch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Lactose  is called Milk sug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ucrose  is called cane suga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ports persons take glucose to get instant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(proteins) will be deficient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our requirement, amino acids are classifi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amino acids  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ased on our requirement, amino acids are classifi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amino acids   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used in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metabolic pathways as enzy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ordination as horm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buil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air and maintenance of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 of osmotic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 of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used in 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rious metabolic pathways as enzym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emical coordination as hormon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dy building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repair and maintenance of tissu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aintenance of osmotic pressur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s are divided into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atty ac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- Linoleic acid, Linolenic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solids at 20oC. Liquid fats are called o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ty acids are divided into: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Un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fatty acid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:- Linoleic acid, Linolenic aci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solids at 20oC. Liquid fats are called oil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saturated fatty acid.  Whe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fats yield 9.45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s under the skin helps in preserving the body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used in the body to generat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membranes in all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t provided in th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saturated fatty acid.  When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fats yield 9.45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s under the skin helps in preserving the body hea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used in the body to generate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membranes in all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not provided in the diet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 ion s maintian  salts in plas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asium maintains salts in cytoplasm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thyroid horm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iodine is foun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sea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: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 ion s maintian  salts in plasm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ottasium maintains salts in cytoplasm of a cel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thyroid hormon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aturally iodine is found in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egetables and sea foo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F07-0886-477D-B86E-0B1C711E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D7F-3C9B-48E3-BB9B-5175DCBB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9DE-D889-461E-B5B7-06442616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4E7-FD7A-4A36-8AA3-3A06CD12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4A750-489E-406E-A193-936BDC3D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124AA-B4A4-4139-8478-93249EBA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CA4C7-A5C1-4AFC-A807-42F0CAE4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06776-8C56-4680-B446-B2ACF547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09143-CBEA-4040-850E-77A6EA1C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B5FE6-E448-45C6-9E39-36DBF0BD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3A61C-2DBC-4DEC-8DFB-2B78B7CC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AEC-0D57-4B32-AEA4-665CCEA1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1D487-A732-4CF9-86EB-646C0C09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68C04-800F-47CC-95FE-77A3360E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7852D-D32D-4DD4-9F0A-C197ABF3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8E2D8-7341-4923-AE20-9D79BDD5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35938-8594-4575-B566-0E062874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94B17-40BE-4B76-A417-5B3706F3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2EBDE-397A-4115-8D8A-4F43F14D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1A3E3-D457-4865-A864-F3D8F9FB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CADD3-C78F-4F15-A26C-515EE607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A7DFD-5193-44E9-8D31-3E90172A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1F3-A264-4244-8865-6D90D8CA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63A81-C942-4336-A649-91F21A95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730AD-3416-4E45-B6E8-AD85F46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211F2-65DC-4D92-A156-48E182ED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C18B3-0F85-42DC-A25A-01229B08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922B1-49CD-4923-959E-CB6F0FAF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BF79E-47FF-41BC-830A-496308EA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EC589-1ED4-4D35-A467-2116B4B4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069-0413-4EAD-B6EC-0012C4A1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9E3-E765-432C-AF62-CE881854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237-6461-489B-8C75-C036D83F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DD4-C933-4D2A-A162-001760AE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D9E-D08A-4218-8981-593044F8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F87-5766-40D7-8320-2E3AAF1F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38B3-45AF-4815-9E24-A5FB364D63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E1CD-8464-4B5A-968A-F91ED7291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8415-5F12-4C64-9A0F-F861931ADCBC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FFBE-FC15-4267-B29A-447DC3B243C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75B1-5AC6-457C-8C59-4BECA4AB84D3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CACE-0FDE-4C40-B43D-36E1989FF35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Nutritional Requirements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99"/>
                </a:solidFill>
                <a:latin typeface="Bookman Old Style"/>
              </a:rPr>
              <a:t>by  SG Bhuvan kumar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FLU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is require for proper formation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Bone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and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name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on the teeth and prevents 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dent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carie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Fluorosi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s a disease caused due to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fluorine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So they can’t stand erect and walk prope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fluorosis3.jpg"/>
          <p:cNvPicPr/>
          <p:nvPr/>
        </p:nvPicPr>
        <p:blipFill>
          <a:blip r:embed="rId1"/>
          <a:stretch/>
        </p:blipFill>
        <p:spPr>
          <a:xfrm>
            <a:off x="6324480" y="2514600"/>
            <a:ext cx="1452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fluorosis.jpg"/>
          <p:cNvPicPr/>
          <p:nvPr/>
        </p:nvPicPr>
        <p:blipFill>
          <a:blip r:embed="rId2"/>
          <a:stretch/>
        </p:blipFill>
        <p:spPr>
          <a:xfrm>
            <a:off x="7010280" y="543096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hoto_774.jpg"/>
          <p:cNvPicPr/>
          <p:nvPr/>
        </p:nvPicPr>
        <p:blipFill>
          <a:blip r:embed="rId3"/>
          <a:stretch/>
        </p:blipFill>
        <p:spPr>
          <a:xfrm>
            <a:off x="5943600" y="533520"/>
            <a:ext cx="2722680" cy="1747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alcium is the major element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forms about 1.5 to 2% of the body weight in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is required for the formation of bones, teeth, coagulation of blood, for muscle contraction, for  production of milk in lactating fe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 require about 400 – 500 mg. of calcium per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380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ron is major element used in the forma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aemoglob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60-70%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of iron in the body is present in bloo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Deficiency of iron cause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anaemia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ource: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 The best sources of iron are liver, eggs, meat, fish, cereals, nuts, green leafy vegetables and dried fruits, oat,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the major component in haemoglobin and it helps to carry O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from lungs to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32440" indent="-267120">
              <a:lnSpc>
                <a:spcPct val="100000"/>
              </a:lnSpc>
              <a:spcBef>
                <a:spcPts val="400"/>
              </a:spcBef>
              <a:buClr>
                <a:srgbClr val="bdcae9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sicklrbc.jpg"/>
          <p:cNvPicPr/>
          <p:nvPr/>
        </p:nvPicPr>
        <p:blipFill>
          <a:blip r:embed="rId1"/>
          <a:stretch/>
        </p:blipFill>
        <p:spPr>
          <a:xfrm>
            <a:off x="5029200" y="4952880"/>
            <a:ext cx="251460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6091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the most essential constituent of lif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90%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of water is present in protopla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available to the body through three sources-drinking water, water stored in food and metabolic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water2.jpg"/>
          <p:cNvPicPr/>
          <p:nvPr/>
        </p:nvPicPr>
        <p:blipFill>
          <a:blip r:embed="rId1"/>
          <a:stretch/>
        </p:blipFill>
        <p:spPr>
          <a:xfrm>
            <a:off x="342900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41440" y="456840"/>
            <a:ext cx="8061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chemical substances required for the production of energy, for the growth and for body building are called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procurement of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 is called </a:t>
            </a:r>
            <a:r>
              <a:rPr b="1" i="1" lang="en-US" sz="14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The important nutrients required for the body are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carbohydrate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fat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protein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 , vitamins and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miner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carbohydrates, proteins, fats and mineral like sodium are required in large quantities and they are known as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Macro-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04920"/>
            <a:ext cx="74674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RBOHYDR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arbohydrates are a group of compounds with Carbon, Hydrogen and Oxyge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y ar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lassified into two groups –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imple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Complex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imple Carbohydrates are sugars like Glucose, Fructose 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mplex Carbohydrates  are Sucrose, Maltose, Lactose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ellulose is present in plant cells and it is not digested in the human digestive syste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has no nutritive value  in man but the presence of cellulose in food helps to avoid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nstip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cess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glucose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is convert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non-essential amino acids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glycogen an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a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ne gram of Carbohydrates gives 4 kilo calories of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456840"/>
            <a:ext cx="74674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Glycogen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Animal St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Lact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Milk s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ucr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cane su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Sports persons take glucose to get instant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(proteins) will be defic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ood having all the nutrients in required quantity for the body is called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Balanced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diet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PROTEI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Based on our requirement, amino acids are classifi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ssenti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amino acid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 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Non-essential amino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Histidine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the essential amino acid only for infants but not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proteins from animal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lk, Meat, Eggs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, Fish etc., are rich sources of proteins and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Proteins from vegetable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Pulses, Beans, Legume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tc, contain lesser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mount of amino acids when compared to animal sources. Hence they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in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 of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Proteins are used in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various metabolic pathways as enzy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Chemical coordination as horm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body bui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repair and maintenance of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maintenance of osmot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the production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28600"/>
            <a:ext cx="7467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2060"/>
                </a:solidFill>
                <a:uFillTx/>
                <a:latin typeface="Arial"/>
              </a:rPr>
              <a:t>F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the organic compounds with Carbon, Hydrogen and Oxygen and are made up  of fatty acids and Glyce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ty acids are divided into: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Un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 fatty acids required for our body and not present in our body are called a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sential fatty acids.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:- Linoleic acid, Linolenic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present in both plant and animal foods like Milk, Ghee, Butter, Cheese, Egg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lant sources are usually in the form of Oils like Groundnut oil, Mustard, Sesame, Coconut, Palm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solids at 20</a:t>
            </a:r>
            <a:r>
              <a:rPr b="0" lang="en-US" sz="2200" spc="-1" strike="noStrike" baseline="30000">
                <a:solidFill>
                  <a:srgbClr val="00206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. Liquid fats are called oil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is easy to store fats in the body as fats are insoluble in water and can be easily stored in solid 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380520"/>
            <a:ext cx="7467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saturated fatty acid.  When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consumed, it is deposited along the walls of the arteries and interferes with the blood flow. This may lead to </a:t>
            </a:r>
            <a:r>
              <a:rPr b="1" i="1" lang="en-US" sz="2000" spc="-1" strike="noStrike">
                <a:solidFill>
                  <a:srgbClr val="002060"/>
                </a:solidFill>
                <a:latin typeface="Century Schoolbook"/>
              </a:rPr>
              <a:t>Heart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One gram of fats yield 9.45 Kilo calorie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fats under the skin helps in preserving the body h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ats are used in the body to generat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required for the formation of membranes in a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not provided in the 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-360"/>
            <a:ext cx="81532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SODIUM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 ion s maintian  salts in pla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Pottasium maintains salts in cytoplasm of a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IOD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he production of thyroid horm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Deficiency of iodine results in 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Hypothyroidism and enlargement of the thyroid gland 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(a condition is known as goiter) and reduction in metabolic rate and physical grow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Naturally iodine is found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egetables and sea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dewey18.jpg"/>
          <p:cNvPicPr/>
          <p:nvPr/>
        </p:nvPicPr>
        <p:blipFill>
          <a:blip r:embed="rId1"/>
          <a:stretch/>
        </p:blipFill>
        <p:spPr>
          <a:xfrm>
            <a:off x="4114800" y="5029200"/>
            <a:ext cx="1393920" cy="141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goitre.jpg"/>
          <p:cNvPicPr/>
          <p:nvPr/>
        </p:nvPicPr>
        <p:blipFill>
          <a:blip r:embed="rId2"/>
          <a:stretch/>
        </p:blipFill>
        <p:spPr>
          <a:xfrm>
            <a:off x="5715000" y="4933800"/>
            <a:ext cx="2260440" cy="1543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7:21Z</dcterms:created>
  <dc:creator>Masum</dc:creator>
  <dc:description/>
  <dc:language>en-US</dc:language>
  <cp:lastModifiedBy>LEGION2</cp:lastModifiedBy>
  <dcterms:modified xsi:type="dcterms:W3CDTF">2016-01-14T11:00:13Z</dcterms:modified>
  <cp:revision>66</cp:revision>
  <dc:subject/>
  <dc:title>Slide 1</dc:title>
</cp:coreProperties>
</file>