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82808-0251-4A62-881A-32ADDD1E234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do we pollute our environment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st 5 way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pollute our environm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 5 w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dicator species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oking at Lichen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chens are the crusty organisms that grow in places such as on rocks and brick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ou can also find them on gravestones and the side of tree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y range in colour from grey-green to orange and red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or speci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ing at Lichen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chens are the crusty organisms that grow in places such as on rocks and brick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also find them on gravestones and the side of tre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range in colour from grey-green to orange and red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che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lphur dioxide gas is produced when fuels like coal and oil are burned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me lichens are very sensitive to air pollu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areas of low air pollution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a large variety of different lichen speci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lichens tend to be big and fluff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areas of high air pollution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very limited variety of lichen speci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lichens tend to be small and crus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e can use lichens as an indicator specie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plain what you think an indicator species is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ch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lphur dioxide gas is produced when fuels like coal and oil are burn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lichens are very sensitive to air pol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reas of low air pollu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 large variety of different lichen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lichens tend to be big and fluf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reas of high air pollu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very limited variety of lichen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lichens tend to be small and crus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use lichens as an indicator spe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what you think an indicator species i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ir pollution – can you think of any examples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pollution – can you think of any exampl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ter pollution – can you think of any examples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pollution – can you think of any exampl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nd pollution – can you think of any examples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d pollution – can you think of any exampl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pact on the Carbon Cycl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st as many ways that human activity may disrupt the Carbon Cycl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se your cycle diagram to help you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cus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act on the Carbon 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 as many ways that human activity may disrupt the Carbon 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your cycle diagram to help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are fossil fuels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ssil fuels are hydrocarbons, primarily coal, petroleum, fuel oil and ga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y formed from the fossilised remains of dead plants and animals by exposure to heat and pressure in the Earth's crust over hundreds of millions of yea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fossil fuel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ssil fuels are hydrocarbons, primarily coal, petroleum, fuel oil and ga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formed from the fossilised remains of dead plants and animals by exposure to heat and pressure in the Earth's crust over hundreds of millions of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’s the problem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burning of fossil fuels by humans is the largest source of emissions of carbon dioxide, which is one of the greenhouse gases that contributes to global warming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means that the surface temperature of the Earth will rise in respons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’s the proble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urning of fossil fuels by humans is the largest source of emissions of carbon dioxide, which is one of the greenhouse gases that contributes to global warm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means that the surface temperature of the Earth will rise in respon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ossil Fuel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ssil Fu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can we do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st at least 5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n we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 at least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7CCE-78D5-4E24-9341-2AF7B4BDE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6E97-EABB-4B2C-BD5F-24DD6C739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F64D-E177-4E12-9D13-33BED8CA1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72A2-9082-43EF-ABDD-E90CAE51F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84CB1A-C2F2-44E0-8AA7-062044D56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22594E-0D8C-4E61-A803-4465C7C40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7753CB-C241-4B7D-B9BC-04B170A43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6055F5-5CB0-4D55-A97D-97B346A45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886FAF-F6F4-4077-91A0-2AEFF50D5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8106C4-2A58-4EFD-99FA-7A7E04CF2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DEEA89-4FF1-4567-B517-4720C62F4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598E-FA24-450F-A4DF-4BAC7214D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A096CC-BA6A-4406-A674-00057ED1E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08C7BF-B793-4D1B-AFFC-C05841A71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14F83D-FC87-4535-B320-C046CE59D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3FDA29-06C3-4587-A1F6-04841C022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D95AD5-AE79-4F79-8207-CE9C82F67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7099-C2AC-4273-A80D-5560DEAED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02E4-2F27-4827-B0DA-6DE45E42B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73DC-589F-48FF-8864-F32A8DD2C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88EA-A939-4424-8118-B65FB5FDC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DE38-613F-4649-82C0-8DFEB8117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F954-A30A-4E9F-B0D5-C0E37CC95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60D7-9BFB-4515-BC00-215CBC0C4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63DF3-9CDF-46E6-A824-423B49667E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46DB8-AFC8-4AD3-AF76-26FE33AA664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tendringdc.gov.uk/NR/rdonlyres/51200D74-A40B-4104-AE7E-BD2FED5F6A0E/0/pollution.jpeg&amp;imgrefurl=http://www.tendringdc.gov.uk/TendringDC/Environment/EIR.htm&amp;h=475&amp;w=613&amp;sz=35&amp;hl=en&amp;start=3&amp;um=1&amp;tbnid=FPAQhREOEfwHhM:&amp;tbnh=105&amp;tbnw=136&amp;prev=/images%3Fq%3Dpollution%26svnum%3D10%26um%3D1%26hl%3Den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upload.wikimedia.org/wikipedia/commons/thumb/c/cf/Custer_lichen.jpg/800px-Custer_lichen.jpg&amp;imgrefurl=http://commons.wikimedia.org/wiki/Image:Custer_lichen.jpg&amp;h=600&amp;w=800&amp;sz=199&amp;hl=en&amp;start=18&amp;um=1&amp;tbnid=H-bzlkQ-8TNafM:&amp;tbnh=107&amp;tbnw=143&amp;prev=/images%3Fq%3Dlichen%26svnum%3D10%26um%3D1%26hl%3Den" TargetMode="External"/><Relationship Id="rId2" Type="http://schemas.openxmlformats.org/officeDocument/2006/relationships/image" Target="../media/image13.jpeg"/><Relationship Id="rId3" Type="http://schemas.openxmlformats.org/officeDocument/2006/relationships/hyperlink" Target="http://images.google.co.uk/imgres?imgurl=http://www.milkmag.org/images/Burckhardt,%2520Lichen%2520Tree%25202.jpg&amp;imgrefurl=http://www.milkmag.org/burckhardt%2520page.htm&amp;h=338&amp;w=468&amp;sz=74&amp;hl=en&amp;start=3&amp;um=1&amp;tbnid=GGeHr_GQqKLF-M:&amp;tbnh=92&amp;tbnw=128&amp;prev=/images%3Fq%3Dlichen%26svnum%3D10%26um%3D1%26hl%3Den" TargetMode="External"/><Relationship Id="rId4" Type="http://schemas.openxmlformats.org/officeDocument/2006/relationships/image" Target="../media/image14.jpeg"/><Relationship Id="rId5" Type="http://schemas.openxmlformats.org/officeDocument/2006/relationships/hyperlink" Target="http://images.google.co.uk/imgres?imgurl=http://www.adventurist.net/trips/e-rock_04-2001/gallery_12-04/lichen-3.jpg&amp;imgrefurl=http://www.adventurist.net/trips/e-rock_04-2001/gallery_12-04/&amp;h=713&amp;w=950&amp;sz=163&amp;hl=en&amp;start=10&amp;um=1&amp;tbnid=ujSLeUgCAQl7RM:&amp;tbnh=111&amp;tbnw=148&amp;prev=/images%3Fq%3Dlichen%26svnum%3D10%26um%3D1%26hl%3Den" TargetMode="External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ontariowildflower.com/images/lichen_waxpaper.jpg&amp;imgrefurl=http://www.ontariowildflower.com/moss.htm&amp;h=352&amp;w=400&amp;sz=26&amp;hl=en&amp;start=31&amp;um=1&amp;tbnid=9rUGz2BQYXPyWM:&amp;tbnh=109&amp;tbnw=124&amp;prev=/images%3Fq%3Dlichen%26start%3D21%26ndsp%3D21%26svnum%3D10%26um%3D1%26hl%3Den%26sa%3DN" TargetMode="External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en.wikipedia.org/wiki/Hydrocarbon" TargetMode="External"/><Relationship Id="rId2" Type="http://schemas.openxmlformats.org/officeDocument/2006/relationships/hyperlink" Target="http://en.wikipedia.org/wiki/Coal" TargetMode="External"/><Relationship Id="rId3" Type="http://schemas.openxmlformats.org/officeDocument/2006/relationships/hyperlink" Target="http://en.wikipedia.org/wiki/Petroleum" TargetMode="External"/><Relationship Id="rId4" Type="http://schemas.openxmlformats.org/officeDocument/2006/relationships/hyperlink" Target="http://en.wikipedia.org/wiki/Fuel_oil" TargetMode="External"/><Relationship Id="rId5" Type="http://schemas.openxmlformats.org/officeDocument/2006/relationships/hyperlink" Target="http://en.wikipedia.org/wiki/Natural_gas" TargetMode="External"/><Relationship Id="rId6" Type="http://schemas.openxmlformats.org/officeDocument/2006/relationships/hyperlink" Target="http://en.wikipedia.org/wiki/Fossil" TargetMode="External"/><Relationship Id="rId7" Type="http://schemas.openxmlformats.org/officeDocument/2006/relationships/hyperlink" Target="http://en.wikipedia.org/wiki/Earth" TargetMode="External"/><Relationship Id="rId8" Type="http://schemas.openxmlformats.org/officeDocument/2006/relationships/hyperlink" Target="http://en.wikipedia.org/wiki/Crust_%28geology%29" TargetMode="External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en.wikipedia.org/wiki/Carbon_dioxide" TargetMode="External"/><Relationship Id="rId2" Type="http://schemas.openxmlformats.org/officeDocument/2006/relationships/hyperlink" Target="http://en.wikipedia.org/wiki/Greenhouse_gas" TargetMode="External"/><Relationship Id="rId3" Type="http://schemas.openxmlformats.org/officeDocument/2006/relationships/hyperlink" Target="http://en.wikipedia.org/wiki/Global_warming" TargetMode="External"/><Relationship Id="rId4" Type="http://schemas.openxmlformats.org/officeDocument/2006/relationships/hyperlink" Target="http://en.wikipedia.org/wiki/Average_surface_temperature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images.google.co.uk/imgres?imgurl=http://www.stuff.co.nz/images/316572.jpg&amp;imgrefurl=http://www.stuff.co.nz/4163340a34.html&amp;h=360&amp;w=300&amp;sz=35&amp;hl=en&amp;start=16&amp;um=1&amp;tbnid=xLXUThheT2RG0M:&amp;tbnh=121&amp;tbnw=101&amp;prev=/images%3Fq%3Dbike%26svnum%3D10%26um%3D1%26hl%3Den" TargetMode="External"/><Relationship Id="rId3" Type="http://schemas.openxmlformats.org/officeDocument/2006/relationships/image" Target="../media/image9.jpeg"/><Relationship Id="rId4" Type="http://schemas.openxmlformats.org/officeDocument/2006/relationships/hyperlink" Target="http://images.google.co.uk/imgres?imgurl=http://www.lancashire.gov.uk/environment/waste/reduction/Images/Recycle.jpg&amp;imgrefurl=http://www.lancashire.gov.uk/environment/waste/reduction/recycle.asp&amp;h=792&amp;w=792&amp;sz=120&amp;hl=en&amp;start=2&amp;um=1&amp;tbnid=Ew1MOhxuV4IX2M:&amp;tbnh=143&amp;tbnw=143&amp;prev=/images%3Fq%3Drecycle%26svnum%3D10%26um%3D1%26hl%3Den" TargetMode="External"/><Relationship Id="rId5" Type="http://schemas.openxmlformats.org/officeDocument/2006/relationships/image" Target="../media/image10.jpeg"/><Relationship Id="rId6" Type="http://schemas.openxmlformats.org/officeDocument/2006/relationships/hyperlink" Target="http://images.google.co.uk/imgres?imgurl=http://www.mytinyplot.co.uk/photos/compost.jpg&amp;imgrefurl=http://www.mytinyplot.co.uk/%3Fp%3D83&amp;h=306&amp;w=440&amp;sz=82&amp;hl=en&amp;start=15&amp;um=1&amp;tbnid=_VZ-O_yURrQ6TM:&amp;tbnh=88&amp;tbnw=127&amp;prev=/images%3Fq%3Dcompost%26svnum%3D10%26um%3D1%26hl%3Den" TargetMode="External"/><Relationship Id="rId7" Type="http://schemas.openxmlformats.org/officeDocument/2006/relationships/image" Target="../media/image11.jpeg"/><Relationship Id="rId8" Type="http://schemas.openxmlformats.org/officeDocument/2006/relationships/hyperlink" Target="http://images.google.co.uk/imgres?imgurl=http://www.edenslostandfound.org/home/images/photos/phtreeplanting.jpg&amp;imgrefurl=http://www.edenslostandfound.org/home/preview.php%3Fid%3D86&amp;h=387&amp;w=300&amp;sz=26&amp;hl=en&amp;start=5&amp;um=1&amp;tbnid=I0sqkBBIFYMPEM:&amp;tbnh=123&amp;tbnw=95&amp;prev=/images%3Fq%3Dplant%2Btrees%26svnum%3D10%26um%3D1%26hl%3Den" TargetMode="External"/><Relationship Id="rId9" Type="http://schemas.openxmlformats.org/officeDocument/2006/relationships/image" Target="../media/image12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Tahoma"/>
              </a:rPr>
              <a:t>How do we pollute our environment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Tahoma"/>
              </a:rPr>
              <a:t>List 5 way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Picture 5" descr="pollutio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780000" y="836640"/>
            <a:ext cx="1584000" cy="1224000"/>
          </a:xfrm>
          <a:prstGeom prst="rect">
            <a:avLst/>
          </a:prstGeom>
          <a:ln w="0">
            <a:noFill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Tahoma"/>
              </a:rPr>
              <a:t>Indicator species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ooking at Lichens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Lichen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are the crusty organisms that grow in places such as on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rock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brick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You can also find them on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gravestone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and the side of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tree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y range in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colour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from grey-green to orange and red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Picture 5" descr="800px-Custer_liche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88000" y="333360"/>
            <a:ext cx="1362240" cy="10191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" descr="Burckhardt,%2520Lichen%2520Tree%2520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156360" y="5084640"/>
            <a:ext cx="2298600" cy="16527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9" descr="lichen-3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050920" y="5013360"/>
            <a:ext cx="2089440" cy="156672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Tahoma"/>
              </a:rPr>
              <a:t>Lichen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Tahoma"/>
              </a:rPr>
              <a:t>Sulphur dioxide gas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is produced when fuels like coal and oil are burned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ome lichens are very </a:t>
            </a:r>
            <a:r>
              <a:rPr b="0" lang="en-US" sz="1800" spc="-1" strike="noStrike">
                <a:solidFill>
                  <a:srgbClr val="ffcc00"/>
                </a:solidFill>
                <a:latin typeface="Tahoma"/>
              </a:rPr>
              <a:t>sensitive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to air polluti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 areas of low air pollution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a large variety of different lichen speci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lichens tend to be big and fluff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 areas of high air pollution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very limited variety of lichen speci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lichens tend to be small and crust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e can use lichens as an </a:t>
            </a:r>
            <a:r>
              <a:rPr b="1" lang="en-US" sz="1800" spc="-1" strike="noStrike">
                <a:solidFill>
                  <a:srgbClr val="ffcc00"/>
                </a:solidFill>
                <a:latin typeface="Tahoma"/>
              </a:rPr>
              <a:t>indicator species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Explain what you think an indicator species is!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Picture 5" descr="lichen_waxpape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708360" y="0"/>
            <a:ext cx="1871640" cy="16444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7" descr="lichen2"/>
          <p:cNvPicPr/>
          <p:nvPr/>
        </p:nvPicPr>
        <p:blipFill>
          <a:blip r:embed="rId3"/>
          <a:stretch/>
        </p:blipFill>
        <p:spPr>
          <a:xfrm>
            <a:off x="7135920" y="4292640"/>
            <a:ext cx="2008080" cy="25653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9" descr="yellowLichen"/>
          <p:cNvPicPr/>
          <p:nvPr/>
        </p:nvPicPr>
        <p:blipFill>
          <a:blip r:embed="rId4"/>
          <a:stretch/>
        </p:blipFill>
        <p:spPr>
          <a:xfrm>
            <a:off x="7470720" y="0"/>
            <a:ext cx="1673280" cy="170028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ffffff"/>
                </a:solidFill>
                <a:latin typeface="Tahoma"/>
              </a:rPr>
              <a:t>Air pollution – can you think of any examples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Picture 7" descr="air-pollution-systems"/>
          <p:cNvPicPr/>
          <p:nvPr/>
        </p:nvPicPr>
        <p:blipFill>
          <a:blip r:embed="rId1"/>
          <a:stretch/>
        </p:blipFill>
        <p:spPr>
          <a:xfrm>
            <a:off x="2556000" y="2708280"/>
            <a:ext cx="3743280" cy="3238560"/>
          </a:xfrm>
          <a:prstGeom prst="rect">
            <a:avLst/>
          </a:prstGeom>
          <a:ln w="0">
            <a:noFill/>
          </a:ln>
        </p:spPr>
      </p:pic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ffffff"/>
                </a:solidFill>
                <a:latin typeface="Tahoma"/>
              </a:rPr>
              <a:t>Water pollution – can you think of any examples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Picture 5" descr="Water pollution"/>
          <p:cNvPicPr/>
          <p:nvPr/>
        </p:nvPicPr>
        <p:blipFill>
          <a:blip r:embed="rId1"/>
          <a:stretch/>
        </p:blipFill>
        <p:spPr>
          <a:xfrm>
            <a:off x="611280" y="2349360"/>
            <a:ext cx="3682800" cy="27622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pollution"/>
          <p:cNvPicPr/>
          <p:nvPr/>
        </p:nvPicPr>
        <p:blipFill>
          <a:blip r:embed="rId2"/>
          <a:stretch/>
        </p:blipFill>
        <p:spPr>
          <a:xfrm>
            <a:off x="4932360" y="1773360"/>
            <a:ext cx="2944800" cy="397008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ffffff"/>
                </a:solidFill>
                <a:latin typeface="Tahoma"/>
              </a:rPr>
              <a:t>Land pollution – can you think of any examples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Picture 5" descr="03-03-03"/>
          <p:cNvPicPr/>
          <p:nvPr/>
        </p:nvPicPr>
        <p:blipFill>
          <a:blip r:embed="rId1"/>
          <a:stretch/>
        </p:blipFill>
        <p:spPr>
          <a:xfrm>
            <a:off x="2340000" y="1628640"/>
            <a:ext cx="4381560" cy="4286520"/>
          </a:xfrm>
          <a:prstGeom prst="rect">
            <a:avLst/>
          </a:prstGeom>
          <a:ln w="0">
            <a:noFill/>
          </a:ln>
        </p:spPr>
      </p:pic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AU" sz="4000" spc="-1" strike="noStrike">
                <a:solidFill>
                  <a:srgbClr val="ffffff"/>
                </a:solidFill>
                <a:latin typeface="Tahoma"/>
              </a:rPr>
              <a:t>Impact on the Carbon Cycl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List as many ways that human activity may disrupt the Carbon Cyc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Use your cycle diagram to help yo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Discu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Tahoma"/>
              </a:rPr>
              <a:t>What are fossil fuels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ossil fuel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re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Tahoma"/>
                <a:hlinkClick r:id="rId1"/>
              </a:rPr>
              <a:t>hydrocarbon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primarily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coal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petroleum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Tahoma"/>
                <a:hlinkClick r:id="rId4"/>
              </a:rPr>
              <a:t>fuel oil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Tahoma"/>
                <a:hlinkClick r:id="rId5"/>
              </a:rPr>
              <a:t>ga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formed from the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Tahoma"/>
                <a:hlinkClick r:id="rId6"/>
              </a:rPr>
              <a:t>fossilised remain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of dead plants and animals by exposure to heat and pressure in the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Tahoma"/>
                <a:hlinkClick r:id="rId7"/>
              </a:rPr>
              <a:t>Earth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's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Tahoma"/>
                <a:hlinkClick r:id="rId8"/>
              </a:rPr>
              <a:t>crus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over hundreds of millions of yea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Tahoma"/>
              </a:rPr>
              <a:t>What’s the problem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burning of fossil fuels by humans is the largest source of emissions of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Tahoma"/>
                <a:hlinkClick r:id="rId1"/>
              </a:rPr>
              <a:t>carbon dioxid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which is one of the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greenhouse gase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hat contributes to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global warming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s means that the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Tahoma"/>
                <a:hlinkClick r:id="rId4"/>
              </a:rPr>
              <a:t>surface temperatur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of the Earth will rise in respons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Tahoma"/>
              </a:rPr>
              <a:t>Fossil Fuel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Picture 5" descr="Global_Carbon_Emission_by_Type"/>
          <p:cNvPicPr/>
          <p:nvPr/>
        </p:nvPicPr>
        <p:blipFill>
          <a:blip r:embed="rId1"/>
          <a:stretch/>
        </p:blipFill>
        <p:spPr>
          <a:xfrm>
            <a:off x="1042920" y="1746360"/>
            <a:ext cx="7056360" cy="511164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Tahoma"/>
              </a:rPr>
              <a:t>What can we do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List at least 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Picture 5" descr="Mojave2"/>
          <p:cNvPicPr/>
          <p:nvPr/>
        </p:nvPicPr>
        <p:blipFill>
          <a:blip r:embed="rId1"/>
          <a:stretch/>
        </p:blipFill>
        <p:spPr>
          <a:xfrm>
            <a:off x="5292720" y="3645000"/>
            <a:ext cx="3311640" cy="24890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31657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276720" y="1844640"/>
            <a:ext cx="1803240" cy="21607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Recycle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987640" y="4292640"/>
            <a:ext cx="1938240" cy="19382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1" descr="compost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867280" y="1440000"/>
            <a:ext cx="2665440" cy="18478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3" descr="phtreeplanting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250920" y="2997360"/>
            <a:ext cx="2281320" cy="295272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4T12:31:38Z</dcterms:created>
  <dc:creator>Jack Timmins</dc:creator>
  <dc:description/>
  <dc:language>en-US</dc:language>
  <cp:lastModifiedBy>LEGION2</cp:lastModifiedBy>
  <dcterms:modified xsi:type="dcterms:W3CDTF">2016-01-14T11:02:46Z</dcterms:modified>
  <cp:revision>8</cp:revision>
  <dc:subject/>
  <dc:title>How do we pollute our environment?</dc:title>
</cp:coreProperties>
</file>