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4E37-FAB4-4204-B190-420051289E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we pollute our environmen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5 w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ollute our 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5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cator speci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at Liche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chens are the crusty organisms that grow in places such as on rocks and brick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can also find them on gravestones and the side of tre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range in colour from grey-green to orange and red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spe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Liche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hens are the crusty organisms that grow in places such as on rocks and bri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find them on gravestones and the side of tre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ange in colour from grey-green to orange and red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ch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lphur dioxide gas is produced when fuels like coal and oil are burn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lichens are very sensitive to air pol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reas of low air pollu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 large variety of different lichen spec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chens tend to be big and fluff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reas of high air pollu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very limited variety of lichen spec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chens tend to be small and crus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use lichens as an indicator speci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 what you think an indicator species i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gas is produced when fuels like coal and oil are bur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ichens are very sensitive to air pol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reas of low air pol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 large variety of different lich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chens tend to be big and fluf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reas of high air pol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ry limited variety of lich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chens tend to be small and cru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lichens as an indicator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you think an indicator species i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d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act on the Carb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as many ways that human activity may disrupt the Carb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your cycle diagram to help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on the Carb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as many ways that human activity may disrupt the Carb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your cycle diagram to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fossil fuel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 fuels are hydrocarbons, primarily coal, petroleum, fuel oil and ga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formed from the fossilised remains of dead plants and animals by exposure to heat and pressure in the Earth's crust over hundreds of millions of yea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fossil fue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fuels are hydrocarbons, primarily coal, petroleum, fuel oil and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rmed from the fossilised remains of dead plants and animals by exposure to heat and pressure in the Earth's crust over hundreds of million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the probl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urning of fossil fuels by humans is the largest source of emissions of carbon dioxide, which is one of the greenhouse gases that contributes to global warm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eans that the surface temperature of the Earth will rise in respon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probl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rning of fossil fuels by humans is the largest source of emissions of carbon dioxide, which is one of the greenhouse gases that contributes to global war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 surface temperature of the Earth will rise in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ssil Fu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ssil Fu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at least 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at least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BCBB-4EA6-48CA-BCAD-5C7246E2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3EFC-EC61-48A9-B131-A87EFB49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A17F-F250-4954-A71E-140F115D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9D9F-F624-40E1-A379-9A413D55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9C89A-F92B-4C6B-A75B-A5FCA33A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84A46-E7E8-46C2-9F05-E6E9C969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C4853-6D0B-4395-B74F-2F838E98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2FFFF-8D1C-45C6-ACF7-F4515A5F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C4098-1D46-4CB1-B88E-A4AB4CC4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EDF2C-912A-43BB-BE38-A515D729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998BB-DA71-47C1-ACA9-48C2EE0C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8269-CCD2-4132-91D3-E90285CD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A80C5-2C2A-4637-8A55-C58B409E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4CAD3-87D9-4222-BB3A-440733C7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81A8A-9B16-447D-B137-6570E0FB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BD73F-1443-4BBF-BF98-4A86742E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567C2-866C-4684-8FE0-A6C7D479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AFD-35E7-4408-BD8D-CBB6640F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4DE-F265-4FDD-A01B-BACDD5CD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157-DEEB-420F-B87E-43113615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591-F9C8-4194-9D87-9F93579C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C195-04AE-4DB3-A43A-0185D419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57CD-3703-4BC8-910C-19E3B01C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4F7-53C2-45ED-AE08-A20C648C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D95A-2E9C-4A6E-808F-16E484FD4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9AE4-D7C6-468A-B396-E3D2419710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tendringdc.gov.uk/NR/rdonlyres/51200D74-A40B-4104-AE7E-BD2FED5F6A0E/0/pollution.jpeg&amp;imgrefurl=http://www.tendringdc.gov.uk/TendringDC/Environment/EIR.htm&amp;h=475&amp;w=613&amp;sz=35&amp;hl=en&amp;start=3&amp;um=1&amp;tbnid=FPAQhREOEfwHhM:&amp;tbnh=105&amp;tbnw=136&amp;prev=/images%3Fq%3Dpollution%26svnum%3D10%26um%3D1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upload.wikimedia.org/wikipedia/commons/thumb/c/cf/Custer_lichen.jpg/800px-Custer_lichen.jpg&amp;imgrefurl=http://commons.wikimedia.org/wiki/Image:Custer_lichen.jpg&amp;h=600&amp;w=800&amp;sz=199&amp;hl=en&amp;start=18&amp;um=1&amp;tbnid=H-bzlkQ-8TNafM:&amp;tbnh=107&amp;tbnw=143&amp;prev=/images%3Fq%3Dlichen%26svnum%3D10%26um%3D1%26hl%3De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.uk/imgres?imgurl=http://www.milkmag.org/images/Burckhardt,%2520Lichen%2520Tree%25202.jpg&amp;imgrefurl=http://www.milkmag.org/burckhardt%2520page.htm&amp;h=338&amp;w=468&amp;sz=74&amp;hl=en&amp;start=3&amp;um=1&amp;tbnid=GGeHr_GQqKLF-M:&amp;tbnh=92&amp;tbnw=128&amp;prev=/images%3Fq%3Dlichen%26svnum%3D10%26um%3D1%26hl%3De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.uk/imgres?imgurl=http://www.adventurist.net/trips/e-rock_04-2001/gallery_12-04/lichen-3.jpg&amp;imgrefurl=http://www.adventurist.net/trips/e-rock_04-2001/gallery_12-04/&amp;h=713&amp;w=950&amp;sz=163&amp;hl=en&amp;start=10&amp;um=1&amp;tbnid=ujSLeUgCAQl7RM:&amp;tbnh=111&amp;tbnw=148&amp;prev=/images%3Fq%3Dlichen%26svnum%3D10%26um%3D1%26hl%3Den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ontariowildflower.com/images/lichen_waxpaper.jpg&amp;imgrefurl=http://www.ontariowildflower.com/moss.htm&amp;h=352&amp;w=400&amp;sz=26&amp;hl=en&amp;start=31&amp;um=1&amp;tbnid=9rUGz2BQYXPyWM:&amp;tbnh=109&amp;tbnw=124&amp;prev=/images%3Fq%3Dlichen%26start%3D21%26ndsp%3D21%26svnum%3D10%26um%3D1%26hl%3Den%26sa%3DN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ydrocarbon" TargetMode="External"/><Relationship Id="rId2" Type="http://schemas.openxmlformats.org/officeDocument/2006/relationships/hyperlink" Target="http://en.wikipedia.org/wiki/Coal" TargetMode="External"/><Relationship Id="rId3" Type="http://schemas.openxmlformats.org/officeDocument/2006/relationships/hyperlink" Target="http://en.wikipedia.org/wiki/Petroleum" TargetMode="External"/><Relationship Id="rId4" Type="http://schemas.openxmlformats.org/officeDocument/2006/relationships/hyperlink" Target="http://en.wikipedia.org/wiki/Fuel_oil" TargetMode="External"/><Relationship Id="rId5" Type="http://schemas.openxmlformats.org/officeDocument/2006/relationships/hyperlink" Target="http://en.wikipedia.org/wiki/Natural_gas" TargetMode="External"/><Relationship Id="rId6" Type="http://schemas.openxmlformats.org/officeDocument/2006/relationships/hyperlink" Target="http://en.wikipedia.org/wiki/Fossil" TargetMode="External"/><Relationship Id="rId7" Type="http://schemas.openxmlformats.org/officeDocument/2006/relationships/hyperlink" Target="http://en.wikipedia.org/wiki/Earth" TargetMode="External"/><Relationship Id="rId8" Type="http://schemas.openxmlformats.org/officeDocument/2006/relationships/hyperlink" Target="http://en.wikipedia.org/wiki/Crust_%28geology%29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rbon_dioxide" TargetMode="External"/><Relationship Id="rId2" Type="http://schemas.openxmlformats.org/officeDocument/2006/relationships/hyperlink" Target="http://en.wikipedia.org/wiki/Greenhouse_gas" TargetMode="External"/><Relationship Id="rId3" Type="http://schemas.openxmlformats.org/officeDocument/2006/relationships/hyperlink" Target="http://en.wikipedia.org/wiki/Global_warming" TargetMode="External"/><Relationship Id="rId4" Type="http://schemas.openxmlformats.org/officeDocument/2006/relationships/hyperlink" Target="http://en.wikipedia.org/wiki/Average_surface_temperature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.uk/imgres?imgurl=http://www.stuff.co.nz/images/316572.jpg&amp;imgrefurl=http://www.stuff.co.nz/4163340a34.html&amp;h=360&amp;w=300&amp;sz=35&amp;hl=en&amp;start=16&amp;um=1&amp;tbnid=xLXUThheT2RG0M:&amp;tbnh=121&amp;tbnw=101&amp;prev=/images%3Fq%3Dbike%26svnum%3D10%26um%3D1%26hl%3Den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.uk/imgres?imgurl=http://www.lancashire.gov.uk/environment/waste/reduction/Images/Recycle.jpg&amp;imgrefurl=http://www.lancashire.gov.uk/environment/waste/reduction/recycle.asp&amp;h=792&amp;w=792&amp;sz=120&amp;hl=en&amp;start=2&amp;um=1&amp;tbnid=Ew1MOhxuV4IX2M:&amp;tbnh=143&amp;tbnw=143&amp;prev=/images%3Fq%3Drecycle%26svnum%3D10%26um%3D1%26hl%3Den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.uk/imgres?imgurl=http://www.mytinyplot.co.uk/photos/compost.jpg&amp;imgrefurl=http://www.mytinyplot.co.uk/%3Fp%3D83&amp;h=306&amp;w=440&amp;sz=82&amp;hl=en&amp;start=15&amp;um=1&amp;tbnid=_VZ-O_yURrQ6TM:&amp;tbnh=88&amp;tbnw=127&amp;prev=/images%3Fq%3Dcompost%26svnum%3D10%26um%3D1%26hl%3Den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.uk/imgres?imgurl=http://www.edenslostandfound.org/home/images/photos/phtreeplanting.jpg&amp;imgrefurl=http://www.edenslostandfound.org/home/preview.php%3Fid%3D86&amp;h=387&amp;w=300&amp;sz=26&amp;hl=en&amp;start=5&amp;um=1&amp;tbnid=I0sqkBBIFYMPEM:&amp;tbnh=123&amp;tbnw=95&amp;prev=/images%3Fq%3Dplant%2Btrees%26svnum%3D10%26um%3D1%26hl%3Den" TargetMode="External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How do we pollute our environmen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List 5 way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pollu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836640"/>
            <a:ext cx="1584000" cy="1224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Indicator speci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ing at Lichen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iche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the crusty organisms that grow in places such as o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roc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bric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an also find them o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graveston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the side of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tre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range i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colou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rom grey-green to orange and red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800px-Custer_lich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3336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Burckhardt,%2520Lichen%2520Tree%252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5084640"/>
            <a:ext cx="2298600" cy="1652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lichen-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0920" y="5013360"/>
            <a:ext cx="2089440" cy="15667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Liche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Sulphur dioxide g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s produced when fuels like coal and oil are burne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lichens are very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sensiti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o air pollu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reas of low air pollu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a large variety of different lichen spec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ichens tend to be big and fluff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reas of high air pollu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very limited variety of lichen spec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ichens tend to be small and crus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can use lichens as an 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indicator speci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xplain what you think an indicator species is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lichen_wax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0"/>
            <a:ext cx="1871640" cy="1644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lichen2"/>
          <p:cNvPicPr/>
          <p:nvPr/>
        </p:nvPicPr>
        <p:blipFill>
          <a:blip r:embed="rId3"/>
          <a:stretch/>
        </p:blipFill>
        <p:spPr>
          <a:xfrm>
            <a:off x="7135920" y="4292640"/>
            <a:ext cx="2008080" cy="2565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yellowLichen"/>
          <p:cNvPicPr/>
          <p:nvPr/>
        </p:nvPicPr>
        <p:blipFill>
          <a:blip r:embed="rId4"/>
          <a:stretch/>
        </p:blipFill>
        <p:spPr>
          <a:xfrm>
            <a:off x="7470720" y="0"/>
            <a:ext cx="1673280" cy="17002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Air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7" descr="air-pollution-systems"/>
          <p:cNvPicPr/>
          <p:nvPr/>
        </p:nvPicPr>
        <p:blipFill>
          <a:blip r:embed="rId1"/>
          <a:stretch/>
        </p:blipFill>
        <p:spPr>
          <a:xfrm>
            <a:off x="2556000" y="2708280"/>
            <a:ext cx="3743280" cy="32385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Water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Water pollution"/>
          <p:cNvPicPr/>
          <p:nvPr/>
        </p:nvPicPr>
        <p:blipFill>
          <a:blip r:embed="rId1"/>
          <a:stretch/>
        </p:blipFill>
        <p:spPr>
          <a:xfrm>
            <a:off x="611280" y="2349360"/>
            <a:ext cx="3682800" cy="2762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pollution"/>
          <p:cNvPicPr/>
          <p:nvPr/>
        </p:nvPicPr>
        <p:blipFill>
          <a:blip r:embed="rId2"/>
          <a:stretch/>
        </p:blipFill>
        <p:spPr>
          <a:xfrm>
            <a:off x="4932360" y="1773360"/>
            <a:ext cx="2944800" cy="39700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Land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03-03-03"/>
          <p:cNvPicPr/>
          <p:nvPr/>
        </p:nvPicPr>
        <p:blipFill>
          <a:blip r:embed="rId1"/>
          <a:stretch/>
        </p:blipFill>
        <p:spPr>
          <a:xfrm>
            <a:off x="2340000" y="1628640"/>
            <a:ext cx="4381560" cy="42865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Impact on the Carbon Cy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ist as many ways that human activity may disrupt the Carbon Cy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 your cycle diagram to help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iscu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 are fossil fuel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ssil fue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ydrocarb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primarily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co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petrole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fuel oi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g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formed from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fossilised remai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dead plants and animals by exposure to heat and pressure in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Ear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's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cr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ver hundreds of millions of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’s the proble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urning of fossil fuels by humans is the largest source of emissions of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carbon dioxi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hich is one of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greenhouse ga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contributes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global warm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eans that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surface tempera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Earth will rise in respo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Fossil Fu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Global_Carbon_Emission_by_Type"/>
          <p:cNvPicPr/>
          <p:nvPr/>
        </p:nvPicPr>
        <p:blipFill>
          <a:blip r:embed="rId1"/>
          <a:stretch/>
        </p:blipFill>
        <p:spPr>
          <a:xfrm>
            <a:off x="1042920" y="1746360"/>
            <a:ext cx="7056360" cy="51116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 can we do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ist at least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Mojave2"/>
          <p:cNvPicPr/>
          <p:nvPr/>
        </p:nvPicPr>
        <p:blipFill>
          <a:blip r:embed="rId1"/>
          <a:stretch/>
        </p:blipFill>
        <p:spPr>
          <a:xfrm>
            <a:off x="5292720" y="3645000"/>
            <a:ext cx="3311640" cy="248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3165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1844640"/>
            <a:ext cx="1803240" cy="216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Recycl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87640" y="4292640"/>
            <a:ext cx="1938240" cy="19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compost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1440000"/>
            <a:ext cx="2665440" cy="1847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phtreeplanti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50920" y="2997360"/>
            <a:ext cx="2281320" cy="29527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2:31:38Z</dcterms:created>
  <dc:creator>Jack Timmins</dc:creator>
  <dc:description/>
  <dc:language>en-US</dc:language>
  <cp:lastModifiedBy>LEGION2</cp:lastModifiedBy>
  <dcterms:modified xsi:type="dcterms:W3CDTF">2016-01-14T11:02:46Z</dcterms:modified>
  <cp:revision>8</cp:revision>
  <dc:subject/>
  <dc:title>How do we pollute our environment?</dc:title>
</cp:coreProperties>
</file>