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23C2-6718-4C1B-AEA0-4BFC09A67F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0C7-4D14-4D45-AD35-9F46BAE2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487-80DD-4186-9302-24537AEA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DE7-657A-45D3-ADA5-D3785165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ECE-4566-422F-B116-82E441C7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582CA-CEAD-4AA1-8616-72EF443F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962CE-1D4F-4165-91F6-91BC8CF6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F06AE-FD26-4C26-8D16-83BF4467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9D16C-EEB4-44E0-A4BF-BABA551D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C33AA-1BD4-45C6-B389-AFFB36E5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197C4-7901-40A9-9A60-B3DDAC23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0E9F7-8A46-41D4-876A-7374084D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239-4585-4A44-8D9C-E088E34F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6697C-BA1A-4D88-8933-E447CBE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D0BA1-46F5-4EF0-A67D-BBBE71BA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AA347-44EA-4FEF-962F-E2895BE9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6CBF2-6A69-4419-AA90-E2AEFA58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FA25C-430A-41F6-8D6D-0D37AEDC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974-76BC-4FCA-8F60-3AD89BC8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A09-7E64-43D2-A9C6-BB432F9B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2C7-3429-4B57-8395-C2372523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9C2-C743-42EC-A6A5-2D445D80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355-DF80-484D-8410-782F687C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C98-E099-4D7C-846C-68A1D940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581-5D9B-4D26-8FB0-E1E44A0C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75A3-2FC7-4CC1-A9AD-7327A0026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94B5-25F2-4310-86B8-79E6CA6774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endringdc.gov.uk/NR/rdonlyres/51200D74-A40B-4104-AE7E-BD2FED5F6A0E/0/pollution.jpeg&amp;imgrefurl=http://www.tendringdc.gov.uk/TendringDC/Environment/EIR.htm&amp;h=475&amp;w=613&amp;sz=35&amp;hl=en&amp;start=3&amp;um=1&amp;tbnid=FPAQhREOEfwHhM:&amp;tbnh=105&amp;tbnw=136&amp;prev=/images%3Fq%3Dpollution%26svnum%3D10%26um%3D1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c/cf/Custer_lichen.jpg/800px-Custer_lichen.jpg&amp;imgrefurl=http://commons.wikimedia.org/wiki/Image:Custer_lichen.jpg&amp;h=600&amp;w=800&amp;sz=199&amp;hl=en&amp;start=18&amp;um=1&amp;tbnid=H-bzlkQ-8TNafM:&amp;tbnh=107&amp;tbnw=143&amp;prev=/images%3Fq%3Dlichen%26svnum%3D10%26um%3D1%26hl%3De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.uk/imgres?imgurl=http://www.milkmag.org/images/Burckhardt,%2520Lichen%2520Tree%25202.jpg&amp;imgrefurl=http://www.milkmag.org/burckhardt%2520page.htm&amp;h=338&amp;w=468&amp;sz=74&amp;hl=en&amp;start=3&amp;um=1&amp;tbnid=GGeHr_GQqKLF-M:&amp;tbnh=92&amp;tbnw=128&amp;prev=/images%3Fq%3Dlichen%26svnum%3D10%26um%3D1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.uk/imgres?imgurl=http://www.adventurist.net/trips/e-rock_04-2001/gallery_12-04/lichen-3.jpg&amp;imgrefurl=http://www.adventurist.net/trips/e-rock_04-2001/gallery_12-04/&amp;h=713&amp;w=950&amp;sz=163&amp;hl=en&amp;start=10&amp;um=1&amp;tbnid=ujSLeUgCAQl7RM:&amp;tbnh=111&amp;tbnw=148&amp;prev=/images%3Fq%3Dlichen%26svnum%3D10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ontariowildflower.com/images/lichen_waxpaper.jpg&amp;imgrefurl=http://www.ontariowildflower.com/moss.htm&amp;h=352&amp;w=400&amp;sz=26&amp;hl=en&amp;start=31&amp;um=1&amp;tbnid=9rUGz2BQYXPyWM:&amp;tbnh=109&amp;tbnw=124&amp;prev=/images%3Fq%3Dlichen%26start%3D21%26ndsp%3D21%26svnum%3D10%26um%3D1%26hl%3Den%26sa%3DN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drocarbon" TargetMode="External"/><Relationship Id="rId2" Type="http://schemas.openxmlformats.org/officeDocument/2006/relationships/hyperlink" Target="http://en.wikipedia.org/wiki/Coal" TargetMode="External"/><Relationship Id="rId3" Type="http://schemas.openxmlformats.org/officeDocument/2006/relationships/hyperlink" Target="http://en.wikipedia.org/wiki/Petroleum" TargetMode="External"/><Relationship Id="rId4" Type="http://schemas.openxmlformats.org/officeDocument/2006/relationships/hyperlink" Target="http://en.wikipedia.org/wiki/Fuel_oil" TargetMode="External"/><Relationship Id="rId5" Type="http://schemas.openxmlformats.org/officeDocument/2006/relationships/hyperlink" Target="http://en.wikipedia.org/wiki/Natural_gas" TargetMode="External"/><Relationship Id="rId6" Type="http://schemas.openxmlformats.org/officeDocument/2006/relationships/hyperlink" Target="http://en.wikipedia.org/wiki/Fossil" TargetMode="External"/><Relationship Id="rId7" Type="http://schemas.openxmlformats.org/officeDocument/2006/relationships/hyperlink" Target="http://en.wikipedia.org/wiki/Earth" TargetMode="External"/><Relationship Id="rId8" Type="http://schemas.openxmlformats.org/officeDocument/2006/relationships/hyperlink" Target="http://en.wikipedia.org/wiki/Crust_%28geology%29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bon_dioxide" TargetMode="External"/><Relationship Id="rId2" Type="http://schemas.openxmlformats.org/officeDocument/2006/relationships/hyperlink" Target="http://en.wikipedia.org/wiki/Greenhouse_gas" TargetMode="External"/><Relationship Id="rId3" Type="http://schemas.openxmlformats.org/officeDocument/2006/relationships/hyperlink" Target="http://en.wikipedia.org/wiki/Global_warming" TargetMode="External"/><Relationship Id="rId4" Type="http://schemas.openxmlformats.org/officeDocument/2006/relationships/hyperlink" Target="http://en.wikipedia.org/wiki/Average_surface_temperatur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.uk/imgres?imgurl=http://www.stuff.co.nz/images/316572.jpg&amp;imgrefurl=http://www.stuff.co.nz/4163340a34.html&amp;h=360&amp;w=300&amp;sz=35&amp;hl=en&amp;start=16&amp;um=1&amp;tbnid=xLXUThheT2RG0M:&amp;tbnh=121&amp;tbnw=101&amp;prev=/images%3Fq%3Dbike%26svnum%3D10%26um%3D1%26hl%3De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.uk/imgres?imgurl=http://www.lancashire.gov.uk/environment/waste/reduction/Images/Recycle.jpg&amp;imgrefurl=http://www.lancashire.gov.uk/environment/waste/reduction/recycle.asp&amp;h=792&amp;w=792&amp;sz=120&amp;hl=en&amp;start=2&amp;um=1&amp;tbnid=Ew1MOhxuV4IX2M:&amp;tbnh=143&amp;tbnw=143&amp;prev=/images%3Fq%3Drecycle%26svnum%3D10%26um%3D1%26hl%3De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.uk/imgres?imgurl=http://www.mytinyplot.co.uk/photos/compost.jpg&amp;imgrefurl=http://www.mytinyplot.co.uk/%3Fp%3D83&amp;h=306&amp;w=440&amp;sz=82&amp;hl=en&amp;start=15&amp;um=1&amp;tbnid=_VZ-O_yURrQ6TM:&amp;tbnh=88&amp;tbnw=127&amp;prev=/images%3Fq%3Dcompost%26svnum%3D10%26um%3D1%26hl%3Den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.uk/imgres?imgurl=http://www.edenslostandfound.org/home/images/photos/phtreeplanting.jpg&amp;imgrefurl=http://www.edenslostandfound.org/home/preview.php%3Fid%3D86&amp;h=387&amp;w=300&amp;sz=26&amp;hl=en&amp;start=5&amp;um=1&amp;tbnid=I0sqkBBIFYMPEM:&amp;tbnh=123&amp;tbnw=95&amp;prev=/images%3Fq%3Dplant%2Btrees%26svnum%3D10%26um%3D1%26hl%3Den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How do we pollute our environme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st 5 wa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pol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836640"/>
            <a:ext cx="1584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Indicator speci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ing at Lichen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iche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the crusty organisms that grow in places such as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o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ri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also find them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avesto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side of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re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range i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olo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grey-green to orange and re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800px-Custer_lich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3336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Burckhardt,%2520Lichen%2520Tree%25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84640"/>
            <a:ext cx="2298600" cy="1652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ichen-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5013360"/>
            <a:ext cx="2089440" cy="15667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c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ulphur dioxide g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produced when fuels like coal and oil are burn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lichens are very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ensi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air pol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low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 large variety of different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big and fluff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high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very limited variety of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small and crus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an use lichens as an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ndicator speci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xplain what you think an indicator species i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lichen_wax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187164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lichen2"/>
          <p:cNvPicPr/>
          <p:nvPr/>
        </p:nvPicPr>
        <p:blipFill>
          <a:blip r:embed="rId3"/>
          <a:stretch/>
        </p:blipFill>
        <p:spPr>
          <a:xfrm>
            <a:off x="7135920" y="4292640"/>
            <a:ext cx="2008080" cy="25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yellowLichen"/>
          <p:cNvPicPr/>
          <p:nvPr/>
        </p:nvPicPr>
        <p:blipFill>
          <a:blip r:embed="rId4"/>
          <a:stretch/>
        </p:blipFill>
        <p:spPr>
          <a:xfrm>
            <a:off x="7470720" y="0"/>
            <a:ext cx="1673280" cy="1700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Ai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air-pollution-systems"/>
          <p:cNvPicPr/>
          <p:nvPr/>
        </p:nvPicPr>
        <p:blipFill>
          <a:blip r:embed="rId1"/>
          <a:stretch/>
        </p:blipFill>
        <p:spPr>
          <a:xfrm>
            <a:off x="2556000" y="2708280"/>
            <a:ext cx="3743280" cy="32385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Wate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Water pollution"/>
          <p:cNvPicPr/>
          <p:nvPr/>
        </p:nvPicPr>
        <p:blipFill>
          <a:blip r:embed="rId1"/>
          <a:stretch/>
        </p:blipFill>
        <p:spPr>
          <a:xfrm>
            <a:off x="611280" y="2349360"/>
            <a:ext cx="3682800" cy="276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ollution"/>
          <p:cNvPicPr/>
          <p:nvPr/>
        </p:nvPicPr>
        <p:blipFill>
          <a:blip r:embed="rId2"/>
          <a:stretch/>
        </p:blipFill>
        <p:spPr>
          <a:xfrm>
            <a:off x="4932360" y="1773360"/>
            <a:ext cx="2944800" cy="39700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Land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03-03-03"/>
          <p:cNvPicPr/>
          <p:nvPr/>
        </p:nvPicPr>
        <p:blipFill>
          <a:blip r:embed="rId1"/>
          <a:stretch/>
        </p:blipFill>
        <p:spPr>
          <a:xfrm>
            <a:off x="2340000" y="1628640"/>
            <a:ext cx="4381560" cy="42865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Impact on the Carbon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s many ways that human activity may disrupt the Carbon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 your cycle diagram to help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iscu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are fossil fue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ssil fu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ydrocarb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rimari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o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etrole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fuel o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g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ormed from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ossilised remai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dead plants and animals by exposure to heat and pressure in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ar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'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cr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hundreds of millions of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’s the proble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rning of fossil fuels by humans is the largest source of emissions of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carbon diox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is one of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greenhouse g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contributes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global warm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eans that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urface temper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Earth will rise in respo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Fossil Fu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Global_Carbon_Emission_by_Type"/>
          <p:cNvPicPr/>
          <p:nvPr/>
        </p:nvPicPr>
        <p:blipFill>
          <a:blip r:embed="rId1"/>
          <a:stretch/>
        </p:blipFill>
        <p:spPr>
          <a:xfrm>
            <a:off x="1042920" y="1746360"/>
            <a:ext cx="7056360" cy="5111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can we d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t least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Mojave2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48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3165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844640"/>
            <a:ext cx="1803240" cy="216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Recycl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4292640"/>
            <a:ext cx="1938240" cy="19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ompos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1440000"/>
            <a:ext cx="2665440" cy="184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phtreeplant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0920" y="2997360"/>
            <a:ext cx="228132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2:31:38Z</dcterms:created>
  <dc:creator>Jack Timmins</dc:creator>
  <dc:description/>
  <dc:language>en-US</dc:language>
  <cp:lastModifiedBy>LEGION2</cp:lastModifiedBy>
  <dcterms:modified xsi:type="dcterms:W3CDTF">2016-01-14T11:02:46Z</dcterms:modified>
  <cp:revision>8</cp:revision>
  <dc:subject/>
  <dc:title>How do we pollute our environment?</dc:title>
</cp:coreProperties>
</file>