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874A-1468-43D6-9E82-19CB2BEF2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C69-2F6A-4B4C-B6F8-91031379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EC2-4369-427A-AC36-645DA2B5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D4D-E64B-469E-9A39-989FF158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A2F-7295-4936-BB94-21E7EB48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968DB-DF31-426B-A1A1-D57B3185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493D8-7EFE-42B1-8900-FE46EE3F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099AB-BDEE-46F2-BF86-DB10A1C2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2B659-1CE3-4BE3-893A-274473D8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70CD4-7EE7-49AA-8999-502F7AF8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801EB-32F3-4A8A-AC99-14D5A920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CC51D-4C45-4F29-AE50-B4C9ACAE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7F6-60ED-47F3-8FEA-39220332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3BA3C-4A25-4A03-9000-541AA200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2F7B6-1F26-4517-93A9-6BF85A62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6CBA3-9A3D-42D5-BDF3-A9857780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76001-196D-40A6-A334-A0B8F894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6FE68-8F4D-4008-952D-B13DE593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C4B-2544-48CB-82DC-9D947542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A43-545E-4522-9794-F14E701E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F5F-7527-4549-A8FA-976B3115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8D0-BAA6-4C9F-8D18-4DC7BF66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8D7-C423-4A58-8289-F41EE4A8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E5F-C1A2-4D0A-A4BD-ED81EB11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550-9D8B-4711-94A6-6CB480AC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FD87-4212-4363-8021-8AAC21A4B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FB36-6A13-4E63-83E9-75961B8E69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endringdc.gov.uk/NR/rdonlyres/51200D74-A40B-4104-AE7E-BD2FED5F6A0E/0/pollution.jpeg&amp;imgrefurl=http://www.tendringdc.gov.uk/TendringDC/Environment/EIR.htm&amp;h=475&amp;w=613&amp;sz=35&amp;hl=en&amp;start=3&amp;um=1&amp;tbnid=FPAQhREOEfwHhM:&amp;tbnh=105&amp;tbnw=136&amp;prev=/images%3Fq%3Dpollution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c/cf/Custer_lichen.jpg/800px-Custer_lichen.jpg&amp;imgrefurl=http://commons.wikimedia.org/wiki/Image:Custer_lichen.jpg&amp;h=600&amp;w=800&amp;sz=199&amp;hl=en&amp;start=18&amp;um=1&amp;tbnid=H-bzlkQ-8TNafM:&amp;tbnh=107&amp;tbnw=143&amp;prev=/images%3Fq%3Dlichen%26svnum%3D10%26um%3D1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.uk/imgres?imgurl=http://www.milkmag.org/images/Burckhardt,%2520Lichen%2520Tree%25202.jpg&amp;imgrefurl=http://www.milkmag.org/burckhardt%2520page.htm&amp;h=338&amp;w=468&amp;sz=74&amp;hl=en&amp;start=3&amp;um=1&amp;tbnid=GGeHr_GQqKLF-M:&amp;tbnh=92&amp;tbnw=128&amp;prev=/images%3Fq%3Dlichen%26svnum%3D10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.uk/imgres?imgurl=http://www.adventurist.net/trips/e-rock_04-2001/gallery_12-04/lichen-3.jpg&amp;imgrefurl=http://www.adventurist.net/trips/e-rock_04-2001/gallery_12-04/&amp;h=713&amp;w=950&amp;sz=163&amp;hl=en&amp;start=10&amp;um=1&amp;tbnid=ujSLeUgCAQl7RM:&amp;tbnh=111&amp;tbnw=148&amp;prev=/images%3Fq%3Dlichen%26svnum%3D10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ntariowildflower.com/images/lichen_waxpaper.jpg&amp;imgrefurl=http://www.ontariowildflower.com/moss.htm&amp;h=352&amp;w=400&amp;sz=26&amp;hl=en&amp;start=31&amp;um=1&amp;tbnid=9rUGz2BQYXPyWM:&amp;tbnh=109&amp;tbnw=124&amp;prev=/images%3Fq%3Dlichen%26start%3D21%26ndsp%3D21%26svnum%3D1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carbon" TargetMode="External"/><Relationship Id="rId2" Type="http://schemas.openxmlformats.org/officeDocument/2006/relationships/hyperlink" Target="http://en.wikipedia.org/wiki/Coal" TargetMode="External"/><Relationship Id="rId3" Type="http://schemas.openxmlformats.org/officeDocument/2006/relationships/hyperlink" Target="http://en.wikipedia.org/wiki/Petroleum" TargetMode="External"/><Relationship Id="rId4" Type="http://schemas.openxmlformats.org/officeDocument/2006/relationships/hyperlink" Target="http://en.wikipedia.org/wiki/Fuel_oil" TargetMode="External"/><Relationship Id="rId5" Type="http://schemas.openxmlformats.org/officeDocument/2006/relationships/hyperlink" Target="http://en.wikipedia.org/wiki/Natural_gas" TargetMode="External"/><Relationship Id="rId6" Type="http://schemas.openxmlformats.org/officeDocument/2006/relationships/hyperlink" Target="http://en.wikipedia.org/wiki/Fossil" TargetMode="External"/><Relationship Id="rId7" Type="http://schemas.openxmlformats.org/officeDocument/2006/relationships/hyperlink" Target="http://en.wikipedia.org/wiki/Earth" TargetMode="External"/><Relationship Id="rId8" Type="http://schemas.openxmlformats.org/officeDocument/2006/relationships/hyperlink" Target="http://en.wikipedia.org/wiki/Crust_%28geology%29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n_dioxide" TargetMode="External"/><Relationship Id="rId2" Type="http://schemas.openxmlformats.org/officeDocument/2006/relationships/hyperlink" Target="http://en.wikipedia.org/wiki/Greenhouse_gas" TargetMode="External"/><Relationship Id="rId3" Type="http://schemas.openxmlformats.org/officeDocument/2006/relationships/hyperlink" Target="http://en.wikipedia.org/wiki/Global_warming" TargetMode="External"/><Relationship Id="rId4" Type="http://schemas.openxmlformats.org/officeDocument/2006/relationships/hyperlink" Target="http://en.wikipedia.org/wiki/Average_surface_temperatur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.uk/imgres?imgurl=http://www.stuff.co.nz/images/316572.jpg&amp;imgrefurl=http://www.stuff.co.nz/4163340a34.html&amp;h=360&amp;w=300&amp;sz=35&amp;hl=en&amp;start=16&amp;um=1&amp;tbnid=xLXUThheT2RG0M:&amp;tbnh=121&amp;tbnw=101&amp;prev=/images%3Fq%3Dbike%26svnum%3D10%26um%3D1%26hl%3De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.uk/imgres?imgurl=http://www.lancashire.gov.uk/environment/waste/reduction/Images/Recycle.jpg&amp;imgrefurl=http://www.lancashire.gov.uk/environment/waste/reduction/recycle.asp&amp;h=792&amp;w=792&amp;sz=120&amp;hl=en&amp;start=2&amp;um=1&amp;tbnid=Ew1MOhxuV4IX2M:&amp;tbnh=143&amp;tbnw=143&amp;prev=/images%3Fq%3Drecycle%26svnum%3D10%26um%3D1%26hl%3D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.uk/imgres?imgurl=http://www.mytinyplot.co.uk/photos/compost.jpg&amp;imgrefurl=http://www.mytinyplot.co.uk/%3Fp%3D83&amp;h=306&amp;w=440&amp;sz=82&amp;hl=en&amp;start=15&amp;um=1&amp;tbnid=_VZ-O_yURrQ6TM:&amp;tbnh=88&amp;tbnw=127&amp;prev=/images%3Fq%3Dcompost%26svnum%3D10%26um%3D1%26hl%3D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.uk/imgres?imgurl=http://www.edenslostandfound.org/home/images/photos/phtreeplanting.jpg&amp;imgrefurl=http://www.edenslostandfound.org/home/preview.php%3Fid%3D86&amp;h=387&amp;w=300&amp;sz=26&amp;hl=en&amp;start=5&amp;um=1&amp;tbnid=I0sqkBBIFYMPEM:&amp;tbnh=123&amp;tbnw=95&amp;prev=/images%3Fq%3Dplant%2Btrees%26svnum%3D10%26um%3D1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How do we pollute our environm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st 5 w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836640"/>
            <a:ext cx="158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Indicator speci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at Liche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the crusty organisms that grow in places such as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o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ri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find them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ave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side of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re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range i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l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grey-green to orange and r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800px-Custer_li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rckhardt,%2520Lichen%2520Tree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84640"/>
            <a:ext cx="2298600" cy="1652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ichen-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501336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c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ulphur dioxide 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produced when fuels like coal and oil are burn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lichens are very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ensi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air pol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low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 large variety of different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big and fluff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high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ry limited variety of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small and crus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an use lichens as an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dicator spec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xplain what you think an indicator species i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ichen_wax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187164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lichen2"/>
          <p:cNvPicPr/>
          <p:nvPr/>
        </p:nvPicPr>
        <p:blipFill>
          <a:blip r:embed="rId3"/>
          <a:stretch/>
        </p:blipFill>
        <p:spPr>
          <a:xfrm>
            <a:off x="7135920" y="4292640"/>
            <a:ext cx="200808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yellowLichen"/>
          <p:cNvPicPr/>
          <p:nvPr/>
        </p:nvPicPr>
        <p:blipFill>
          <a:blip r:embed="rId4"/>
          <a:stretch/>
        </p:blipFill>
        <p:spPr>
          <a:xfrm>
            <a:off x="7470720" y="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Ai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air-pollution-systems"/>
          <p:cNvPicPr/>
          <p:nvPr/>
        </p:nvPicPr>
        <p:blipFill>
          <a:blip r:embed="rId1"/>
          <a:stretch/>
        </p:blipFill>
        <p:spPr>
          <a:xfrm>
            <a:off x="2556000" y="2708280"/>
            <a:ext cx="374328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Wate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Water pollution"/>
          <p:cNvPicPr/>
          <p:nvPr/>
        </p:nvPicPr>
        <p:blipFill>
          <a:blip r:embed="rId1"/>
          <a:stretch/>
        </p:blipFill>
        <p:spPr>
          <a:xfrm>
            <a:off x="611280" y="2349360"/>
            <a:ext cx="3682800" cy="27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ollution"/>
          <p:cNvPicPr/>
          <p:nvPr/>
        </p:nvPicPr>
        <p:blipFill>
          <a:blip r:embed="rId2"/>
          <a:stretch/>
        </p:blipFill>
        <p:spPr>
          <a:xfrm>
            <a:off x="4932360" y="1773360"/>
            <a:ext cx="2944800" cy="39700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Land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03-03-03"/>
          <p:cNvPicPr/>
          <p:nvPr/>
        </p:nvPicPr>
        <p:blipFill>
          <a:blip r:embed="rId1"/>
          <a:stretch/>
        </p:blipFill>
        <p:spPr>
          <a:xfrm>
            <a:off x="2340000" y="1628640"/>
            <a:ext cx="4381560" cy="42865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Impact on the Carbon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s many ways that human activity may disrupt the Carbon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 your cycle diagram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iscu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are fossil fue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sil fu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ydrocarb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imari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o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role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uel o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ormed from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ossilised remai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dead plants and animals by exposure to heat and pressure in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a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'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r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hundreds of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’s the probl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rning of fossil fuels by humans is the largest source of emissions of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s one of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greenhouse g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contributes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ans that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rface temp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Earth will rise in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Fossil Fu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lobal_Carbon_Emission_by_Type"/>
          <p:cNvPicPr/>
          <p:nvPr/>
        </p:nvPicPr>
        <p:blipFill>
          <a:blip r:embed="rId1"/>
          <a:stretch/>
        </p:blipFill>
        <p:spPr>
          <a:xfrm>
            <a:off x="1042920" y="174636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can we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t least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ojave2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3165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844640"/>
            <a:ext cx="1803240" cy="216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Recycl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292640"/>
            <a:ext cx="1938240" cy="19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ompos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1440000"/>
            <a:ext cx="2665440" cy="184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htreeplan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920" y="2997360"/>
            <a:ext cx="228132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31:38Z</dcterms:created>
  <dc:creator>Jack Timmins</dc:creator>
  <dc:description/>
  <dc:language>en-US</dc:language>
  <cp:lastModifiedBy>LEGION2</cp:lastModifiedBy>
  <dcterms:modified xsi:type="dcterms:W3CDTF">2016-01-14T11:02:46Z</dcterms:modified>
  <cp:revision>8</cp:revision>
  <dc:subject/>
  <dc:title>How do we pollute our environment?</dc:title>
</cp:coreProperties>
</file>