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FA40-CE7D-42FC-9098-2162A88B8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most frequent diagnosis of patients 14-64 y/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CRH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n excess or distortion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.  Those where the patient thinks he is being followed or watched are common;  also the belief that people on TV, radio are directing special messages to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.  Distortions or exaggerations of perception in any of the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y hear voices within their own thoughts followed by visual halluc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/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ssly disorganiz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purposelessness to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motor behavior (pacing, ro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rson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e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ic pre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Pos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ymptoms are those that have a positive reaction from some treat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positive symptoms respond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 to include nurses and tech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that appear to reflect a diminution or loss of normal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 (poverty of spee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ymp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Av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going out with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ctivities that the person used to show 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onger interested in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in the house for hours or days doing 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 is somewhat new and may not be considered val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ought disorder, confusion, disorientation and memory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interest 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ive flat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ppropriate soci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make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ni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ies in concentration and mem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ganized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expressing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tegrating thoughts, feelings,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Negativ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treatment that has a consistent impact on negativ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bephr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ta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ifferen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update 6/25/09 aj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module we will 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common treatments for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noi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is phase they may have hallucinations and frequent de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bephre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not usually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tonic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extremely withdrawn, negative and iso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marked psychomotor disturb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ual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s motivation and interest in day-to-day l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is not usually having delusions, hallucinations or disorganized spe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ifferentiated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s more than one of the previous types without a clear dominance of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 it may take up to 6 months for medications to show consistent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est medication is Inve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s include atypicals:  Abilify, Geodon, Clozapine, Risperidone, Seroquel, Zyprexa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Remember:  a giraffe can really see a zebra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edications may have such intolerable side effects that the patient will stop the drug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tudy showed the average time the meds were taken regularly was 3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support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der 1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ention Defici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positional Defia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T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justment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5 and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sistent mental disorder due to conditions classified else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zhe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an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, Manic 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detection and treatment has the best results/response to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YI:  Canc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komen.org/schizophreniaassociatedwithincreasedcancermortality.  Cancer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or may not be related to the current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us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types:  grandiose, nihilistic, persecutory, s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ili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alu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ing exaggerated negative qualities to self or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ronta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ing the patient with a different reality of the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H most frequen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-64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&amp; unspecified alcohol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affect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aine 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ressive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o of drug dependence excluding opioid type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or voicing doubt when a patient relates a situ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Symptoms, by NARSAD, The Mental Health Research Asso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a Treatment, by John Grohol, PsychCentral, 08/07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ychiatric Study Guide by Central Regional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chizophre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sychiatrist usually comes to the diagnosis based on clinical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orders that may appear like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id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phreniform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izotypal pers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olar Dis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perger’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B5D-55CB-45FC-8293-4E34DDC1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7FB-340A-4788-8C3E-156E8B24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0AE-B6F0-4D53-8711-7ED662BF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851-E174-4ED5-84B6-84E6B6B0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E09-214A-4FBD-87CC-652A596F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95C-41D5-4636-8C27-2191F4D2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718-5683-4A48-8C50-90510E26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639-E1B3-434E-93F9-E35398B6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D94-7A62-49F3-9FB7-1F529096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FD1-C0DA-4180-BA6C-96C157B6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032-6FBD-44E6-9CFC-A74FFF04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DCD-6F6A-436C-B34E-CB02F327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3712"/>
            </a:gs>
            <a:gs pos="100000">
              <a:srgbClr val="33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2FBC-CB12-49F8-8302-EBADFD4A21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komen.org/schizophreniaassociatedwithincreasedcancermortal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frequent diagnosis of patients 14-64 y/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RH in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ymptom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ound disruption in cognition and emotion, affecting the most fundamental human attributes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n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cess or distortion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e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Those where the patient thinks he is being followed or watched are common;  also the belief that people on TV, radio are directing special messages to him/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Hallucin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Distortions or exaggerations of perception in any of the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hey hear voices within their own thoughts followed by visual halluci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Disorganized thinking/speech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A loose associations;  speech is tangential, loosely associated or incoherent enough to impair commun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Grossly disorganized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goal directed behavior (ADLs), unpredictable agitation or silliness, social disinhibition, or bizarr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purposelessness to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osi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Catatonic behavi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d decrease in reaction to immediate environment, sometimes just unaware of surroundings, rigid or bizarre postures, aimless motor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Other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 to stimu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 motor behavior (pacing, rock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rson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e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atic preoccup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osi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rganiz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Pos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ymptoms are those that have a positive reaction from some treatm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, positive symptoms respond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Staff to include nurses and techn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that appear to reflect a diminution or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oss of normal fun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difficult to evaluate because they are not as grossly abnormal as posi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ffective flatte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tion in the range and intensity of emotional expression, including facial expression, voice tone, eye contact and body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log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verty of spe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ening of speech fluency and productivity, thought to reflect slowing or blocked thoughts; often manifested as short, empty replies to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Negative Sympto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vo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duction, difficulty or inability to initiate and persist in goal-directed behavior.  Often mistaken for apparent disinte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Examples of Avolition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going out with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ctivities that the person used to show enthusia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er interested in an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ting in the house for hours or days doing n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sorganized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one is somewhat new and may not be considered va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ought disorder, confusion, disorientation and memory probl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Summary of </a:t>
            </a: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Negative</a:t>
            </a: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 Symptom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e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interest i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flat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o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ppropriate soci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make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so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gni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ies in concentration and mem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ganized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thi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expressing thou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tegrating thoughts, feelings,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Negative Symptom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treatment that has a consistent impact on negative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ypes of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bephre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a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ifferenti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In this module we will cov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more common treatments for schizophr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Paranoi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s are very suspicious of others and often have grand schemes of persecution at the root of their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phase they may have hallucinations and frequent delu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Hebephre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A disorganized schizophrenia; characterized by emotionless, incongruous, or silly behavior, intellectual deterioration, frequently beginning insidiously during adolesc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verbally incoherent and may have moods and emotions that are not appropriate to the sit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llucinations not usually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Catatonic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extremely withdrawn, negative and isol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ave marked psychomotor disturb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Residual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s motivation and interest in day-to-day li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 is not usually having delusions, hallucinations or disorganized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Schizoaffective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Disorder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ill be symptoms of schizophrenia as well as mood disorder (depression, bipolar, mixed mani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Arial"/>
              </a:rPr>
              <a:t>Undifferentiated</a:t>
            </a: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 Schizophrenia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meeting the general diagnostic criteria for schizophrenia but not conforming to any of the previous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ibits more than one of the previous types without a clear dominance of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a diagnosis the psychiatrist must make a thorough evaluation including a physical/medical exam, a mental status exam, appropriate labs, and a full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 includes changes in thinking, behavior, movement, mood, etc. as seen by the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edica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eneral it may take up to 6 months for medications to show consistent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est medication is Inve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s include atypicals: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ify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odon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zapi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eridone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quel,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prexa.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Remember: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ff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lly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e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ra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edication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such intolerable side effects that the patient will stop the dru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study showed the average time the meds were taken regularly was 3 mon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reatment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therapy - an adjunct to meds and is very useful to keep the patient on the m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suppor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Under 14 y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tion Defici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ional Defia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ment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 and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istent mental disorder due to conditions classified else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zhe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izoaffective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nd alcohol depen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olar, Manic epis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etection and treatment has the best results/response to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patients, once you have schizophrenia you have it for life.  The best you can hope for is contr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FYI:  Cancer Study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udy in France in 1993, with 3470 patients with schizophrenia, showed that  breast cancer was the second most common cause of death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komen.org/schizophreniaassociatedwithincreasedcancermorta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few slides are a review of general psychiatric definitions, defense mechanism and communication techn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y or may not be related to the current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us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fixed beliefs that usually involve a misinterpretation of experience.  “Client believes someone is reading his though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types:  grandiose, nihilistic, persecutory, s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 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lucinations = perceptual experiences that occur in absence of actual sensory stimuli; involves the 5 sen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Psych Definition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erson misperceives or exaggerates stimuli that actually exist in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li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to others for help or support;  sharing problems with others without implying that someone else is respon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n individual has a fight with spouse and turns to their best friend for emotional sup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aluatio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ing exaggerated negative qualities to self or ot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boy has been rejected by his long time girlfriend.  He tells his friends that he realizes that she is stupid and ug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efense Mechanism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cement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ferring a feeling about, or a response to, one object onto another (usually less threatening) substitu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A child is mad at her mother for leaving for the day, but says she is really mad at the sitter for serving her food she does not 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rontatio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he patient with a different reality of the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My best friend never calls.  She hates me.  Nurse ‘I was in the room yesterday when she called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CRH most frequent </a:t>
            </a:r>
            <a:br>
              <a:rPr sz="4000"/>
            </a:b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agnosis in 2008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14-64 y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&amp; unspecified alcohol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Schizoaffect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caine 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ve dis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o of drug dependence excluding opioid type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munication Techniqu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ressing or voicing doubt when a patient relates a situ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 My best friend hates me. Nurse ‘From what you have told me, that does not should like her.  When did she last call you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Sympto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NARSAD, The Mental Health Research Assoc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izophrenia Treat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y John Grohol, PsychCentral, 08/07/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iatric Study Guide by Central Regional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What is schizophrenia?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hronic severe brain disorder; often they hear voices, believe media are broadcasting their thoughts to the world or may believe someone is trying to harm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en it usually develops in teen years and early 20s;  in women it usually develops in 20s and 3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there is no physical or lab test that can absolutely diagnose schizophren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sychiatrist usually comes to the diagnosis based on clinical symp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Misdiagnosi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common problem since schizophrenia shares a significant number of symptoms with other disor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 the Nat’l Depression &amp; Bipolar Support Alliance there is an average of 10 years from onset to correct diagnosis &amp; t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"/>
              </a:rPr>
              <a:t>Disorders that may appear like Schizophrenia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id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phreniform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izotypal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polar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erger’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46:06Z</dcterms:created>
  <dc:creator>ajjohnson</dc:creator>
  <dc:description/>
  <dc:language>en-US</dc:language>
  <cp:lastModifiedBy>LEGION2</cp:lastModifiedBy>
  <dcterms:modified xsi:type="dcterms:W3CDTF">2016-01-14T11:11:21Z</dcterms:modified>
  <cp:revision>24</cp:revision>
  <dc:subject/>
  <dc:title>SCHIZOPHRENIA</dc:title>
</cp:coreProperties>
</file>