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515C4-DC02-48F0-9DE9-E37DD1AE85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nd most frequent diagnosis of patients 14-64 y/o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 CRH in 20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most frequent diagnosis of patients 14-64 y/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CRH in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mptoms of 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found disruption in cognition and emotion, affecting the most fundamental human attributes: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ngu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ough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cep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ffe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nse of sel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ptoms of 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found disruption in cognition and emotion, affecting the most fundamental human attributes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ce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e of 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itive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ose that appear to reflect an excess or distortion of normal func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that appear to reflect an excess or distortion of normal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itive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lusions.  Those where the patient thinks he is being followed or watched are common;  also the belief that people on TV, radio are directing special messages to him/h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usions.  Those where the patient thinks he is being followed or watched are common;  also the belief that people on TV, radio are directing special messages to him/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itive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llucinations.  Distortions or exaggerations of perception in any of the sens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ten they hear voices within their own thoughts followed by visual hallucina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lucinations.  Distortions or exaggerations of perception in any of the sen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ten they hear voices within their own thoughts followed by visual hallucin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itive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organized thinking/speec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KA loose associations;  speech is tangential, loosely associated or incoherent enough to impair communic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organized thinking/spee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KA loose associations;  speech is tangential, loosely associated or incoherent enough to impair communi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itive Sympt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ossly disorganized behavio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iculty in goal directed behavior (ADLs), unpredictable agitation or silliness, social disinhibition, or bizarre behavio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 is a purposelessness to behavio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Symp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ssly disorganized behav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iculty in goal directed behavior (ADLs), unpredictable agitation or silliness, social disinhibition, or bizarre behav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 purposelessness to behav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itive Sympt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tatonic behavio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rked decrease in reaction to immediate environment, sometimes just unaware of surroundings, rigid or bizarre postures, aimless motor activ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Symp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atonic behav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ed decrease in reaction to immediate environment, sometimes just unaware of surroundings, rigid or bizarre postures, aimless motor activ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ther Positive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appropriate response to stimul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usual motor behavior (pacing, rocking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personaliz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realiz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atic preoccup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Positive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ppropriate response to stimu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ual motor behavior (pacing, rock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rsona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rea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atic preoccup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mmary of Positive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lus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llucin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organized think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organized behavi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tatonic behavi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appropriate respons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 of Positive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u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lucin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organized thin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organized behav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atonic behav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ppropriate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YI:  Positive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itive symptoms are those that have a positive reaction from some treatment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other words, positive symptoms respond to treat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YI:  Positive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symptoms are those that have a positive reaction from some treatmen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ther words, positive symptoms respond to treat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rget Audi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rsing Staff to include nurses and technicia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 Aud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rsing Staff to include nurses and technic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gative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ose that appear to reflect a diminution or loss of normal func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y be difficult to evaluate because they are not as grossly abnormal as positive symptom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that appear to reflect a diminution or loss of normal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be difficult to evaluate because they are not as grossly abnormal as positive sympto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gative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ffective flatten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duction in the range and intensity of emotional expression, including facial expression, voice tone, eye contact and body languag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fective flatten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 in the range and intensity of emotional expression, including facial expression, voice tone, eye contact and body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gative Sympt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ogia (poverty of speech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ssening of speech fluency and productivity, thought to reflect slowing or blocked thoughts; often manifested as short, empty replies to ques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Symp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ogia (poverty of spee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ening of speech fluency and productivity, thought to reflect slowing or blocked thoughts; often manifested as short, empty replies to ques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gative Sympt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voli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duction, difficulty or inability to initiate and persist in goal-directed behavior.  Often mistaken for apparent disinteres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Symp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l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duction, difficulty or inability to initiate and persist in goal-directed behavior.  Often mistaken for apparent disinter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s of Avoli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 longer interested in going out with frien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 longer interested in activities that the person used to show enthusia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 longer interested in anyth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tting in the house for hours or days doing noth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Avol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longer interested in going out with fri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longer interested in activities that the person used to show enthusi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longer interested in any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ting in the house for hours or days doing no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organized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one is somewhat new and may not be considered vali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thought disorder, confusion, disorientation and memory problem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organized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one is somewhat new and may not be considered val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thought disorder, confusion, disorientation and memory probl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mmary of Negative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ck of emo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w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ck of interest in lif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ffective flatten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og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appropriate social ski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ability to make frien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cial isol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 of Negative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ck of em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ck of interest in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fective flatt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og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ppropriate social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bility to make fri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iso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gnitive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iculties in concentration and memory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organized think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ow think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iculty understand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or concentr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or mem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iculty expressing though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iculty integrating thoughts, feelings, behavi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gnitive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iculties in concentration and memor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organized thin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w thin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iculty underst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or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or mem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iculty expressing thou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iculty integrating thoughts, feelings, behavi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YI:  Negative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rrently there is no treatment that has a consistent impact on negative symptom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YI:  Negative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ly there is no treatment that has a consistent impact on negative sympto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ano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bephren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taton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idu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izoaffecti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differentiat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ypes of 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an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bephren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taton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id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hizoaff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differenti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st update 6/25/09 ajj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this module we will cov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mptoms of 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 of the more common treatments for 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 update 6/25/09 aj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module we will c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ptoms of 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f the more common treatments for 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anoid 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s are very suspicious of others and often have grand schemes of persecution at the root of their behavio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uring this phase they may have hallucinations and frequent delus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noid 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s are very suspicious of others and often have grand schemes of persecution at the root of their behav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this phase they may have hallucinations and frequent delu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bephrenic 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KA disorganized schizophrenia; characterized by emotionless, incongruous, or silly behavior, intellectual deterioration, frequently beginning insidiously during adolescence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y be verbally incoherent and may have moods and emotions that are not appropriate to the situ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llucinations not usually pres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bephrenic 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KA disorganized schizophrenia; characterized by emotionless, incongruous, or silly behavior, intellectual deterioration, frequently beginning insidiously during adolesc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be verbally incoherent and may have moods and emotions that are not appropriate to the situ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lucinations not usually pre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tatonic 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 is extremely withdrawn, negative and isolated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y have marked psychomotor disturbanc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atonic 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 is extremely withdrawn, negative and isola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marked psychomotor disturba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idual 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cks motivation and interest in day-to-day liv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 is not usually having delusions, hallucinations or disorganized speec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idual 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cks motivation and interest in day-to-day liv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 is not usually having delusions, hallucinations or disorganized spee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izoaffective Disor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 will be symptoms of schizophrenia as well as mood disorder (depression, bipolar, mixed mania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izoaffective Dis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ill be symptoms of schizophrenia as well as mood disorder (depression, bipolar, mixed mania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differentiated 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ditions meeting the general diagnostic criteria for schizophrenia but not conforming to any of the previous typ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hibits more than one of the previous types without a clear dominance of o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ifferentiated 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itions meeting the general diagnostic criteria for schizophrenia but not conforming to any of the previous ty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hibits more than one of the previous types without a clear dominance of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fore a diagnosis the psychiatrist must make a thorough evaluation including a physical/medical exam, a mental status exam, appropriate labs, and a full histor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story includes changes in thinking, behavior, movement, mood, etc. as seen by the famil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a diagnosis the psychiatrist must make a thorough evaluation including a physical/medical exam, a mental status exam, appropriate labs, and a full hi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 includes changes in thinking, behavior, movement, mood, etc. as seen by the fam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dic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general it may take up to 6 months for medications to show consistent effec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ewest medication is Inveg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ds include atypicals:  Abilify, Geodon, Clozapine, Risperidone, Seroquel, Zyprexa.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[Remember:  a giraffe can really see a zebra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general it may take up to 6 months for medications to show consistent eff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west medication is Inveg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s include atypicals:  Abilify, Geodon, Clozapine, Risperidone, Seroquel, Zyprexa.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Remember:  a giraffe can really see a zebra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se medications may have such intolerable side effects that the patient will stop the drugs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e study showed the average time the meds were taken regularly was 3 month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medications may have such intolerable side effects that the patient will stop the drug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study showed the average time the meds were taken regularly was 3 month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eatm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sychotherapy - an adjunct to meds and is very useful to keep the patient on the med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oup therap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mily therap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unity support grou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otherapy - an adjunct to meds and is very useful to keep the patient on the me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ty support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H most frequen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agnosis in 20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der 14 y/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tention Deficit Disor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positional Defiant Disor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TS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pol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justment disor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5 and ov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istent mental disorder due to conditions classified elsew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zheim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izoaffective disor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ther and alcohol depend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polar, Manic epis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RH most frequent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agnosis in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der 14 y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tention Deficit Dis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ppositional Defiant Dis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TS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po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justment dis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5 and 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rsistent mental disorder due to conditions classified else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zhei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hizoaffective dis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ther and alcohol depen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polar, Manic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ly detection and treatment has the best results/response to treat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 patients, once you have schizophrenia you have it for life.  The best you can hope for is control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ly detection and treatment has the best results/response to treat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 patients, once you have schizophrenia you have it for life.  The best you can hope for is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YI:  Cancer Stud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tudy in France in 1993, with 3470 patients with schizophrenia, showed that  breast cancer was the second most common cause of death.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komen.org/schizophreniaassociatedwithincreasedcancermortality.  Cancer 2009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YI:  Cancer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udy in France in 1993, with 3470 patients with schizophrenia, showed that  breast cancer was the second most common cause of death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komen.org/schizophreniaassociatedwithincreasedcancermortality.  Cancer 200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ext few slides are a review of general psychiatric definitions, defense mechanism and communication techniqu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may or may not be related to the current topi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xt few slides are a review of general psychiatric definitions, defense mechanism and communication techniqu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ay or may not be related to the current top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sych Definitio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lusion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= fixed beliefs that usually involve a misinterpretation of experience.  “Client believes someone is reading his thoughts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veral types:  grandiose, nihilistic, persecutory, somat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 Defini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us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fixed beliefs that usually involve a misinterpretation of experience.  “Client believes someone is reading his thought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ral types:  grandiose, nihilistic, persecutory, som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sych Definitio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llucinations = perceptual experiences that occur in absence of actual sensory stimuli; involves the 5 sens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 Defini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lucinations = perceptual experiences that occur in absence of actual sensory stimuli; involves the 5 sen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sych Defini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llusion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= person misperceives or exaggerates stimuli that actually exist in the external environ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 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us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person misperceives or exaggerates stimuli that actually exist in the external enviro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fense Mechani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ffiliation 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urning to others for help or support;  sharing problems with others without implying that someone else is responsib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:  An individual has a fight with spouse and turns to their best friend for emotional suppor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se Mech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filiation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ing to others for help or support;  sharing problems with others without implying that someone else is respon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An individual has a fight with spouse and turns to their best friend for emotional suppo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fense Mechani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valuation 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tributing exaggerated negative qualities to self or othe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:  A boy has been rejected by his long time girlfriend.  He tells his friends that he realizes that she is stupid and ugl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se Mech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aluation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ributing exaggerated negative qualities to self or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A boy has been rejected by his long time girlfriend.  He tells his friends that he realizes that she is stupid and ug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fense Mechani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placement 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ferring a feeling about, or a response to, one object onto another (usually less threatening) substitute obje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:  A child is mad at her mother for leaving for the day, but says she is really mad at the sitter for serving her food she does not lik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se Mech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cement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erring a feeling about, or a response to, one object onto another (usually less threatening) substitute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A child is mad at her mother for leaving for the day, but says she is really mad at the sitter for serving her food she does not lik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unication Techniqu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frontation =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senting the patient with a different reality of the situation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: My best friend never calls.  She hates me.  Nurse ‘I was in the room yesterday when she called.’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tion Techn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rontation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ing the patient with a different reality of the situa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My best friend never calls.  She hates me.  Nurse ‘I was in the room yesterday when she called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H most frequen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agnosis in 20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-64 y/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ther &amp; unspecified alcohol depend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izoaffective disor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caine depend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pressive disor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bo of drug dependence excluding opioid type drug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RH most frequent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agnosis in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4-64 y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ther &amp; unspecified alcohol depen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hizoaffective dis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caine depen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pressive dis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bo of drug dependence excluding opioid type dru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unication Techniqu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ubt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pressing or voicing doubt when a patient relates a situation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:  My best friend hates me. Nurse ‘From what you have told me, that does not should like her.  When did she last call you?’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tion Techn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ing or voicing doubt when a patient relates a situa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My best friend hates me. Nurse ‘From what you have told me, that does not should like her.  When did she last call you?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izophrenia Symptoms, by NARSAD, The Mental Health Research Associ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izophrenia Treatment, by John Grohol, PsychCentral, 08/07/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sychiatric Study Guide by Central Regional Hospit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hizophrenia Symptoms, by NARSAD, The Mental Health Research Associ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hizophrenia Treatment, by John Grohol, PsychCentral, 08/07/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sychiatric Study Guide by Central Regional Hosp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schizophrenia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chronic severe brain disorder; often they hear voices, believe media are broadcasting their thoughts to the world or may believe someone is trying to harm the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men it usually develops in teen years and early 20s;  in women it usually develops in 20s and 30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chizophreni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hronic severe brain disorder; often they hear voices, believe media are broadcasting their thoughts to the world or may believe someone is trying to harm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men it usually develops in teen years and early 20s;  in women it usually develops in 20s and 30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agno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rrently there is no physical or lab test that can absolutely diagnose schizophrenia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sychiatrist usually comes to the diagnosis based on clinical symptom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ly there is no physical or lab test that can absolutely diagnose schizophreni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sychiatrist usually comes to the diagnosis based on clinical sympto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sdiagno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a common problem since schizophrenia shares a significant number of symptoms with other disorde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 the Nat’l Depression &amp; Bipolar Support Alliance there is an average of 10 years from onset to correct diagnosis &amp; tx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dia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common problem since schizophrenia shares a significant number of symptoms with other disor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 the Nat’l Depression &amp; Bipolar Support Alliance there is an average of 10 years from onset to correct diagnosis &amp; t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orders that may appear like 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izoid personal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izophreniform disor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izotypal personal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polar Disor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perger’s syndro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orders that may appear like 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hizoid perso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hizophreniform dis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hizotypal perso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polar Dis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perger’s synd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8168-6A89-4BA2-9A70-0FACA3D64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EC80-0F4B-43C1-99B9-E70B894A3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DC02-2994-4182-A858-A1CFF74B8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7C63-36CF-4E64-952F-F66212039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4B85-5E0C-4F64-BD2A-41F4658B7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37BD-8BAD-4387-8536-0E5DD7DAF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5778-1311-4A5B-A386-3D4695210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822C-95DC-49C1-90F7-C37669215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2FBD-BD34-4221-8AE6-A44DD62AC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215C-2AAA-4879-9D62-C1AE747E9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CD85-3A6A-4B11-BD5C-6378C1A9B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0E8E-653E-4E88-85A6-15492F8E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3712"/>
            </a:gs>
            <a:gs pos="100000">
              <a:srgbClr val="33993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ABC2E-E8C9-47B0-94EE-6CC02957708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ww.komen.org/schizophreniaassociatedwithincreasedcancermortality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SCHIZOPHRENIA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ost frequent diagnosis of patients 14-64 y/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CRH in 20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Symptoms of Schizophrenia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found disruption in cognition and emotion, affecting the most fundamental human attributes: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ngu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ou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ce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f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se of sel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Positive Symptom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se that appear to reflect an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xcess or distortion of normal funct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Positive Symptom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00"/>
                </a:solidFill>
                <a:uFillTx/>
                <a:latin typeface="Arial"/>
              </a:rPr>
              <a:t>Delus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 Those where the patient thinks he is being followed or watched are common;  also the belief that people on TV, radio are directing special messages to him/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Positive Symptom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00"/>
                </a:solidFill>
                <a:uFillTx/>
                <a:latin typeface="Arial"/>
              </a:rPr>
              <a:t>Hallucinat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 Distortions or exaggerations of perception in any of the sen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ten they hear voices within their own thoughts followed by visual hallucin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Positive Symptom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00"/>
                </a:solidFill>
                <a:uFillTx/>
                <a:latin typeface="Arial"/>
              </a:rPr>
              <a:t>Disorganized thinking/speech</a:t>
            </a: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KA loose associations;  speech is tangential, loosely associated or incoherent enough to impair communic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Positive Symptom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00"/>
                </a:solidFill>
                <a:uFillTx/>
                <a:latin typeface="Arial"/>
              </a:rPr>
              <a:t>Grossly disorganized behavio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iculty in goal directed behavior (ADLs), unpredictable agitation or silliness, social disinhibition, or bizarre behavi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is a purposelessness to behavi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Positive Symptom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00"/>
                </a:solidFill>
                <a:uFillTx/>
                <a:latin typeface="Arial"/>
              </a:rPr>
              <a:t>Catatonic behavio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d decrease in reaction to immediate environment, sometimes just unaware of surroundings, rigid or bizarre postures, aimless motor activ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Other Positive Symptom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appropriate response to stimul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usual motor behavior (pacing, rock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ersonal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real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atic preoccup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Summary of </a:t>
            </a:r>
            <a:r>
              <a:rPr b="0" lang="en-US" sz="4400" spc="-1" strike="noStrike">
                <a:solidFill>
                  <a:srgbClr val="cc9900"/>
                </a:solidFill>
                <a:latin typeface="Arial"/>
              </a:rPr>
              <a:t>Positive</a:t>
            </a: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 Symptom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lu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llucin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organized thin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organized behavi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tatonic behavi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appropriate respon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FYI:  Positive Symptom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itive symptoms are those that have a positive reaction from some treatment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other words, positive symptoms respond to treat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Target Audience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rsing Staff to include nurses and technici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Arial"/>
              </a:rPr>
              <a:t>Negative</a:t>
            </a: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 Symptom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se that appear to reflect a diminution or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loss of normal funct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 be difficult to evaluate because they are not as grossly abnormal as positive sympto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Negative Symptom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00"/>
                </a:solidFill>
                <a:uFillTx/>
                <a:latin typeface="Arial"/>
              </a:rPr>
              <a:t>Affective flatten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uction in the range and intensity of emotional expression, including facial expression, voice tone, eye contact and body langu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Negative Symptom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00"/>
                </a:solidFill>
                <a:uFillTx/>
                <a:latin typeface="Arial"/>
              </a:rPr>
              <a:t>Alogi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poverty of speec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ssening of speech fluency and productivity, thought to reflect slowing or blocked thoughts; often manifested as short, empty replies to ques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Negative Symptom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00"/>
                </a:solidFill>
                <a:uFillTx/>
                <a:latin typeface="Arial"/>
              </a:rPr>
              <a:t>Avol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eduction, difficulty or inability to initiate and persist in goal-directed behavior.  Often mistaken for apparent disintere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Examples of Avolition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longer interested in going out with frie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longer interested in activities that the person used to show enthusia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longer interested in anyt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tting in the house for hours or days doing not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Disorganized Symptom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one is somewhat new and may not be considered vali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thought disorder, confusion, disorientation and memory proble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Summary of </a:t>
            </a:r>
            <a:r>
              <a:rPr b="0" lang="en-US" sz="4000" spc="-1" strike="noStrike">
                <a:solidFill>
                  <a:srgbClr val="cc9900"/>
                </a:solidFill>
                <a:latin typeface="Arial"/>
              </a:rPr>
              <a:t>Negative</a:t>
            </a: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 Symptoms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ck of emo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w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ck of interest in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fective flatte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og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appropriate social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ability to make frie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cial iso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ognitive Symptom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iculties in concentration and memor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organized thin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low thin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iculty understan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or concent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or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iculty expressing though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iculty integrating thoughts, feelings, behavi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FYI:  Negative Symptom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rrently there is no treatment that has a consistent impact on negative sympto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Types of Schizophrenia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n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bephren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taton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idu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hizoaff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ifferenti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In this module we will cover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schizophre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mptoms of schizophre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es of schizophre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of the more common treatments for schizophre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Arial"/>
              </a:rPr>
              <a:t>Paranoid</a:t>
            </a: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 Schizophrenia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ns are very suspicious of others and often have grand schemes of persecution at the root of their behavi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ring this phase they may have hallucinations and frequent delus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Arial"/>
              </a:rPr>
              <a:t>Hebephrenic</a:t>
            </a: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 Schizophrenia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KA disorganized schizophrenia; characterized by emotionless, incongruous, or silly behavior, intellectual deterioration, frequently beginning insidiously during adolescenc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be verbally incoherent and may have moods and emotions that are not appropriate to the situ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llucinations not usually pres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Arial"/>
              </a:rPr>
              <a:t>Catatonic</a:t>
            </a: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 Schizophrenia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n is extremely withdrawn, negative and isolat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 have marked psychomotor disturban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Arial"/>
              </a:rPr>
              <a:t>Residual</a:t>
            </a: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 Schizophrenia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cks motivation and interest in day-to-day liv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n is not usually having delusions, hallucinations or disorganized spee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Arial"/>
              </a:rPr>
              <a:t>Schizoaffective</a:t>
            </a: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 Disorder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will be symptoms of schizophrenia as well as mood disorder (depression, bipolar, mixed mania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Arial"/>
              </a:rPr>
              <a:t>Undifferentiated</a:t>
            </a: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 Schizophrenia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ditions meeting the general diagnostic criteria for schizophrenia but not conforming to any of the previous typ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hibits more than one of the previous types without a clear dominance of o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fore a diagnosis the psychiatrist must make a thorough evaluation including a physical/medical exam, a mental status exam, appropriate labs, and a full histo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tory includes changes in thinking, behavior, movement, mood, etc. as seen by the fami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Medication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general it may take up to 6 months for medications to show consistent effec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ewest medication is Inveg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s include atypicals: 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lify,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odon,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zapine,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peridone,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oquel,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prexa.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[Remember: 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raffe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lly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e a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z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bra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medication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a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ave such intolerable side effects that the patient will stop the drug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study showed the average time the meds were taken regularly was 3 month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Treatment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ychotherapy - an adjunct to meds and is very useful to keep the patient on the me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up 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mily 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ty suppor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CRH most frequent </a:t>
            </a:r>
            <a:br>
              <a:rPr sz="4000"/>
            </a:b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diagnosis in 2008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Arial"/>
              </a:rPr>
              <a:t>Under 14 y/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tention Deficit Disor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positional Defiant Disor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TS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pol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justment disor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5 and o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sistent mental disorder due to conditions classified else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zheim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hizoaffective disor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and alcohol depend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polar, Manic epis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ly detection and treatment has the best results/response to treat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 patients, once you have schizophrenia you have it for life.  The best you can hope for is contr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FYI:  Cancer Study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tudy in France in 1993, with 3470 patients with schizophrenia, showed that  breast cancer was the second most common cause of death.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Arial"/>
                <a:hlinkClick r:id="rId1"/>
              </a:rPr>
              <a:t>www.komen.org/schizophreniaassociatedwithincreasedcancermortalit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anc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200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ext few slides are a review of general psychiatric definitions, defense mechanism and communication techniqu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may or may not be related to the current top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Psych Definitions 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lusio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fixed beliefs that usually involve a misinterpretation of experience.  “Client believes someone is reading his thought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ral types:  grandiose, nihilistic, persecutory, soma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Psych Definitions 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llucinations = perceptual experiences that occur in absence of actual sensory stimuli; involves the 5 sen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Psych Definition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llus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person misperceives or exaggerates stimuli that actually exist in the external environ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Defense Mechanism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filiation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rning to others for help or support;  sharing problems with others without implying that someone else is responsi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:  An individual has a fight with spouse and turns to their best friend for emotional suppo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Defense Mechanism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aluation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ing exaggerated negative qualities to self or oth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:  A boy has been rejected by his long time girlfriend.  He tells his friends that he realizes that she is stupid and ug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Defense Mechanism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placement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ferring a feeling about, or a response to, one object onto another (usually less threatening) substitute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:  A child is mad at her mother for leaving for the day, but says she is really mad at the sitter for serving her food she does not lik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ommunication Technique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rontation =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ting the patient with a different reality of the situation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: My best friend never calls.  She hates me.  Nurse ‘I was in the room yesterday when she called.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CRH most frequent </a:t>
            </a:r>
            <a:br>
              <a:rPr sz="4000"/>
            </a:b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diagnosis in 2008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14-64 y/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&amp; unspecified alcohol depend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66"/>
                </a:solidFill>
                <a:uFillTx/>
                <a:latin typeface="Arial"/>
              </a:rPr>
              <a:t>Schizoaffective disor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caine depend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ressive disor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bo of drug dependence excluding opioid type dru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ommunication Technique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ub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ressing or voicing doubt when a patient relates a situation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:  My best friend hates me. Nurse ‘From what you have told me, that does not should like her.  When did she last call you?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Resources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chizophrenia Symptom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by NARSAD, The Mental Health Research Associ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chizophrenia Treatme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by John Grohol, PsychCentral, 08/07/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sychiatric Study Guide by Central Regional Hospi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What is schizophrenia?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hronic severe brain disorder; often they hear voices, believe media are broadcasting their thoughts to the world or may believe someone is trying to harm th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men it usually develops in teen years and early 20s;  in women it usually develops in 20s and 30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Diagnosi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rrently there is no physical or lab test that can absolutely diagnose schizophreni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sychiatrist usually comes to the diagnosis based on clinical sympto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Misdiagnosi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a common problem since schizophrenia shares a significant number of symptoms with other disord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 the Nat’l Depression &amp; Bipolar Support Alliance there is an average of 10 years from onset to correct diagnosis &amp; tx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Disorders that may appear like Schizophrenia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hizoid person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hizophreniform disor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hizotypal person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polar Disor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perger’s syndr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13:46:06Z</dcterms:created>
  <dc:creator>ajjohnson</dc:creator>
  <dc:description/>
  <dc:language>en-US</dc:language>
  <cp:lastModifiedBy>LEGION2</cp:lastModifiedBy>
  <dcterms:modified xsi:type="dcterms:W3CDTF">2016-01-14T11:11:21Z</dcterms:modified>
  <cp:revision>24</cp:revision>
  <dc:subject/>
  <dc:title>SCHIZOPHRENIA</dc:title>
</cp:coreProperties>
</file>