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9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92482-82AA-4DB3-B2AE-760B2AF0A8F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ck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ckets is a disorder involving softening and weakening of the bones (of children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caused by lack of vitamin D, calcium or phosphate in your die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could we do to prevent getting ricket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ck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ckets is a disorder involving softening and weakening of the bones (of children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caused by lack of vitamin D, calcium or phosphate in your die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could we do to prevent getting ricket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ckets – causes softening and weakening of bon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ckets – causes softening and weakening of bon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-ray of a 20 month old boy with rick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ice the bow shape of the leg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-ray of a 20 month old boy with rick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ice the bow shape of the leg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WASHIORK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washiorkor is a disease caused by a lack of protein in the die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ildren and adolescents require protein for growth and developmen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occurs most commonly in areas of famine and limited food supp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WASHIORK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washiorkor is a disease caused by a lack of protein in the die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ildren and adolescents require protein for growth and developmen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occurs most commonly in areas of famine and limited food supp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WASHIORK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WASHIORK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URV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ondition caused by lack of vitamin C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causes weakness, gum disease and skin haemorrhages (bleeding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urvy is most frequently seen in older, malnourished adul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URV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ondition caused by lack of vitamin C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causes weakness, gum disease and skin haemorrhages (bleeding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urvy is most frequently seen in older, malnourished adul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curvy - vitamin C deficienc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urvy - vitamin C deficienc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other example of the effect of scurv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other example of the effect of scurv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curv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urv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511D2-3081-4DA8-A4BC-691B4EDB9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5E19C-1105-4816-812C-45B885197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4ACD2-61F8-455B-BC0D-E64638EFD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A9495-2E8F-4CF8-8F1C-D855EAEB0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3A34D-4948-4E67-9353-6CCC75E9E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D1CB8-747F-4456-9B2A-5034FC1ED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9F6DC-9DE3-4672-927C-37E4793DC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3F933-8378-47CE-A9FA-B8B73A569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A0C91-2321-40CF-AA7C-0A2F0B5BE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8BC41-FD2E-42DB-A974-DC26C8EEA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2CFD8-411C-4DF1-A067-770524F16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6135A-74F0-44DB-945F-CF8CABF3E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982B9-2B47-480E-88E0-F4726DC9D2D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thachers.org/images/Leg_deformity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thachers.org/images/RicketsXR1.GIF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icke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ickets is a disorder involving 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softening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weakening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of the bones (of children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is caused by lack of vitamin D, 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calcium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r phosphate in your die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0099"/>
                </a:solidFill>
                <a:latin typeface="Arial"/>
              </a:rPr>
              <a:t>What could we do to prevent getting ricke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Rickets – causes softening and weakening of bon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Leg_deformity.JPG (21184 bytes)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976480" y="1600200"/>
            <a:ext cx="3189240" cy="4525920"/>
          </a:xfrm>
          <a:prstGeom prst="rect">
            <a:avLst/>
          </a:prstGeom>
          <a:ln w="0">
            <a:noFill/>
          </a:ln>
        </p:spPr>
      </p:pic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Arial"/>
              </a:rPr>
              <a:t>X-ray of a 20 month old boy with ricke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526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tice the bow shape of the leg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RicketsXR1.GIF (339673 bytes)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085760" y="1600200"/>
            <a:ext cx="2774880" cy="4525920"/>
          </a:xfrm>
          <a:prstGeom prst="rect">
            <a:avLst/>
          </a:prstGeom>
          <a:ln w="0">
            <a:noFill/>
          </a:ln>
        </p:spPr>
      </p:pic>
      <p:sp>
        <p:nvSpPr>
          <p:cNvPr id="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KWASHIORK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Kwashiorkor is a disease caused by 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a lack of protein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in the die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hildren and adolescents require 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protein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growth and developmen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occurs most commonly in areas of 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famin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limited food supply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KWASHIORK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5" descr="9563"/>
          <p:cNvPicPr/>
          <p:nvPr/>
        </p:nvPicPr>
        <p:blipFill>
          <a:blip r:embed="rId1"/>
          <a:stretch/>
        </p:blipFill>
        <p:spPr>
          <a:xfrm>
            <a:off x="2195640" y="2060640"/>
            <a:ext cx="4608360" cy="3047760"/>
          </a:xfrm>
          <a:prstGeom prst="rect">
            <a:avLst/>
          </a:prstGeom>
          <a:ln w="0">
            <a:noFill/>
          </a:ln>
        </p:spPr>
      </p:pic>
      <p:sp>
        <p:nvSpPr>
          <p:cNvPr id="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99cc00"/>
                </a:solidFill>
                <a:latin typeface="Arial"/>
              </a:rPr>
              <a:t>SCURV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A condition caused by lack of vitamin C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It causes weakness, gum disease and skin haemorrhages (bleeding)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Scurvy is most frequently seen in older, malnourished adults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curvy - vitamin C deficiency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Scurvy corkscrew hairs"/>
          <p:cNvPicPr/>
          <p:nvPr/>
        </p:nvPicPr>
        <p:blipFill>
          <a:blip r:embed="rId1"/>
          <a:stretch/>
        </p:blipFill>
        <p:spPr>
          <a:xfrm>
            <a:off x="2627280" y="2060640"/>
            <a:ext cx="3889440" cy="3529080"/>
          </a:xfrm>
          <a:prstGeom prst="rect">
            <a:avLst/>
          </a:prstGeom>
          <a:ln w="0">
            <a:noFill/>
          </a:ln>
        </p:spPr>
      </p:pic>
      <p:sp>
        <p:nvSpPr>
          <p:cNvPr id="7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other example of the effect of scurv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5" descr="simg0008"/>
          <p:cNvPicPr/>
          <p:nvPr/>
        </p:nvPicPr>
        <p:blipFill>
          <a:blip r:embed="rId1"/>
          <a:stretch/>
        </p:blipFill>
        <p:spPr>
          <a:xfrm>
            <a:off x="2700360" y="2852640"/>
            <a:ext cx="3657600" cy="2438640"/>
          </a:xfrm>
          <a:prstGeom prst="rect">
            <a:avLst/>
          </a:prstGeom>
          <a:ln w="0">
            <a:noFill/>
          </a:ln>
        </p:spPr>
      </p:pic>
      <p:sp>
        <p:nvSpPr>
          <p:cNvPr id="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90756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Arial"/>
              </a:rPr>
              <a:t>Scurvy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5" descr="Scurvy, periungual hemorrhage"/>
          <p:cNvPicPr/>
          <p:nvPr/>
        </p:nvPicPr>
        <p:blipFill>
          <a:blip r:embed="rId1"/>
          <a:stretch/>
        </p:blipFill>
        <p:spPr>
          <a:xfrm>
            <a:off x="1258920" y="2205000"/>
            <a:ext cx="6553080" cy="4319640"/>
          </a:xfrm>
          <a:prstGeom prst="rect">
            <a:avLst/>
          </a:prstGeom>
          <a:ln w="0">
            <a:noFill/>
          </a:ln>
        </p:spPr>
      </p:pic>
      <p:sp>
        <p:nvSpPr>
          <p:cNvPr id="7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7:24:38Z</dcterms:created>
  <dc:creator>10072162</dc:creator>
  <dc:description/>
  <dc:language>en-US</dc:language>
  <cp:lastModifiedBy>LEGION2</cp:lastModifiedBy>
  <dcterms:modified xsi:type="dcterms:W3CDTF">2016-01-14T11:16:37Z</dcterms:modified>
  <cp:revision>13</cp:revision>
  <dc:subject/>
  <dc:title>Scurvy</dc:title>
</cp:coreProperties>
</file>