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70B5-95FD-4F5C-8AE9-67472D4A08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5CE-6F03-4BAB-9209-F9F63110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FE8-6EC0-46A5-AE0C-C3250847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264-6D3D-48AA-BF23-E008E729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82E-29DA-4F91-ABB0-B706F4A6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A92B-5D8A-4CA0-BF41-D7600CD9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805E-1262-4AE1-813F-B5B63F70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A7C1-88E7-44B7-ACFF-76B5CD79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6596-3646-4186-AC23-D4D27DC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471F-28DE-46D2-A15C-1FF17B20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F20A-3EF8-4EFC-B14C-052E2560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2E6E-CB3D-4B1F-BBD3-6C1C39A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0E1-32E5-4A87-A71F-1B60FA6A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F8BB-790B-4515-83F2-7E53782B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9794-12BF-4FE9-BE2C-4216583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C411-B1A0-434F-9CA9-1809E889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DFA2-058B-47F4-AA1B-7D2F8C70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C61F-538D-4A1B-BD81-E16C8A2B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44C-6853-4680-8C08-7D6B41A3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B70-6766-43D7-8EE2-C0FB238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85E-B048-4FBC-A46B-AC7EE6FE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2BD-167F-413A-A6D3-2BD432F3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EA9-D4D2-4E11-B798-55FE9181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BD4-BF96-41B5-91C5-539C2BBC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35F-39C7-48C6-8622-8618D70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B2C0-83A0-4EAA-BE6C-5C62EB2B3B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E901-8EE7-416B-8F69-83D7D427ADD0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imes New Roman"/>
              </a:rPr>
              <a:t>Thalidomide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f this was you – how would your life be different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Victim%208"/>
          <p:cNvPicPr/>
          <p:nvPr/>
        </p:nvPicPr>
        <p:blipFill>
          <a:blip r:embed="rId1"/>
          <a:stretch/>
        </p:blipFill>
        <p:spPr>
          <a:xfrm>
            <a:off x="684360" y="249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thali"/>
          <p:cNvPicPr/>
          <p:nvPr/>
        </p:nvPicPr>
        <p:blipFill>
          <a:blip r:embed="rId2"/>
          <a:stretch/>
        </p:blipFill>
        <p:spPr>
          <a:xfrm>
            <a:off x="5181480" y="1905120"/>
            <a:ext cx="298152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Picture 3" descr="b1a thalidomide-boy-deformed-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76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0" name="Picture 3" descr="b1a thalidomidechildren300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1734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id this happ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Thalidomide toda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ly the drug was banned internationally for the  treatment of morning sick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But it has now been reintroduced as a treatment for lepro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 – bacterial infection of the skin and nerves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leper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leprosy"/>
          <p:cNvPicPr/>
          <p:nvPr/>
        </p:nvPicPr>
        <p:blipFill>
          <a:blip r:embed="rId1"/>
          <a:stretch/>
        </p:blipFill>
        <p:spPr>
          <a:xfrm>
            <a:off x="1600200" y="190512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ke key notes on what we have discussed on this drug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 u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t discovered to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de effects of untested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s it now used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alidomide – the sleeping pi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b1a thalid pills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40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1a 20Sleep%20Big"/>
          <p:cNvPicPr/>
          <p:nvPr/>
        </p:nvPicPr>
        <p:blipFill>
          <a:blip r:embed="rId2"/>
          <a:stretch/>
        </p:blipFill>
        <p:spPr>
          <a:xfrm>
            <a:off x="4191120" y="2133720"/>
            <a:ext cx="4343400" cy="28843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Thalidomide was first synthesized in West Germany in 1953 by Chemie Grünenth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t was hailed as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wonder drug"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that provided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safe, sound sleep"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5" descr="b1a thalid pills"/>
          <p:cNvPicPr/>
          <p:nvPr/>
        </p:nvPicPr>
        <p:blipFill>
          <a:blip r:embed="rId1"/>
          <a:stretch/>
        </p:blipFill>
        <p:spPr>
          <a:xfrm>
            <a:off x="5580000" y="1916280"/>
            <a:ext cx="2195640" cy="290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24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owever the drug was also found to cure morning sickness in pregnant wome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28" descr="morning sick"/>
          <p:cNvPicPr/>
          <p:nvPr/>
        </p:nvPicPr>
        <p:blipFill>
          <a:blip r:embed="rId1"/>
          <a:stretch/>
        </p:blipFill>
        <p:spPr>
          <a:xfrm>
            <a:off x="2819520" y="1981080"/>
            <a:ext cx="334152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Nausea vomiting in pregnancy NVP – 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GB" sz="3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 trimester ...(1/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2060640"/>
            <a:ext cx="6781680" cy="4417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oetal development -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ultrasound-Jan22"/>
          <p:cNvPicPr/>
          <p:nvPr/>
        </p:nvPicPr>
        <p:blipFill>
          <a:blip r:embed="rId1"/>
          <a:stretch/>
        </p:blipFill>
        <p:spPr>
          <a:xfrm>
            <a:off x="1042920" y="1341360"/>
            <a:ext cx="6626160" cy="3743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ausea vomiting in pregnancy NVP – 1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trimester (1/3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1197000"/>
            <a:ext cx="678168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411280" y="1557360"/>
            <a:ext cx="1224000" cy="433440"/>
          </a:xfrm>
          <a:prstGeom prst="leftRightArrow">
            <a:avLst>
              <a:gd name="adj1" fmla="val 50000"/>
              <a:gd name="adj2" fmla="val 562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ide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fortunately molecules of the thalidomide chemical crossed the placenta and disrupt the growth patterns of the growing foe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fetus"/>
          <p:cNvPicPr/>
          <p:nvPr/>
        </p:nvPicPr>
        <p:blipFill>
          <a:blip r:embed="rId1"/>
          <a:stretch/>
        </p:blipFill>
        <p:spPr>
          <a:xfrm>
            <a:off x="2340000" y="3284640"/>
            <a:ext cx="4344840" cy="3267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3" descr="b1a thalidomide"/>
          <p:cNvPicPr/>
          <p:nvPr/>
        </p:nvPicPr>
        <p:blipFill>
          <a:blip r:embed="rId1"/>
          <a:stretch/>
        </p:blipFill>
        <p:spPr>
          <a:xfrm>
            <a:off x="5105520" y="2133720"/>
            <a:ext cx="352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1a thalidomide2"/>
          <p:cNvPicPr/>
          <p:nvPr/>
        </p:nvPicPr>
        <p:blipFill>
          <a:blip r:embed="rId2"/>
          <a:stretch/>
        </p:blipFill>
        <p:spPr>
          <a:xfrm>
            <a:off x="304920" y="2057400"/>
            <a:ext cx="288432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0:58:53Z</dcterms:created>
  <dc:creator>R_Goldthorp</dc:creator>
  <dc:description/>
  <dc:language>en-US</dc:language>
  <cp:lastModifiedBy>LEGION2</cp:lastModifiedBy>
  <dcterms:modified xsi:type="dcterms:W3CDTF">2016-01-14T11:24:15Z</dcterms:modified>
  <cp:revision>13</cp:revision>
  <dc:subject/>
  <dc:title>Thalidomide</dc:title>
</cp:coreProperties>
</file>