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jpeg" ContentType="image/jpe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B823-E347-4EF1-A715-C9D3C9A2C0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ell Cycle and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l Cell Di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replicated proper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communicate with each other  so they don’t become overcrow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occur in the DNA when it is repli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Chemical signals that start and stop the cell cycle are igno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ells do not communicate with each other and tumors for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ing Canc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alt-tab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Before a cell divides, the DNA is checked   to make sure it has replicated correctly. (If DNA does not copy itself correctly, a gene mutation occ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cer is a disease of the cell cycle.  Some of the body’s cells divide uncontrollably and tumors for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ations may be caused b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rad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smo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Pollu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chemical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vir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animations of cancer cells dividing: click on pic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DC73-4921-49D7-A878-D5C678D78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29F-870D-4A6D-A886-DA842DBD6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9A8-3967-430C-964C-68E017A3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3FD-200B-42B9-8A80-D1515017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95D4-F476-47D1-A235-3A2F1138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60C-475F-4DD0-8D2C-787D984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369F-FADD-48A3-AF15-988BC4DE8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8D21-E641-46F4-A20D-2F46B24C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F753-DFCF-415A-A9D2-FE196D5C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6D6B-6FEF-4E77-97C5-EC322F10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FCA3-C2EF-45AA-9A99-D86C3C48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543B-A711-4DEA-9D30-E57310208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78074-981C-489E-AAA9-39EB508E4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Arial"/>
              </a:rPr>
              <a:t>The Cell Cycle and Canc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40384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3" descr="cycle"/>
          <p:cNvPicPr/>
          <p:nvPr/>
        </p:nvPicPr>
        <p:blipFill>
          <a:blip r:embed="rId1"/>
          <a:stretch/>
        </p:blipFill>
        <p:spPr>
          <a:xfrm>
            <a:off x="609480" y="1981080"/>
            <a:ext cx="3619800" cy="3600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5" descr="5"/>
          <p:cNvPicPr/>
          <p:nvPr/>
        </p:nvPicPr>
        <p:blipFill>
          <a:blip r:embed="rId2"/>
          <a:stretch/>
        </p:blipFill>
        <p:spPr>
          <a:xfrm>
            <a:off x="5181480" y="1752480"/>
            <a:ext cx="2819520" cy="1976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18"/>
          <p:cNvPicPr/>
          <p:nvPr/>
        </p:nvPicPr>
        <p:blipFill>
          <a:blip r:embed="rId3"/>
          <a:stretch/>
        </p:blipFill>
        <p:spPr>
          <a:xfrm>
            <a:off x="5867280" y="3962520"/>
            <a:ext cx="2667240" cy="18669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DNA mutations, cancer cells cannot communicate with neighboring cells. Cells continue to grow and form tum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3429000" y="6019920"/>
            <a:ext cx="268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ancer cells dividing: click on picture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8" descr=""/>
          <p:cNvPicPr/>
          <p:nvPr/>
        </p:nvPicPr>
        <p:blipFill>
          <a:blip r:embed="rId1"/>
          <a:stretch/>
        </p:blipFill>
        <p:spPr>
          <a:xfrm>
            <a:off x="2390760" y="1795320"/>
            <a:ext cx="4362480" cy="3267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3946680" y="5141880"/>
            <a:ext cx="1616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352680" y="510552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i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Normal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DNA is replicated proper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start and stop the cell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communicate with each other  so they don’t become overcrow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Canc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Mutations occur in the DNA when it is replic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2. Chemical signals that start and stop the cell cycle are ign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Arial"/>
              </a:rPr>
              <a:t>3. Cells do not communicate with each other and tumor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3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304920" y="380880"/>
            <a:ext cx="845820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Treating Can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cer treatments include drugs that can stop cancer cells from divi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cycle"/>
          <p:cNvPicPr/>
          <p:nvPr/>
        </p:nvPicPr>
        <p:blipFill>
          <a:blip r:embed="rId1"/>
          <a:stretch/>
        </p:blipFill>
        <p:spPr>
          <a:xfrm>
            <a:off x="2743200" y="2743200"/>
            <a:ext cx="3809880" cy="37893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3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ges of 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cell"/>
          <p:cNvPicPr/>
          <p:nvPr/>
        </p:nvPicPr>
        <p:blipFill>
          <a:blip r:embed="rId1"/>
          <a:stretch/>
        </p:blipFill>
        <p:spPr>
          <a:xfrm>
            <a:off x="1676520" y="1600200"/>
            <a:ext cx="3467160" cy="31622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5325120" y="4952880"/>
            <a:ext cx="34725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Click on picture for cell cycle animation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go to www.cancerquest.or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Us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t-tab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keys to go between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power point presentat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Click on blank space to proceed to next slide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several factors that regulate the cell cycle and assure a cell divides correct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1.Before a cell divides, the DNA is checked   to make sure it has replicated correctly. (If DNA does not copy itself correctly, a gene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utation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 occu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5410080" y="2895480"/>
            <a:ext cx="3124440" cy="203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5775480" y="5751360"/>
            <a:ext cx="26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867280" y="60199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replication animation:click on DNA pi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hemical Signals tell a cell when to start and stop divid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1523880" y="2209680"/>
            <a:ext cx="2436840" cy="3443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505320" y="5791320"/>
            <a:ext cx="3047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arget cells animation: click on go sig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5194440" y="2286000"/>
            <a:ext cx="2317680" cy="327672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ighboring cells communicate with dividing cells to regulate their growth al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2346480" y="5943600"/>
            <a:ext cx="455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rmal contact inhibition animation: click on petri dis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2857320" cy="26859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anc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sease of the cell cyc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 Some of the body’s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cel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ivide uncontrolla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um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s in L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mor in Co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Liver_cancer_nodular_hodgkins_metast_liver_cancer"/>
          <p:cNvPicPr/>
          <p:nvPr/>
        </p:nvPicPr>
        <p:blipFill>
          <a:blip r:embed="rId1"/>
          <a:stretch/>
        </p:blipFill>
        <p:spPr>
          <a:xfrm>
            <a:off x="990720" y="3581280"/>
            <a:ext cx="3009960" cy="2657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9" descr="19222"/>
          <p:cNvPicPr/>
          <p:nvPr/>
        </p:nvPicPr>
        <p:blipFill>
          <a:blip r:embed="rId2"/>
          <a:stretch/>
        </p:blipFill>
        <p:spPr>
          <a:xfrm>
            <a:off x="4876920" y="3200400"/>
            <a:ext cx="3809880" cy="304812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mutations disrupt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43434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Mutations may be caused b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1. radi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2. smok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3. Pollut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4. chemicals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5. vir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Arial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dna-mutation"/>
          <p:cNvPicPr/>
          <p:nvPr/>
        </p:nvPicPr>
        <p:blipFill>
          <a:blip r:embed="rId1"/>
          <a:stretch/>
        </p:blipFill>
        <p:spPr>
          <a:xfrm>
            <a:off x="152280" y="2514600"/>
            <a:ext cx="4953240" cy="24336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normal cells will stop dividing if there is a mutation in the DNA, cancer cells will continue to divide with mu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norm_cancer"/>
          <p:cNvPicPr/>
          <p:nvPr/>
        </p:nvPicPr>
        <p:blipFill>
          <a:blip r:embed="rId1"/>
          <a:stretch/>
        </p:blipFill>
        <p:spPr>
          <a:xfrm>
            <a:off x="5410080" y="1752480"/>
            <a:ext cx="2552760" cy="1552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Understanding Cancer"/>
          <p:cNvPicPr/>
          <p:nvPr/>
        </p:nvPicPr>
        <p:blipFill>
          <a:blip r:embed="rId2"/>
          <a:stretch/>
        </p:blipFill>
        <p:spPr>
          <a:xfrm>
            <a:off x="1143000" y="1828800"/>
            <a:ext cx="2857680" cy="4276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getImage"/>
          <p:cNvPicPr/>
          <p:nvPr/>
        </p:nvPicPr>
        <p:blipFill>
          <a:blip r:embed="rId3"/>
          <a:stretch/>
        </p:blipFill>
        <p:spPr>
          <a:xfrm>
            <a:off x="4952880" y="3581280"/>
            <a:ext cx="3724560" cy="24289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e to DNA mutations, cancer cells ignore the chemical signals that start and stop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83280" y="5638680"/>
            <a:ext cx="439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 animations of cancer cells dividing: click on pict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038840" cy="2719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3:24:33Z</dcterms:created>
  <dc:creator>Tim Lally</dc:creator>
  <dc:description/>
  <dc:language>en-US</dc:language>
  <cp:lastModifiedBy>LEGION2</cp:lastModifiedBy>
  <dcterms:modified xsi:type="dcterms:W3CDTF">2016-01-14T11:27:30Z</dcterms:modified>
  <cp:revision>81</cp:revision>
  <dc:subject/>
  <dc:title>The Cell Cycle and Cancer</dc:title>
</cp:coreProperties>
</file>