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D6EB-8C79-4F62-BC88-78D477302C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2A4-8A0D-4A0C-8709-FD926E84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784-902C-47DA-B03E-13304E0C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BB6-DD5F-44F9-8A4D-639E76AF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808-5699-4799-BE1D-E577450E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78C-1205-400C-ADC6-AC82F4C5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530-E136-4CBF-A885-7794899C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5E2-BD34-4851-AEB6-B4FC6D84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3F1-521F-4680-BBAB-6824B4A3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019-C6D2-40DE-A6DA-0C46EA87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314-990F-4CDB-9715-21FAC900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F22-344A-4C67-9D52-62206F16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B8E-B956-4651-B579-E6EBDBD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B1FE-BFE1-4F1B-A839-0D087FA0B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LEGION2</dc:creator>
  <dc:description/>
  <dc:language>en-US</dc:language>
  <cp:lastModifiedBy>LEGION2</cp:lastModifiedBy>
  <dcterms:modified xsi:type="dcterms:W3CDTF">2016-01-14T12:04:34Z</dcterms:modified>
  <cp:revision>7</cp:revision>
  <dc:subject/>
  <dc:title>The components of the blood</dc:title>
</cp:coreProperties>
</file>