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38B0-6477-48B3-858B-C05F875F00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0A4-0C09-4173-8988-D15917CD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80F-1B5F-46D3-AA53-7D06B124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17D-F2DD-494B-B6BE-01C49C72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901-0592-4E69-BDF0-493B3C58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ECE3-1A73-4545-A6A9-F0591EBA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D138-D5A4-41A9-B8A5-154CBAD4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1B1A-A282-46A3-B20D-E95C1C7B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2479-8B89-4BF0-B13D-DAA60011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2018-5931-4EEB-9359-B8CDD0F8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453-77EC-4FF8-9A29-22AFFEB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E67-1DF8-40E8-8C40-862E00F6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E48-05E9-41E4-9CDD-287B7AED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9A89-C538-4C3C-B959-C169D2E8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1252-E319-480C-A5DC-F6194214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4BB9-CE5B-4DD8-9ACA-3D7FD831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0A1D-C214-4BCF-AAFF-0E86A3FA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7CB5-FD82-4F94-8D41-E11B565F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BD37-472B-494C-A85B-AF79A5A5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42B8-C962-482B-9A15-CCEBBF4A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39D93-39BB-4186-BCA1-D07D0F99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2DD2-E346-4A52-BA43-45051C87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50C8-0CFA-4257-B487-75B8A613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451-4C5E-4E75-8A30-A28C6546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A863-623C-472F-9933-2BC877BC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354A-DE7F-4A45-B5C2-35E2FBCA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D969-92FD-470A-A818-26BDC68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57C8-2CEF-48D8-AA23-C76B48BC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0D48-937E-4A7C-AD66-B76810A6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B8A8-26EA-4E3B-91EC-1485B55A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935F-C701-4573-B77C-27B777C1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EE7B-B436-4905-A23A-84959C9F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95CE-2EDB-41E4-8B7E-3E4272F5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3E7B-B7E9-4A6A-8A57-E2F518F4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626-DDB0-4404-9422-6D54DA1A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C5A11-F553-4C76-9360-EE82F092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7DBF-DA13-4CC6-A916-B4032830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B9A6-91D8-4ED3-978E-DC351F80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D5419-6E6B-4E72-A2A9-1EAECD45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2DC5-534A-4BAD-AEB0-BBCEC51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828F-BD76-4958-A51E-842019D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E7C5-4751-462C-97FF-16BE111B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C3BA-87FE-4F2F-8D7D-272285DB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513EB-2A4D-4CF6-AB49-2E868E98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4F116-7C59-4029-ACE7-68771C23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DC0-193D-4EF9-9394-324D372A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7FE2B-C04A-4087-BEE7-95CA8E07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E3DEF-324B-4639-8326-6A393E4D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F76A7-9B12-4C7A-9494-74A09ABE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0DA8-C2C8-483C-8325-3FF1C609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09FBC-9B62-4A74-948C-30841E55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680B-CA61-4231-B202-2F5A3B29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AC70-65EF-40A1-A313-451C045A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9114C-1576-47A3-ABA3-A33FDAF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D16B-0760-4D9A-A906-353BE49F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66891-C6CD-4039-94A4-05997221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703-FF20-4D55-BFBA-76094F92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1478-B8E2-4503-B532-2F9E4D3A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AD2F2-0CBD-4A09-812B-A77912E1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80650-4289-48AB-B31F-61BB3B4D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D849A-F6D4-4991-8045-2C5C0ACD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C7A2F-75D9-4C27-8799-F808A1CD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C80C7-02E6-4FC6-8ABE-E1410304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7AD7C-387A-4E14-B775-C27C6430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2D7BE-96F4-4D23-95CD-45B46DA1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5D32A-8EF6-41B2-ADF1-7C0311E2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887D9-08CF-45A9-96AE-3694C04E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81E-D5E2-44B7-B0BC-725DD9B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76436-1DF1-48C3-8E19-2FA2CAC6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6BBC-337F-47A8-8B8F-EB6AB0CC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92B70-0561-4727-BB0A-92167836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7EEB9-435F-4AB1-953C-E2488187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53D91-76B6-4A00-A45B-65CF7B35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48619-9E8B-422D-929E-994BB8CA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5BE2F-5397-4337-B836-2085EA39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1E46-E144-450F-B3F8-CDEC9E9A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8A074-3648-4EF1-BF48-105F8DF0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5F36C-F32C-41FE-98FC-B2B545A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AF2-7DAC-4F99-ADC8-D564D59D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572F4-9382-4BB1-9BE7-62C8B63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1B1B3-D415-4D20-9286-B5E5CB0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77770-A222-433F-852F-08453FE1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1D174-1557-4882-A661-54B43D5F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9133C-59CC-461E-98D0-4E68FC17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B23-ECF4-45BE-99E4-ACFA6CA8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A7BB-125C-4478-8F0F-0B8DDE6F459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1990-9D35-481A-AB79-196645E71264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F76B-5597-4022-A1B9-1D194733093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CB5-9EC1-49B3-95A1-2BB12D5A979A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C908-2F8D-4B26-8A97-7645E6A9A35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1A43-BC95-40A2-85C7-3C707D1A605C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CD61-ABF1-4B8A-874D-1CAA9D6A05A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C5F-D5F0-409E-96DC-864141B80AE7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FB63-0E4B-4542-B5C6-FFC921881B5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36C9-85B2-4011-8859-638BE044E13D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ED34-BD34-4DDA-841C-64DA64C8DAD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F76-26FE-4D16-A15A-A0554DCF205F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BEA-86F9-4071-80BD-A31859B4586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66E4-4FA9-4273-AA18-CA23A47B5645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28880" y="1785960"/>
            <a:ext cx="5286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572314"/>
                </a:solidFill>
                <a:latin typeface="Gill Sans MT"/>
              </a:rPr>
              <a:t>THE EYE</a:t>
            </a:r>
            <a:endParaRPr b="0" lang="en-US" sz="8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tinal Detachmen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600" y="1447560"/>
            <a:ext cx="363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an be caused by trauma – e.g. box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dden acceleration and deceleration – bungee jumping, car acci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2mosley.jpg"/>
          <p:cNvPicPr/>
          <p:nvPr/>
        </p:nvPicPr>
        <p:blipFill>
          <a:blip r:embed="rId1"/>
          <a:stretch/>
        </p:blipFill>
        <p:spPr>
          <a:xfrm>
            <a:off x="5286240" y="1357200"/>
            <a:ext cx="344664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Detached Re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Content Placeholder 3" descr="Retinal_Tear_02[1].png"/>
          <p:cNvPicPr/>
          <p:nvPr/>
        </p:nvPicPr>
        <p:blipFill>
          <a:blip r:embed="rId1"/>
          <a:stretch/>
        </p:blipFill>
        <p:spPr>
          <a:xfrm>
            <a:off x="3171960" y="1571760"/>
            <a:ext cx="4043160" cy="4357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vulsed Eye bal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ill it ever work agai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at will need to be intact for it to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halloween041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Anatomy of the 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3" descr="eye_anatomy.gif"/>
          <p:cNvPicPr/>
          <p:nvPr/>
        </p:nvPicPr>
        <p:blipFill>
          <a:blip r:embed="rId1"/>
          <a:stretch/>
        </p:blipFill>
        <p:spPr>
          <a:xfrm>
            <a:off x="2286000" y="1643040"/>
            <a:ext cx="5286240" cy="43578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mmon Disease of the Eye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James is a 22 yrs old martial arts athlete who sustained a kick to his right eye 6 months ago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sustained injury to his right cornea laceration due to the contact le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s seen by an opthalmologist and treated for several week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But he still has blurred vision in his right ey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t is best seen under slit lamp, after flourescin sta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29200" y="2285640"/>
            <a:ext cx="2743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Placeholder 4" descr="Corneal_laceration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6385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The corneal injury is visualised as a white patch on the corne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86280" y="228564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Flourescin Staining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Placeholder 4" descr="384470808_9a073d2be9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lourescin staining selectively stains damaged corneal tissu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urther 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n full thickness corneal laceration, aqueous humour may leak out resulting in distortion of the shape of the eyeba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nted to continue fighting, so further treatment with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Phototherapeutic keratectomy (PTK) or Corneal Transpla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Failure to do so, he may not be able to clear his Pre-participation examination with 'one good eye'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ta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s - clouding or opacification of the natural lens of the ey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 Vi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3" descr="cat_m.jpg"/>
          <p:cNvPicPr/>
          <p:nvPr/>
        </p:nvPicPr>
        <p:blipFill>
          <a:blip r:embed="rId1"/>
          <a:stretch/>
        </p:blipFill>
        <p:spPr>
          <a:xfrm>
            <a:off x="2714760" y="250020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How can cataracts be treated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997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he only treatment for cataracts is surgical remov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ataract surgery is the removal of the eye lens and replacing it with an artificial on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wo basic types of surgical procedures to treat catar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f the eye is otherwise healthy, an intraocular lens may be used to replace the natural, cloudy lens. This lens requires no c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00440" y="1066680"/>
            <a:ext cx="3429000" cy="564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Professor Fred Hollow’s </a:t>
            </a: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work to restore sight to the cataract blind in developing countries was ongoing 15 years after his death.</a:t>
            </a:r>
            <a:br>
              <a:rPr sz="2400"/>
            </a:b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Placeholder 4" descr="fredhollows_wideweb__470x318,2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RED HOLLOWS PERFORMING AN OCULAR EXAMINATION IN VIETNA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0:52:08Z</dcterms:created>
  <dc:creator>pracstudent</dc:creator>
  <dc:description/>
  <dc:language>en-US</dc:language>
  <cp:lastModifiedBy>LEGION2</cp:lastModifiedBy>
  <dcterms:modified xsi:type="dcterms:W3CDTF">2016-01-14T12:09:32Z</dcterms:modified>
  <cp:revision>13</cp:revision>
  <dc:subject/>
  <dc:title>THE EYE</dc:title>
</cp:coreProperties>
</file>