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05F5-C810-47B0-9C81-D508263D49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nal Detachm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caused by trauma – e.g. box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dden acceleration and deceleration – bungee jumping, car accid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nal Detach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aused by trauma – e.g. box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dden acceleration and deceleration – bungee jumping, car acc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ched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ached Re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ulsed Eye ba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it ever work aga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ill need to be intact for it to wor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ulsed Eye ba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it ever work ag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ill need to be intact for it to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tomy of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tomy of the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Disease of the Ey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eal Lac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is a 22 yrs old martial arts athlete who sustained a kick to his right eye 6 months ag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sustained injury to his right cornea laceration due to the contact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seen by an opthalmologist and treated for several wee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he still has blurred vision in his right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best seen under slit lamp, after flourescin st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Disease of the Ey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al Lac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is a 22 yrs old martial arts athlete who sustained a kick to his right eye 6 months a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ustained injury to his right cornea laceration due to the contact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seen by an opthalmologist and treated for several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he still has blurred vision in his right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best seen under slit lamp, after flourescin s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eal Lac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neal injury is visualised as a white patch on the corn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al Lac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neal injury is visualised as a white patch on the corn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urescin St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urescin staining selectively stains damaged corneal tiss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urescin S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urescin staining selectively stains damaged corneal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Treat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ull thickness corneal laceration, aqueous humour may leak out resulting in distortion of the shape of the eyeb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nted to continue fighting, so further treatment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therapeutic keratectomy (PTK) or Corneal Transpl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ilure to do so, he may not be able to clear his Pre-participation examination with 'one good eye'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full thickness corneal laceration, aqueous humour may leak out resulting in distortion of the shape of the eyeb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nted to continue fighting, so further treatment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therapeutic keratectomy (PTK) or Corneal Trans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lure to do so, he may not be able to clear his Pre-participation examination with 'one good eye'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s - clouding or opacification of the natural lens of the ey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 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racts - clouding or opacification of the natural lens of the ey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ract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cataracts be trea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nly treatment for cataracts is surgical remov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 surgery is the removal of the eye lens and replacing it with an artificial o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basic types of surgical procedures to treat catar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 Phacoemulsification - utilizes a small incision on the side of the cornea to access the cataract with a tiny probe. Ultrasound is then used to break up the lens for removal by suction. This is the most popular kind of cataract surge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) Extracapsular surgery  -This procedure requires a longer incision. The cloudy core is removed intact followed by removal of the remaining lens by su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eye is otherwise healthy, an intraocular lens may be used to replace the natural, cloudy lens. This lens requires no ca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-operative orders carefully. Not to bend over or lift heavy objects for a few days or weeks. A protective eye shield will reduce the chances of injury to the ey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cataracts be trea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treatment for cataracts is surgical remov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ract surgery is the removal of the eye lens and replacing it with an artificial 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basic types of surgical procedures to treat cata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Phacoemulsification - utilizes a small incision on the side of the cornea to access the cataract with a tiny probe. Ultrasound is then used to break up the lens for removal by suction. This is the most popular kind of cataract surge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Extracapsular surgery  -This procedure requires a longer incision. The cloudy core is removed intact followed by removal of the remaining lens by s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eye is otherwise healthy, an intraocular lens may be used to replace the natural, cloudy lens. This lens requires no ca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-operative orders carefully. Not to bend over or lift heavy objects for a few days or weeks. A protective eye shield will reduce the chances of injury to the ey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fessor Fred Hollow’s work to restore sight to the cataract blind in developing countries was ongoing 15 years after his deat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s are the cause of about half of all cases of avoidable blindness in developing countries and they can be removed with a relatively simple operation costing as little as $25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D HOLLOWS PERFORMING AN OCULAR EXAMINATION IN VIETN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essor Fred Hollow’s work to restore sight to the cataract blind in developing countries was ongoing 15 years after his deat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racts are the cause of about half of all cases of avoidable blindness in developing countries and they can be removed with a relatively simple operation costing as little as $25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D HOLLOWS PERFORMING AN OCULAR EXAMINATION IN VIETN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0C33-0C33-42B8-85AC-BFAE361A8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2BBE-90C8-4799-954D-E6C17C45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EC89-AC61-416C-9869-D8D5CF5A4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3CB0-76BC-4D0F-BB57-7E6BB6354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45AD-87DB-4C46-8C0F-A298EB402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E2E2-BF64-47FB-AC71-FD7E3AAE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D86D-3335-4C44-9F85-2B39B39A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0270-F82F-4609-A0C1-112B40BB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7EF5-56BA-4EF3-BDBB-477577DC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7696-EC62-49A2-80B7-94769CDF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68AB-760C-40F8-894A-3E61BA8C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37A1-1037-4AB8-8D9D-C7E97E6D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96F5-13FA-488E-BB11-CF920A95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A2B5-3AE6-45B9-8DBF-5ED307DC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4CD0-EB1A-4B47-917A-5C107637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26D6-9865-424A-9994-7D0FE968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4B9B-B0FE-4920-B02F-4D03EA1A3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1A9FB-30E5-48A9-952C-5D6E99EF5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DADD3-8342-4381-97E6-84917062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6226D-0049-4559-B8C4-F53BBF82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CAD50-8785-4A07-8756-9CB7CBFD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72ECB-D070-40D3-8063-0DD73313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4224-69A2-41E7-BD0F-36450571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E5553-A156-4AD5-9146-C3C1B8ED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4E3BC-E5F1-469C-B4FD-70B580DC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110FA-E732-4A5E-8F6B-432A2616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96D40-79FA-4C0F-90EA-52E9C2C1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031DF-79FE-4ABE-97FE-4BC31F88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E1735-D69F-4C4F-9504-4F9C4FCBC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5D666-B06E-4D36-A120-45639133F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27113-8EFF-4A91-AF96-C8A636952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07F5D-0270-4BD6-8EE8-EDBF0E5A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4ED33-251F-4CBD-A5CE-98B74BDC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A4BF-FADD-4B90-AE57-21BEFC4E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1762F-25F0-47AB-84AE-D22496E3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40D93-D1D4-432F-BEA5-B5E4F4B5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A07A9-331F-498D-A526-2F61D7B4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3A001-DD08-4EFA-B7D7-7C88C5A8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1588D-E36C-4643-A82D-5FCDD930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493B7-7A5C-4D77-B4E0-8676265E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3367F-03E0-4607-A4D4-F13F3326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15470-0B48-43B0-AA55-CD17E1089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D7933-6045-4A53-889B-D8C20DC74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C9D0C-CE39-409A-B5BF-C36D222A5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BB63-9B8C-48C0-A5D0-E9BD88E4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1E909-0BD6-4FD1-B58F-5DC5EB62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83E82-585F-4BBC-B8FA-98D4D877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555B4-9D83-425E-9991-A0F83BBB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B3A37-8E12-4FB6-82D9-CAC6BE07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0705A-61B6-4057-AD72-6238892E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90911-AB00-4186-8F68-B37F19EA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BF1B5-48AD-4B45-9B81-B0889C92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72336-792A-4C8B-9CE6-CD2D1CC2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86277-C01F-466D-A8CB-FC3229B3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365CB-FFAB-43D3-A028-B3EFF9B46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937B-E1AB-4E54-8C36-702C4700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8D3C1-09AD-4AAD-9B3F-3170D7A34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02435-CFCC-4AC5-A534-E0C650D97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D414C-4C31-4363-A5A0-168619C9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93D18-DA1B-413C-AC0D-36220573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ECE10-869E-4E5C-AC4F-AD41E7BF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8C4C9-390D-429C-B969-39B0E358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D5243-9CC0-4744-990F-D61FF833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98E90-54BD-4BBA-858E-0CB270EB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9A6CA-D927-406A-8590-1C316123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365A7-3310-4F18-B4C7-E172266D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3D78-43E4-4EE6-800E-4D9E9DF6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8BE9B-65BD-400F-A8A1-FB2055B8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01C35-2AA1-4A7A-8DB7-C9DAC4C55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FF932-CA0F-4DBE-B5AB-BC0E45925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5BCBE-BA42-4A47-B556-FEC336D2D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D8B70-B563-49AE-92B5-EB897290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38B89-75B9-40EB-A08A-066CC92E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F4C44-E210-48F4-B4FC-811277FD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D8687-5BF0-4299-8C42-7516F3B6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0481A-D601-45E2-AB11-8A0EEBC2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45F8B-F0B2-4E1F-83B9-3988328E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04F6-1146-45D2-88B4-8FCF804B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C1CCF-6EF9-4EDA-8320-01E7384D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CD6B7-850E-40D5-A850-66457876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79924-9B44-4E92-83D8-6D657E23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67772-3E17-4708-80A9-12B0F9476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C2489-9D49-4039-8968-289594216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52A5-827F-4A50-9EC5-001358B8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3F78-9D69-403F-88D0-2D470B1B142D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E01A-1D15-4FCE-B8FD-3CB1FDCDE888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E940-105A-43FE-A711-F47A6BF01E15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5320-FB00-4397-A0F5-DF17428771C5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37B6-72C7-46E5-B3A6-52CA1A535D91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4D64-DD1E-473C-9976-8F9057C42974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79F0-94B7-4A49-8F8F-7DE5353A081C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C8B1-AC41-451D-9EEA-3C9BD5F3BA1B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D347-15E1-444F-9547-2121D1AB6028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36BA-F01C-4C8B-953C-1E3FD9368407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A8F5-02B4-4E70-9907-E59B19644DD4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BCEA-C6E3-4F17-A54A-F6F2C8E4D397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6FF8-8B9D-42FF-AE82-B26DFF74727D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D5C7-0EEF-40DA-B476-246AE0C2E55A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28880" y="1785960"/>
            <a:ext cx="5286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600" spc="-1" strike="noStrike">
                <a:solidFill>
                  <a:srgbClr val="572314"/>
                </a:solidFill>
                <a:latin typeface="Gill Sans MT"/>
              </a:rPr>
              <a:t>THE EYE</a:t>
            </a:r>
            <a:endParaRPr b="0" lang="en-US" sz="8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Retinal Detachment</a:t>
            </a: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34600" y="1447560"/>
            <a:ext cx="363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Can be caused by trauma – e.g. box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Sudden acceleration and deceleration – bungee jumping, car accid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7" name="Picture 3" descr="2mosley.jpg"/>
          <p:cNvPicPr/>
          <p:nvPr/>
        </p:nvPicPr>
        <p:blipFill>
          <a:blip r:embed="rId1"/>
          <a:stretch/>
        </p:blipFill>
        <p:spPr>
          <a:xfrm>
            <a:off x="5286240" y="1357200"/>
            <a:ext cx="3446640" cy="457200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Detached Retin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60" name="Content Placeholder 3" descr="Retinal_Tear_02[1].png"/>
          <p:cNvPicPr/>
          <p:nvPr/>
        </p:nvPicPr>
        <p:blipFill>
          <a:blip r:embed="rId1"/>
          <a:stretch/>
        </p:blipFill>
        <p:spPr>
          <a:xfrm>
            <a:off x="3171960" y="1571760"/>
            <a:ext cx="4043160" cy="4357440"/>
          </a:xfrm>
          <a:prstGeom prst="rect">
            <a:avLst/>
          </a:prstGeom>
          <a:ln w="0">
            <a:noFill/>
          </a:ln>
        </p:spPr>
      </p:pic>
      <p:sp>
        <p:nvSpPr>
          <p:cNvPr id="361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Avulsed Eye ball</a:t>
            </a: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Will it ever work again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What will need to be intact for it to work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4" name="Picture 3" descr="halloween0411.jpg"/>
          <p:cNvPicPr/>
          <p:nvPr/>
        </p:nvPicPr>
        <p:blipFill>
          <a:blip r:embed="rId1"/>
          <a:stretch/>
        </p:blipFill>
        <p:spPr>
          <a:xfrm>
            <a:off x="2786040" y="3071880"/>
            <a:ext cx="4357800" cy="307188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Anatomy of the Ey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8" name="Content Placeholder 3" descr="eye_anatomy.gif"/>
          <p:cNvPicPr/>
          <p:nvPr/>
        </p:nvPicPr>
        <p:blipFill>
          <a:blip r:embed="rId1"/>
          <a:stretch/>
        </p:blipFill>
        <p:spPr>
          <a:xfrm>
            <a:off x="2286000" y="1643040"/>
            <a:ext cx="5286240" cy="4357800"/>
          </a:xfrm>
          <a:prstGeom prst="rect">
            <a:avLst/>
          </a:prstGeom>
          <a:ln w="0">
            <a:noFill/>
          </a:ln>
        </p:spPr>
      </p:pic>
      <p:sp>
        <p:nvSpPr>
          <p:cNvPr id="32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Common Disease of the Eye</a:t>
            </a:r>
            <a:br>
              <a:rPr sz="3900"/>
            </a:b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Corneal Laceration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James is a 22 yrs old martial arts athlete who sustained a kick to his right eye 6 months ago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He sustained injury to his right cornea laceration due to the contact len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He was seen by an opthalmologist and treated for several week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But he still has blurred vision in his right ey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It is best seen under slit lamp, after flourescin staining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29200" y="2285640"/>
            <a:ext cx="2743200" cy="5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572314"/>
                </a:solidFill>
                <a:latin typeface="Gill Sans MT"/>
              </a:rPr>
              <a:t>Corneal Laceration</a:t>
            </a:r>
            <a:endParaRPr b="0" lang="en-US" sz="21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4" name="Picture Placeholder 4" descr="Corneal_laceration.jpg"/>
          <p:cNvPicPr/>
          <p:nvPr/>
        </p:nvPicPr>
        <p:blipFill>
          <a:blip r:embed="rId1"/>
          <a:stretch/>
        </p:blipFill>
        <p:spPr>
          <a:xfrm>
            <a:off x="841320" y="1146240"/>
            <a:ext cx="4419720" cy="363852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7720" y="4800240"/>
            <a:ext cx="4419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777777"/>
                </a:solidFill>
                <a:latin typeface="Gill Sans MT"/>
              </a:rPr>
              <a:t>The corneal injury is visualised as a white patch on the corne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786280" y="2285640"/>
            <a:ext cx="27432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572314"/>
                </a:solidFill>
                <a:latin typeface="Gill Sans MT"/>
              </a:rPr>
              <a:t>Flourescin Staining</a:t>
            </a:r>
            <a:endParaRPr b="0" lang="en-US" sz="21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8" name="Picture Placeholder 4" descr="384470808_9a073d2be9.jpg"/>
          <p:cNvPicPr/>
          <p:nvPr/>
        </p:nvPicPr>
        <p:blipFill>
          <a:blip r:embed="rId1"/>
          <a:stretch/>
        </p:blipFill>
        <p:spPr>
          <a:xfrm>
            <a:off x="841320" y="1146240"/>
            <a:ext cx="4419720" cy="351144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7720" y="4800240"/>
            <a:ext cx="4419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777777"/>
                </a:solidFill>
                <a:latin typeface="Gill Sans MT"/>
              </a:rPr>
              <a:t>Flourescin staining selectively stains damaged corneal tissu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Further Treatmen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In full thickness corneal laceration, aqueous humour may leak out resulting in distortion of the shape of the eyeball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He wanted to continue fighting, so further treatment with </a:t>
            </a:r>
            <a:br>
              <a:rPr sz="3000"/>
            </a:b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Phototherapeutic keratectomy (PTK) or Corneal Transplant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Failure to do so, he may not be able to clear his Pre-participation examination with 'one good eye'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Catara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Cataracts - clouding or opacification of the natural lens of the eye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Cataract Vision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6" name="Picture 3" descr="cat_m.jpg"/>
          <p:cNvPicPr/>
          <p:nvPr/>
        </p:nvPicPr>
        <p:blipFill>
          <a:blip r:embed="rId1"/>
          <a:stretch/>
        </p:blipFill>
        <p:spPr>
          <a:xfrm>
            <a:off x="2714760" y="2500200"/>
            <a:ext cx="4572000" cy="3143520"/>
          </a:xfrm>
          <a:prstGeom prst="rect">
            <a:avLst/>
          </a:prstGeom>
          <a:ln w="0">
            <a:noFill/>
          </a:ln>
        </p:spPr>
      </p:pic>
      <p:sp>
        <p:nvSpPr>
          <p:cNvPr id="347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How can cataracts be treated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99760" y="128556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The only treatment for cataracts is surgical removal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Cataract surgery is the removal of the eye lens and replacing it with an artificial one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Two basic types of surgical procedures to treat catarac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(1) Phacoemulsification - utilizes a small incision on the side of the cornea to access the cataract with a tiny probe. Ultrasound is then used to break up the lens for removal by suction. This is the most popular kind of cataract surgery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(2) Extracapsular surgery  -This procedure requires a longer incision. The cloudy core is removed intact followed by removal of the remaining lens by suctio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If the eye is otherwise healthy, an intraocular lens may be used to replace the natural, cloudy lens. This lens requires no care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Post-operative orders carefully. Not to bend over or lift heavy objects for a few days or weeks. A protective eye shield will reduce the chances of injury to the eye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500440" y="1066680"/>
            <a:ext cx="3429000" cy="564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572314"/>
                </a:solidFill>
                <a:latin typeface="Gill Sans MT"/>
              </a:rPr>
              <a:t>Professor Fred Hollow’s </a:t>
            </a:r>
            <a:r>
              <a:rPr b="1" lang="en-AU" sz="2400" spc="-1" strike="noStrike">
                <a:solidFill>
                  <a:srgbClr val="572314"/>
                </a:solidFill>
                <a:latin typeface="Gill Sans MT"/>
              </a:rPr>
              <a:t>work to restore sight to the cataract blind in developing countries was ongoing 15 years after his death.</a:t>
            </a:r>
            <a:br>
              <a:rPr sz="2400"/>
            </a:br>
            <a:r>
              <a:rPr b="1" lang="en-AU" sz="2400" spc="-1" strike="noStrike">
                <a:solidFill>
                  <a:srgbClr val="572314"/>
                </a:solidFill>
                <a:latin typeface="Gill Sans MT"/>
              </a:rPr>
              <a:t>Cataracts are the cause of about half of all cases of avoidable blindness in developing countries and they can be removed with a relatively simple operation costing as little as $25.</a:t>
            </a: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2" name="Picture Placeholder 4" descr="fredhollows_wideweb__470x318,2.jpg"/>
          <p:cNvPicPr/>
          <p:nvPr/>
        </p:nvPicPr>
        <p:blipFill>
          <a:blip r:embed="rId1"/>
          <a:stretch/>
        </p:blipFill>
        <p:spPr>
          <a:xfrm>
            <a:off x="841320" y="1146240"/>
            <a:ext cx="4419720" cy="351144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7720" y="4800240"/>
            <a:ext cx="441972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777777"/>
                </a:solidFill>
                <a:latin typeface="Gill Sans MT"/>
              </a:rPr>
              <a:t>FRED HOLLOWS PERFORMING AN OCULAR EXAMINATION IN VIETNAM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20:52:08Z</dcterms:created>
  <dc:creator>pracstudent</dc:creator>
  <dc:description/>
  <dc:language>en-US</dc:language>
  <cp:lastModifiedBy>LEGION2</cp:lastModifiedBy>
  <dcterms:modified xsi:type="dcterms:W3CDTF">2016-01-14T12:09:32Z</dcterms:modified>
  <cp:revision>13</cp:revision>
  <dc:subject/>
  <dc:title>THE EYE</dc:title>
</cp:coreProperties>
</file>